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1842-9DA2-424B-9F56-AE22C1C9FD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F733-5FAC-449F-A459-C609A4FDB1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D876-D29A-4539-8AAE-CDBCF6D4D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03860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BD37-B5C0-481D-8D08-50C6B6F2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03860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63B7-180B-4F21-9727-8C092D2CA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03860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F4ED-998C-431A-BC20-70EDCE8C4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03860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65E1-9E5E-48FE-B65E-48CCA121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03860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AFE2-E360-421A-8E69-92CD3B92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03860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3FC0-4029-4DCB-8F39-E2AE66DE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03860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3BC1-1B16-4A85-84BA-979FC597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30AB-C3CA-4CCB-9DD1-6CD01017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3860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294F-2F01-4C44-8C98-E834ACD1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03860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5574-A67E-460F-B3DD-A976835F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3860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1B0C-6FBE-4472-AC84-802105BB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c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05228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October,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56720" y="63817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4" name="Picture 19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24000" y="6381720"/>
            <a:ext cx="8820000" cy="324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Апри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201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5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6480" y="31172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000000"/>
                </a:solidFill>
                <a:latin typeface="Times New Roman"/>
              </a:rPr>
              <a:t>Проект Единна входна точ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-17640" y="1341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Рискове при реализация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5840" y="2273400"/>
            <a:ext cx="914400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Възможности за несъответствия с европейското и национално законодателство по отношение на статистическата конфиденциално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Ограничено време за реализация, процедури по ЗО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Допълнително натоварване на експертите в НС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Недостиг на финансови ресурс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ставки за успешна реализация на ЕВ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79280" y="2636640"/>
            <a:ext cx="85694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 междуинституционално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ътрудничество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ологически – единно съдържание, дефиниции, концепции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дателн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 и сигурност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а обезпеченост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4" name="Picture 11" descr="connected%20balls"/>
          <p:cNvPicPr/>
          <p:nvPr/>
        </p:nvPicPr>
        <p:blipFill>
          <a:blip r:embed="rId1"/>
          <a:stretch/>
        </p:blipFill>
        <p:spPr>
          <a:xfrm>
            <a:off x="6516720" y="4348080"/>
            <a:ext cx="262728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Title 3" descr=""/>
          <p:cNvPicPr/>
          <p:nvPr/>
        </p:nvPicPr>
        <p:blipFill>
          <a:blip r:embed="rId1"/>
          <a:stretch/>
        </p:blipFill>
        <p:spPr>
          <a:xfrm>
            <a:off x="542880" y="2779560"/>
            <a:ext cx="830268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3143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извикателства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2276280"/>
            <a:ext cx="864216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астващо натоварване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изнеса, ограничени ресурс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 от повече, по-детайлизирана, по-качествена и навременна информация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 явления и процес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ължение на бизнеса да представя една и съща информация в две или повече държавни институци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2" name="Picture 14" descr="METALLIC-BALLS-_2D00_-CORELDRAW-_2D00_-REFLECTION-_2D00_-SHADOWS-_2D00_-COREL3D-_2D00_-2"/>
          <p:cNvPicPr/>
          <p:nvPr/>
        </p:nvPicPr>
        <p:blipFill>
          <a:blip r:embed="rId1"/>
          <a:stretch/>
        </p:blipFill>
        <p:spPr>
          <a:xfrm>
            <a:off x="6227640" y="1125360"/>
            <a:ext cx="2916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05228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ъзможни решения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остяване на законодателството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ползване на комбинирани източници на информац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но използване на вече събрана информац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яване на бързи и ефикасни начини за събиране на информацията – е-услуги (Единна входна точка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6"/>
          <p:cNvSpPr/>
          <p:nvPr/>
        </p:nvSpPr>
        <p:spPr>
          <a:xfrm>
            <a:off x="0" y="1459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Times New Roman"/>
              </a:rPr>
              <a:t>Единна входна точка между НСИ и НА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0" y="2492280"/>
            <a:ext cx="9144000" cy="35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</a:rPr>
              <a:t>Основни ц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Намаляване натоварването на респонденти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Комплексно използване на събраните дан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Осигуряване на консистентност на данни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ишава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чеството на събираната информ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обрява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временността на получаваните резулта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6"/>
          <p:cNvSpPr/>
          <p:nvPr/>
        </p:nvSpPr>
        <p:spPr>
          <a:xfrm>
            <a:off x="15840" y="15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Times New Roman"/>
              </a:rPr>
              <a:t>Единна входна точка между НСИ и НАП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0" y="242100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5160" indent="-342720"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о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2009 год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95160" indent="-342720"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итуции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НСИ и НАП, с възможност за включване на Агенция по вписвания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95160" indent="-342720"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ъдържание -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ишни отчети за дейността на предприятията със счетоводни и статистически дан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95160" indent="-342720"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хват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сички предприят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95160" indent="-342720"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 решение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ъз основа на изградената в НСИ Информационна система Бизнес статистика (ИСБ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95160" indent="-342720"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урност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line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връзка чрез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s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протокол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PN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идентификация чрез цифров сертификат, оптична мрежа на държавната администр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Text Box 3"/>
          <p:cNvGrpSpPr/>
          <p:nvPr/>
        </p:nvGrpSpPr>
        <p:grpSpPr>
          <a:xfrm>
            <a:off x="781200" y="1768320"/>
            <a:ext cx="2827080" cy="762120"/>
            <a:chOff x="781200" y="1768320"/>
            <a:chExt cx="2827080" cy="762120"/>
          </a:xfrm>
        </p:grpSpPr>
        <p:pic>
          <p:nvPicPr>
            <p:cNvPr id="70" name="Text Box 3" descr=""/>
            <p:cNvPicPr/>
            <p:nvPr/>
          </p:nvPicPr>
          <p:blipFill>
            <a:blip r:embed="rId1"/>
            <a:stretch/>
          </p:blipFill>
          <p:spPr>
            <a:xfrm>
              <a:off x="781200" y="1768320"/>
              <a:ext cx="28270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900000" y="1838160"/>
              <a:ext cx="25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400" spc="-1" strike="noStrike">
                  <a:solidFill>
                    <a:srgbClr val="000000"/>
                  </a:solidFill>
                  <a:latin typeface="Times New Roman"/>
                </a:rPr>
                <a:t>Преди</a:t>
              </a:r>
              <a:r>
                <a:rPr b="1" lang="bg-BG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bg-BG" sz="2400" spc="-1" strike="noStrike">
                  <a:solidFill>
                    <a:srgbClr val="000000"/>
                  </a:solidFill>
                  <a:latin typeface="Times New Roman"/>
                </a:rPr>
                <a:t>ЕВТ</a:t>
              </a:r>
              <a:r>
                <a:rPr b="1" lang="bg-BG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bg-BG" sz="2400" spc="-1" strike="noStrike">
                  <a:solidFill>
                    <a:srgbClr val="000000"/>
                  </a:solidFill>
                  <a:latin typeface="Times New Roman"/>
                </a:rPr>
                <a:t>(2007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Text Box 4"/>
          <p:cNvSpPr/>
          <p:nvPr/>
        </p:nvSpPr>
        <p:spPr>
          <a:xfrm>
            <a:off x="395280" y="3429000"/>
            <a:ext cx="1800360" cy="824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ТСБ на НСИ     на хартия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Off 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900000" y="2538360"/>
            <a:ext cx="2592360" cy="459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Годишни отче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0" y="122544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</a:rPr>
              <a:t>Представяне на ГОД преди и след реализирането на ЕВ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Text Box 9"/>
          <p:cNvGrpSpPr/>
          <p:nvPr/>
        </p:nvGrpSpPr>
        <p:grpSpPr>
          <a:xfrm>
            <a:off x="5407200" y="1779480"/>
            <a:ext cx="2798640" cy="762120"/>
            <a:chOff x="5407200" y="1779480"/>
            <a:chExt cx="2798640" cy="762120"/>
          </a:xfrm>
        </p:grpSpPr>
        <p:pic>
          <p:nvPicPr>
            <p:cNvPr id="76" name="Text Box 9" descr=""/>
            <p:cNvPicPr/>
            <p:nvPr/>
          </p:nvPicPr>
          <p:blipFill>
            <a:blip r:embed="rId2"/>
            <a:stretch/>
          </p:blipFill>
          <p:spPr>
            <a:xfrm>
              <a:off x="5407200" y="1779480"/>
              <a:ext cx="279864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473800" y="1849320"/>
              <a:ext cx="266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400" spc="-1" strike="noStrike">
                  <a:solidFill>
                    <a:srgbClr val="000000"/>
                  </a:solidFill>
                  <a:latin typeface="Times New Roman"/>
                </a:rPr>
                <a:t>След ЕВТ (2008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Text Box 10"/>
          <p:cNvSpPr/>
          <p:nvPr/>
        </p:nvSpPr>
        <p:spPr>
          <a:xfrm>
            <a:off x="5473800" y="2552760"/>
            <a:ext cx="2663640" cy="459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Годишни отче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Text Box 12"/>
          <p:cNvGrpSpPr/>
          <p:nvPr/>
        </p:nvGrpSpPr>
        <p:grpSpPr>
          <a:xfrm>
            <a:off x="4290840" y="5321160"/>
            <a:ext cx="2341800" cy="609840"/>
            <a:chOff x="4290840" y="5321160"/>
            <a:chExt cx="2341800" cy="609840"/>
          </a:xfrm>
        </p:grpSpPr>
        <p:pic>
          <p:nvPicPr>
            <p:cNvPr id="80" name="Text Box 12" descr=""/>
            <p:cNvPicPr/>
            <p:nvPr/>
          </p:nvPicPr>
          <p:blipFill>
            <a:blip r:embed="rId3"/>
            <a:stretch/>
          </p:blipFill>
          <p:spPr>
            <a:xfrm>
              <a:off x="4290840" y="5321160"/>
              <a:ext cx="234180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4356000" y="5373720"/>
              <a:ext cx="220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ata Warehou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Text Box 23"/>
          <p:cNvSpPr/>
          <p:nvPr/>
        </p:nvSpPr>
        <p:spPr>
          <a:xfrm>
            <a:off x="395280" y="4508640"/>
            <a:ext cx="180036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Декриптиран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7"/>
          <p:cNvSpPr/>
          <p:nvPr/>
        </p:nvSpPr>
        <p:spPr>
          <a:xfrm>
            <a:off x="210960" y="5118120"/>
            <a:ext cx="2200320" cy="642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Обединяване на файлове с данн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8"/>
          <p:cNvSpPr/>
          <p:nvPr/>
        </p:nvSpPr>
        <p:spPr>
          <a:xfrm>
            <a:off x="355680" y="6076800"/>
            <a:ext cx="190980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Обработ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33"/>
          <p:cNvSpPr/>
          <p:nvPr/>
        </p:nvSpPr>
        <p:spPr>
          <a:xfrm>
            <a:off x="1349280" y="3243240"/>
            <a:ext cx="197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40"/>
          <p:cNvSpPr/>
          <p:nvPr/>
        </p:nvSpPr>
        <p:spPr>
          <a:xfrm>
            <a:off x="1362240" y="49006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41"/>
          <p:cNvSpPr/>
          <p:nvPr/>
        </p:nvSpPr>
        <p:spPr>
          <a:xfrm>
            <a:off x="1363680" y="57690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9"/>
          <p:cNvSpPr/>
          <p:nvPr/>
        </p:nvSpPr>
        <p:spPr>
          <a:xfrm>
            <a:off x="5580000" y="5732640"/>
            <a:ext cx="0" cy="214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7"/>
          <p:cNvSpPr/>
          <p:nvPr/>
        </p:nvSpPr>
        <p:spPr>
          <a:xfrm>
            <a:off x="6943680" y="3429000"/>
            <a:ext cx="1952640" cy="119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Офиси на НАП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на харти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с ГД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68"/>
          <p:cNvSpPr/>
          <p:nvPr/>
        </p:nvSpPr>
        <p:spPr>
          <a:xfrm>
            <a:off x="5699160" y="3213000"/>
            <a:ext cx="22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37"/>
          <p:cNvGrpSpPr/>
          <p:nvPr/>
        </p:nvGrpSpPr>
        <p:grpSpPr>
          <a:xfrm>
            <a:off x="4356000" y="5950080"/>
            <a:ext cx="2357640" cy="660240"/>
            <a:chOff x="4356000" y="5950080"/>
            <a:chExt cx="2357640" cy="660240"/>
          </a:xfrm>
        </p:grpSpPr>
        <p:sp>
          <p:nvSpPr>
            <p:cNvPr id="92" name="Text Box 45"/>
            <p:cNvSpPr/>
            <p:nvPr/>
          </p:nvSpPr>
          <p:spPr>
            <a:xfrm>
              <a:off x="4356000" y="6240600"/>
              <a:ext cx="1008000" cy="368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bg-BG" sz="1800" spc="-1" strike="noStrike">
                  <a:solidFill>
                    <a:srgbClr val="000000"/>
                  </a:solidFill>
                  <a:latin typeface="Times New Roman"/>
                </a:rPr>
                <a:t>НС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50"/>
            <p:cNvSpPr/>
            <p:nvPr/>
          </p:nvSpPr>
          <p:spPr>
            <a:xfrm>
              <a:off x="5705640" y="6242040"/>
              <a:ext cx="1008000" cy="368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bg-BG" sz="1800" spc="-1" strike="noStrike">
                  <a:solidFill>
                    <a:srgbClr val="000000"/>
                  </a:solidFill>
                  <a:latin typeface="Times New Roman"/>
                </a:rPr>
                <a:t>НАП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84"/>
            <p:cNvSpPr/>
            <p:nvPr/>
          </p:nvSpPr>
          <p:spPr>
            <a:xfrm>
              <a:off x="4863960" y="5959440"/>
              <a:ext cx="136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86"/>
            <p:cNvSpPr/>
            <p:nvPr/>
          </p:nvSpPr>
          <p:spPr>
            <a:xfrm>
              <a:off x="6220080" y="595008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87"/>
            <p:cNvSpPr/>
            <p:nvPr/>
          </p:nvSpPr>
          <p:spPr>
            <a:xfrm>
              <a:off x="4873320" y="59720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Line 89"/>
          <p:cNvSpPr/>
          <p:nvPr/>
        </p:nvSpPr>
        <p:spPr>
          <a:xfrm>
            <a:off x="5708520" y="322416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90"/>
          <p:cNvSpPr/>
          <p:nvPr/>
        </p:nvSpPr>
        <p:spPr>
          <a:xfrm>
            <a:off x="7918560" y="322596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91"/>
          <p:cNvSpPr/>
          <p:nvPr/>
        </p:nvSpPr>
        <p:spPr>
          <a:xfrm>
            <a:off x="6816600" y="30304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92"/>
          <p:cNvSpPr/>
          <p:nvPr/>
        </p:nvSpPr>
        <p:spPr>
          <a:xfrm>
            <a:off x="6824520" y="233352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94"/>
          <p:cNvSpPr/>
          <p:nvPr/>
        </p:nvSpPr>
        <p:spPr>
          <a:xfrm flipH="1">
            <a:off x="6659280" y="4724280"/>
            <a:ext cx="282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99"/>
          <p:cNvSpPr/>
          <p:nvPr/>
        </p:nvSpPr>
        <p:spPr>
          <a:xfrm>
            <a:off x="1362240" y="42940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00"/>
          <p:cNvSpPr/>
          <p:nvPr/>
        </p:nvSpPr>
        <p:spPr>
          <a:xfrm>
            <a:off x="1365120" y="3236760"/>
            <a:ext cx="0" cy="217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01"/>
          <p:cNvSpPr/>
          <p:nvPr/>
        </p:nvSpPr>
        <p:spPr>
          <a:xfrm>
            <a:off x="3319560" y="32320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02"/>
          <p:cNvSpPr/>
          <p:nvPr/>
        </p:nvSpPr>
        <p:spPr>
          <a:xfrm>
            <a:off x="2317680" y="3016080"/>
            <a:ext cx="0" cy="217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07"/>
          <p:cNvSpPr/>
          <p:nvPr/>
        </p:nvSpPr>
        <p:spPr>
          <a:xfrm>
            <a:off x="2314440" y="232092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3"/>
          <p:cNvSpPr/>
          <p:nvPr/>
        </p:nvSpPr>
        <p:spPr>
          <a:xfrm>
            <a:off x="2411280" y="3429000"/>
            <a:ext cx="1800360" cy="936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Офис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на НАП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на харт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3"/>
          <p:cNvSpPr/>
          <p:nvPr/>
        </p:nvSpPr>
        <p:spPr>
          <a:xfrm>
            <a:off x="4762440" y="3429000"/>
            <a:ext cx="1882800" cy="1728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НС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ИСБС –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on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3"/>
          <p:cNvSpPr/>
          <p:nvPr/>
        </p:nvSpPr>
        <p:spPr>
          <a:xfrm>
            <a:off x="6961320" y="4579200"/>
            <a:ext cx="1968480" cy="642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ТСБ на НСИ    на харт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88"/>
          <p:cNvSpPr/>
          <p:nvPr/>
        </p:nvSpPr>
        <p:spPr>
          <a:xfrm>
            <a:off x="5651640" y="51577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47"/>
          <p:cNvSpPr/>
          <p:nvPr/>
        </p:nvSpPr>
        <p:spPr>
          <a:xfrm>
            <a:off x="7956720" y="4292640"/>
            <a:ext cx="0" cy="284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Elbow Connector 4"/>
          <p:cNvCxnSpPr/>
          <p:nvPr/>
        </p:nvCxnSpPr>
        <p:spPr>
          <a:xfrm>
            <a:off x="6562800" y="5600880"/>
            <a:ext cx="746640" cy="457920"/>
          </a:xfrm>
          <a:prstGeom prst="bentConnector3">
            <a:avLst>
              <a:gd name="adj1" fmla="val 49975"/>
            </a:avLst>
          </a:prstGeom>
          <a:ln w="9360">
            <a:solidFill>
              <a:srgbClr val="065093"/>
            </a:solidFill>
            <a:prstDash val="dash"/>
            <a:miter/>
            <a:tailEnd len="med" type="arrow" w="med"/>
          </a:ln>
        </p:spPr>
      </p:cxnSp>
      <p:sp>
        <p:nvSpPr>
          <p:cNvPr id="113" name="Rounded Rectangle 7"/>
          <p:cNvSpPr/>
          <p:nvPr/>
        </p:nvSpPr>
        <p:spPr>
          <a:xfrm>
            <a:off x="7329600" y="5810400"/>
            <a:ext cx="1619280" cy="6267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onstantia"/>
              </a:rPr>
              <a:t>Агенция по Вписвания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4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4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-17640" y="1341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Предимства на Единната входна точка</a:t>
            </a: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5840" y="2273400"/>
            <a:ext cx="914400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273240"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тява време и средства на бизне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ИСБС работи в режим 24/7 в законоустановения период за представяне на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Респондентите имат достъп до отчетите си по всяко врем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включително и за предходни години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only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Консистентност и комплексно използване на събраните дан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Повишено качество на информацията - автоматичен логически и аритметичен контрол на входните данни (над 6000 контрол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ъкратени срокове за обработка на данните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и публикуване на резултатит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о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+11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+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15840" y="1197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Присъединяване на Агенция по вписванията към Единната входна точ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0480" y="2492280"/>
            <a:ext cx="914400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Междуведомствена работна група – създадена със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повед № Р-44/18.02.2015 г. на министър председателя на РБългар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Участници – представители на МС, АВп, МФ, НАП, НС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Задачи – проект за нормативни изменения, Техническо задание за присъединяване на АВп към изградената Единна входна точка между НСИ и НА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Срок за изпълнение – 16 Март 2015 год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15840" y="1197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Междуведомствена работна груп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5840" y="2060640"/>
            <a:ext cx="9144000" cy="40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Times New Roman"/>
              </a:rPr>
              <a:t>Организация на работата – три тематични подгрупи – юристи, методолози, ИТ експерти; привлечени експерт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2732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Times New Roman"/>
              </a:rPr>
              <a:t>Резултат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ект за нормативни изменения – само в Закона за статистикат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ехническо задание за присъединяване на Агенция по вписванията към Единна входна точка (ЕВТ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едварителна финансова оценка – 1.040 млн. лв. без ДДС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bg-BG" sz="2600" spc="-1" strike="noStrike">
                <a:solidFill>
                  <a:srgbClr val="000000"/>
                </a:solidFill>
                <a:latin typeface="Times New Roman"/>
              </a:rPr>
              <a:t>(вкл. разработка, хардуер, лицензи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8T06:53:49Z</dcterms:created>
  <dc:creator>Radostina Iordanova Lipeva</dc:creator>
  <dc:description/>
  <dc:language>en-US</dc:language>
  <cp:lastModifiedBy>Radostina Iordanova Lipeva</cp:lastModifiedBy>
  <cp:lastPrinted>2015-03-30T15:14:19Z</cp:lastPrinted>
  <dcterms:modified xsi:type="dcterms:W3CDTF">2015-04-24T11:35:03Z</dcterms:modified>
  <cp:revision>255</cp:revision>
  <dc:subject/>
  <dc:title>Reducing respondents burden</dc:title>
</cp:coreProperties>
</file>