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426-43B3-4FE2-A925-1BAAF9B99B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05F-472B-4377-A6C8-8C6CE35BE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9C8D-653D-4FC8-9008-99462CCC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F7DE-55B1-45C2-9662-3AF0AF50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FDAB-F92D-40AE-8BA0-DED42BE85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892D-4E00-4F37-9919-25F61B45D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1CF2-AAF3-445C-8CEC-59FA08CB3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B8C4-D06C-435A-BC90-25F84924A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3F30-24E9-4ADB-937F-6E80D9DF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C604-5A18-47CD-A7AE-918014AE0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F509-F4AA-4ACC-993F-D3DF60C1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C2A7-7182-480A-88CF-F878A7B4A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B79F-D448-4D71-B286-FC4CB8866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F37F-71D9-461C-8E3C-4D3CBCECD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D473704A-633D-4D29-8884-198FB66C16D5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ieta_popova@abv.bg" TargetMode="External"/><Relationship Id="rId3" Type="http://schemas.openxmlformats.org/officeDocument/2006/relationships/hyperlink" Target="mailto:Marieta_popova@abv.bg" TargetMode="External"/><Relationship Id="rId4" Type="http://schemas.openxmlformats.org/officeDocument/2006/relationships/hyperlink" Target="mailto:Marieta_popova@abv.bg" TargetMode="External"/><Relationship Id="rId5" Type="http://schemas.openxmlformats.org/officeDocument/2006/relationships/hyperlink" Target="mailto:Galia@lml.bas.bg" TargetMode="External"/><Relationship Id="rId6" Type="http://schemas.openxmlformats.org/officeDocument/2006/relationships/hyperlink" Target="mailto:Galia@lml.bas.bg" TargetMode="External"/><Relationship Id="rId7" Type="http://schemas.openxmlformats.org/officeDocument/2006/relationships/hyperlink" Target="mailto:Galia@lml.bas.bg" TargetMode="External"/><Relationship Id="rId8" Type="http://schemas.openxmlformats.org/officeDocument/2006/relationships/hyperlink" Target="mailto:Galia@lml.bas.bg" TargetMode="External"/><Relationship Id="rId9" Type="http://schemas.openxmlformats.org/officeDocument/2006/relationships/hyperlink" Target="mailto:Galia@lml.bas.bg" TargetMode="External"/><Relationship Id="rId10" Type="http://schemas.openxmlformats.org/officeDocument/2006/relationships/hyperlink" Target="mailto:dany@manuf.ru.acad.bg" TargetMode="External"/><Relationship Id="rId11" Type="http://schemas.openxmlformats.org/officeDocument/2006/relationships/hyperlink" Target="mailto:dany@manuf.ru.acad.bg" TargetMode="External"/><Relationship Id="rId12" Type="http://schemas.openxmlformats.org/officeDocument/2006/relationships/hyperlink" Target="mailto:dany@manuf.ru.acad.bg" TargetMode="External"/><Relationship Id="rId13" Type="http://schemas.openxmlformats.org/officeDocument/2006/relationships/hyperlink" Target="mailto:dany@manuf.ru.acad.bg" TargetMode="External"/><Relationship Id="rId14" Type="http://schemas.openxmlformats.org/officeDocument/2006/relationships/hyperlink" Target="mailto:dany@manuf.ru.acad.bg" TargetMode="External"/><Relationship Id="rId15" Type="http://schemas.openxmlformats.org/officeDocument/2006/relationships/hyperlink" Target="mailto:dany@manuf.ru.acad.bg" TargetMode="External"/><Relationship Id="rId16" Type="http://schemas.openxmlformats.org/officeDocument/2006/relationships/hyperlink" Target="mailto:dany@manuf.ru.acad.bg" TargetMode="External"/><Relationship Id="rId17" Type="http://schemas.openxmlformats.org/officeDocument/2006/relationships/hyperlink" Target="mailto:dany@manuf.ru.acad.bg" TargetMode="External"/><Relationship Id="rId18" Type="http://schemas.openxmlformats.org/officeDocument/2006/relationships/hyperlink" Target="mailto:ste@bultima.net" TargetMode="External"/><Relationship Id="rId19" Type="http://schemas.openxmlformats.org/officeDocument/2006/relationships/hyperlink" Target="mailto:ste@bultima.net" TargetMode="External"/><Relationship Id="rId20" Type="http://schemas.openxmlformats.org/officeDocument/2006/relationships/hyperlink" Target="mailto:ste@bultima.net" TargetMode="External"/><Relationship Id="rId21" Type="http://schemas.openxmlformats.org/officeDocument/2006/relationships/hyperlink" Target="mailto:ste@bultima.net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dis.europa.eu/fp7/ict/" TargetMode="External"/><Relationship Id="rId3" Type="http://schemas.openxmlformats.org/officeDocument/2006/relationships/hyperlink" Target="http://cordis.europa.eu/fp7/ict/" TargetMode="External"/><Relationship Id="rId4" Type="http://schemas.openxmlformats.org/officeDocument/2006/relationships/hyperlink" Target="http://cordis.europa.eu/fp7/ict/" TargetMode="External"/><Relationship Id="rId5" Type="http://schemas.openxmlformats.org/officeDocument/2006/relationships/hyperlink" Target="http://cordis.europa.eu/fp7/ict/" TargetMode="External"/><Relationship Id="rId6" Type="http://schemas.openxmlformats.org/officeDocument/2006/relationships/hyperlink" Target="http://cordis.europa.eu/fp7/ict/" TargetMode="External"/><Relationship Id="rId7" Type="http://schemas.openxmlformats.org/officeDocument/2006/relationships/hyperlink" Target="http://cordis.europa.eu/fp7/ict/" TargetMode="External"/><Relationship Id="rId8" Type="http://schemas.openxmlformats.org/officeDocument/2006/relationships/hyperlink" Target="http://cordis.europa.eu/fp7/ict/" TargetMode="External"/><Relationship Id="rId9" Type="http://schemas.openxmlformats.org/officeDocument/2006/relationships/hyperlink" Target="http://cordis.europa.eu/fp7/ict/" TargetMode="External"/><Relationship Id="rId10" Type="http://schemas.openxmlformats.org/officeDocument/2006/relationships/hyperlink" Target="http://cordis.europa.eu/fp7/ict/" TargetMode="External"/><Relationship Id="rId11" Type="http://schemas.openxmlformats.org/officeDocument/2006/relationships/hyperlink" Target="http://cordis.europa.eu/fp7/ict/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dis.europa.eu/fp7/ic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312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Работна програма 2009-10</a:t>
            </a:r>
            <a:br>
              <a:rPr sz="2800"/>
            </a:br>
            <a:br>
              <a:rPr sz="2800"/>
            </a:b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Преглед на тематиката от шести конкур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631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3860640"/>
            <a:ext cx="66978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Тотка Черна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рограмен координ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МТИ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ационален информационен д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оември 200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49360"/>
            <a:ext cx="7280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Тема ИКТ от Седма рамкова прогр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D10E-6EFA-4D68-8837-38DE9B304D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0033"/>
                </a:solidFill>
                <a:latin typeface="Verdana"/>
              </a:rPr>
              <a:t>Национални контактни лица по тема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400" spc="-1" strike="noStrike">
                <a:solidFill>
                  <a:srgbClr val="990033"/>
                </a:solidFill>
                <a:latin typeface="Verdana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469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Мариета Иванова Попова  </a:t>
            </a: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886847414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2 8658461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Marieta_popova@abv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bg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Координационен съвет за информационно общ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Галя Младенова Ангелова </a:t>
            </a:r>
            <a:br>
              <a:rPr sz="18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2 979 66 07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2 70 72 73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Galia@lml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bas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bg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Институт по паралелна обработка на информация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Даниел Михайлов Братанов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82 888717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82845708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dany@manuf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ru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acad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bg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Русенски университет „Ангел Кънчев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Стефан Дражев</a:t>
            </a:r>
            <a:br>
              <a:rPr sz="18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52 660480 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Факс: 52 610133 </a:t>
            </a:r>
            <a:br>
              <a:rPr sz="1400"/>
            </a:b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ste@bultima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.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net</a:t>
            </a:r>
            <a:r>
              <a:rPr b="0" lang="bg-BG" sz="1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Благодаря за вниманието!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F6FF-6C78-48CC-B0AC-9C45478D2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Verdana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Verdana"/>
              </a:rPr>
              <a:t>Въпроси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B5E5-5543-47D8-AADC-3C464C655A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34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990033"/>
                </a:solidFill>
                <a:latin typeface="Verdana"/>
              </a:rPr>
              <a:t>Структура на работната програ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152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Включва определен брой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 “</a:t>
            </a: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предизвикателства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целящи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реодоляване на технологичните прегради пред европейската индустрия и затвърждаване на нейните предимст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създаване на нови технологични възможности и нови начини за използване на ИКТ за постигане на социално-икономическите це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Предизвикателството е описано посредством </a:t>
            </a: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определен брой стратегически цели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, които представляват основата на конкурсите за предложения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333399"/>
                </a:solidFill>
                <a:uFillTx/>
                <a:latin typeface="Verdana"/>
              </a:rPr>
              <a:t>Всяка цел</a:t>
            </a:r>
            <a:r>
              <a:rPr b="0" lang="bg-BG" sz="1800" spc="-1" strike="noStrike">
                <a:solidFill>
                  <a:srgbClr val="333399"/>
                </a:solidFill>
                <a:latin typeface="Verdana"/>
              </a:rPr>
              <a:t> е описана посредств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резултата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, който се очакв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чрез неговите характерист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очакваното въздействие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икономически и/или  социален ефект, технологично развитие и п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финансовата схема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– типовете проекти, които ще се финанси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Verdana"/>
              </a:rPr>
              <a:t>Индикативния бюджет –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за съответната це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6C13-AFAF-4FBD-BF88-10A81614B6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6200000">
            <a:off x="7198920" y="3970440"/>
            <a:ext cx="2894040" cy="1067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Бъдещи и нововъзникващи техн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3360" y="3054240"/>
            <a:ext cx="561960" cy="2907000"/>
          </a:xfrm>
          <a:custGeom>
            <a:avLst/>
            <a:gdLst>
              <a:gd name="textAreaLeft" fmla="*/ -360 w 561960"/>
              <a:gd name="textAreaRight" fmla="*/ 561960 w 561960"/>
              <a:gd name="textAreaTop" fmla="*/ 0 h 2907000"/>
              <a:gd name="textAreaBottom" fmla="*/ 2907360 h 290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309200"/>
            <a:ext cx="723888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гнитивни систем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оботик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7320" y="3319560"/>
            <a:ext cx="721368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раструкту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мреж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320" y="5246640"/>
            <a:ext cx="7239240" cy="5806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поненти, систем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женер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71640" y="1109520"/>
            <a:ext cx="5342040" cy="5021280"/>
            <a:chOff x="2771640" y="1109520"/>
            <a:chExt cx="5342040" cy="5021280"/>
          </a:xfrm>
        </p:grpSpPr>
        <p:sp>
          <p:nvSpPr>
            <p:cNvPr id="60" name=""/>
            <p:cNvSpPr/>
            <p:nvPr/>
          </p:nvSpPr>
          <p:spPr>
            <a:xfrm>
              <a:off x="2908440" y="1703160"/>
              <a:ext cx="123804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Цифрови библиотеки и съдърж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02280" y="1703160"/>
              <a:ext cx="108576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здрав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2280" y="1703160"/>
              <a:ext cx="126504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мобилност и устойчив расте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91400" y="1703160"/>
              <a:ext cx="1322280" cy="4427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1372"/>
                  </a:srgbClr>
                </a:gs>
                <a:gs pos="100000">
                  <a:srgbClr val="566768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ИКТ за независим живот и приобщаван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178240" y="-1297080"/>
              <a:ext cx="528480" cy="534204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5342040"/>
                <a:gd name="textAreaBottom" fmla="*/ 5342400 h 534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75400" y="1242720"/>
              <a:ext cx="36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Социалн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икономически це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6200000">
            <a:off x="-879840" y="4251600"/>
            <a:ext cx="26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Технологични преград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4320" y="272880"/>
            <a:ext cx="8766000" cy="555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dfd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РП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 200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9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-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10</a:t>
            </a:r>
            <a:r>
              <a:rPr b="1" lang="en-GB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Предизвикател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F6A9-1123-465A-BB1A-F83819FAC7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990033"/>
                </a:solidFill>
                <a:latin typeface="Verdana"/>
              </a:rPr>
              <a:t>Съдържание на конкурс 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42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Verdana"/>
              </a:rPr>
              <a:t>Конкурс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ндикативен бюджет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86,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млн. евр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Включва стратегически цели от предизвикателст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2: Когнитивни системи и робо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: Цифрови библиотеки и  съдърж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5:  Устойчиво и персонализирано здравеопазва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6: ИКТ за мобилност, устойчива околна среда и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990033"/>
                </a:solidFill>
                <a:latin typeface="Verdana"/>
              </a:rPr>
              <a:t>и от “Бъдещи и нововъзникващи технологии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явяване: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оемвр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Затваряне: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13 април 2010 г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://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cordis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europa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.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fp7/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ict</a:t>
            </a:r>
            <a:r>
              <a:rPr b="0" lang="bg-BG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E498-7FB4-4794-AA5D-22EEE40CA5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Финансови схеми (инструмент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Съвместни проекти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llaborative projects):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научно-изследователски проекти, насочени към създаване  на нови знания, нови технологии, продукти и демонстрационни дейности. Делят се на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REP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(насочени проекти) 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(интегрирани проект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Мрежи за върхова компетентност</a:t>
            </a:r>
            <a:r>
              <a:rPr b="0" lang="bg-BG" sz="16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Networks of excellence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E):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проекти за развитие на дадена научна област чрез интегрирани дейности между партньорите и ефективно използване на ресурсите, за укрепване на лидерските позиции на Европа в определени обла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Координиращи и подкрепящи действ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Coordination and support actions – CSA)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: проекти, насочени към координирането на дейности по съществуващи проекти или дейности, подкрепящи последващото участие в програма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Verdana"/>
              </a:rPr>
              <a:t>Съвместни проекти за специфични съвместни дейности с партньорски страни по линия на международното сътрудничество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llaborative projects for specific cooperation actions dedicated to international cooperation partner countries - SIC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FC45-1FC2-4690-B461-E88D5B7716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Минимален брой участниц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1516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Съвместни проекти, Мрежи за върхова компетентност, Координиращи дейно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й-малко 3 независими юридически лица от различни страни-членки на ЕС или асоциирани стра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Съвместни проекти за специфични съвместни дейности с партньорски страни по линия на международното сътрудничество: 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й-малко 4 независими юридически лица, от които 2 от страна-членка или асоциирана страна и 2 от различни партньорски стра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Verdana"/>
              </a:rPr>
              <a:t>Подкрепящи дейности: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 поне 1 юридическо лиц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гат да участват Съвместните научноизследователски центрове, европейски финансови институции, международни орган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оже да има специфични изисквания, записани изрично в Р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0B8A-21E3-479D-9731-358E694C0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990033"/>
                </a:solidFill>
                <a:latin typeface="Verdana"/>
              </a:rPr>
              <a:t>Максимално финансира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18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учноизследователски дейност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т допустимите разходи освен 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Публични организаци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Средни и висши училища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Научноизследователски организаци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75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Verdana"/>
              </a:rPr>
              <a:t>МСП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: – 7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емонстрационни дейност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: 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50%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Други дейности вкл. управлен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: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ерспективни научни изследван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оординиращи и подкрепящи действия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Обучение и кариерно развитие на учените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– 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195F-E57B-40FA-A761-B422C9184E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90033"/>
                </a:solidFill>
                <a:latin typeface="Verdana"/>
              </a:rPr>
              <a:t>Крит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4901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Verdana"/>
              </a:rPr>
              <a:t>За допустимос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Минимален брой участниц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ъответствие с целите на кон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ълнота на предложение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Спазване на срока за подава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Verdana"/>
              </a:rPr>
              <a:t>За оцен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учни и</a:t>
            </a:r>
            <a:r>
              <a:rPr b="0" lang="bg-BG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технологични качества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scientific and technical excelle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ачество и ефикасност на управлението и изпълнениет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на проект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implement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отенциално въздействие от развитие, разпространение и използване на резултати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impa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A8D6-B8C1-43F7-8147-C7C91FB8E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get started? CORDIS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cordis.europa.eu/fp7/ict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352080" y="8967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1657440"/>
            <a:ext cx="4103280" cy="3593520"/>
            <a:chOff x="250920" y="1657440"/>
            <a:chExt cx="4103280" cy="3593520"/>
          </a:xfrm>
        </p:grpSpPr>
        <p:sp>
          <p:nvSpPr>
            <p:cNvPr id="81" name=""/>
            <p:cNvSpPr/>
            <p:nvPr/>
          </p:nvSpPr>
          <p:spPr>
            <a:xfrm>
              <a:off x="3640320" y="468648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0920" y="468648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0320" y="4989600"/>
              <a:ext cx="712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4989600"/>
              <a:ext cx="3389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40320" y="317196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0920" y="317196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0320" y="347472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920" y="347472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40320" y="37778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37778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40320" y="408060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08060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0320" y="438372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438372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0320" y="2262960"/>
              <a:ext cx="712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2262960"/>
              <a:ext cx="338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0320" y="256608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256608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0320" y="28688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920" y="28688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0320" y="196020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196020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0320" y="1657440"/>
              <a:ext cx="712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1657440"/>
              <a:ext cx="3389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1657440"/>
              <a:ext cx="41018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20" y="5249880"/>
              <a:ext cx="41018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920" y="1657440"/>
              <a:ext cx="1080" cy="3592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2760" y="1657440"/>
              <a:ext cx="1440" cy="3592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7561440" cy="446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tchernaeva</cp:lastModifiedBy>
  <dcterms:modified xsi:type="dcterms:W3CDTF">2009-11-24T12:38:08Z</dcterms:modified>
  <cp:revision>289</cp:revision>
  <dc:subject/>
  <dc:title>FP7 ICT WP 2009-10 Update</dc:title>
</cp:coreProperties>
</file>