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C61-5A7C-4EA6-BE4F-C79D0F3FB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FFD-3446-4A83-B901-52C835F38E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41920" y="9428040"/>
            <a:ext cx="2939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2AB78-2A75-4420-BE2D-5F85245FAA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7640" y="747720"/>
            <a:ext cx="4949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12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8223-34C8-4B96-8A2A-50001DC8D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42BB-3D94-4D64-8D27-731063FBC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832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FE3F-0547-4F06-809C-17B568D76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08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08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672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629C-52B0-462C-A4C2-A1C3657A4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E2AB-4F22-4532-B7F7-95DC662B6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9D13-0D5C-4012-8A83-19F95D100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AB0F-5DBB-4AEF-8D42-CEF698D98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73FE-0914-403F-BB64-C75E673F3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486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3118-D15D-4707-BEB6-56FF2CC16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40AC-1926-48CF-B809-A4EE36643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832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931B-0D3E-42E4-A433-B20D0777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8029-D55C-439C-B54F-EAF28B365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7280" y="6524280"/>
            <a:ext cx="1143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6B596A33-3D2C-45BF-A91F-D704487B2779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6461280"/>
            <a:ext cx="470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8920" y="6308640"/>
            <a:ext cx="20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Objective 4.1 Call 6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cordis.europa.eu/fp7/ict/telearn-digicult/digicult-projects_en.html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7738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редизвикателство 4. Цифрови библиотеки и съдържание в Шести конкурс от Тема ИКТ на Седма Рамкова програм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Тотка Чернае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МТИТ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рограмен координат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Национален информационен д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ноември 2009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) Interdisciplinary research networks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нтердисциплинарни изследователски мрежи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инансира се създаването на интердисциплинарни изследователски мрежи, включващи учени от различни технологични области ( напр. компютърно моделиране, представяне и визуализация на знание, обработка и архивиране на информация, социални и когнитивни науки), които работейки съвместно, да осигурят съществен научен напредък в една определена приложна област, напр. </a:t>
            </a:r>
            <a:r>
              <a:rPr b="0" lang="bg-BG" sz="1800" spc="-1" strike="noStrike">
                <a:solidFill>
                  <a:srgbClr val="0000ff"/>
                </a:solidFill>
                <a:latin typeface="Arial"/>
              </a:rPr>
              <a:t>запазване на цифрово съдържа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чакваното въздействие е преодоляване на фрагментацията на изследванията в съответната приложна област, концентрация на ресурси и разширяване на изследователската общно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scheme: No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3E64-A877-4223-8537-08F63E7BCD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32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f) Promoting the uptake of EC-funde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research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Стимулиране усвояването на изследователските резултати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Ще се финансират координационни и подкрепящи проекти, които трябва д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Улеснят усвояването  и широкото внедряване на иновативни услуги, в областта на запазване на цифровото съдържа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дсилят въздействието на изследователските инициативи и програми на национално ни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азработят пътни карти за научни изследвания и идентифицират основни бъдещи предизвикател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ъздадат паневропейска мрежа от “ живи” центрове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living memory centres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”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 валидиране и демонстриране на научни резулт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unding scheme: C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3A81-D134-4F7F-B617-1172BC6F37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igital Libraries and Digital Preservation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Цифрови библиотеки и запазване на цифровото съдържание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юджет по инструмен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IP: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min 28 MEUR - max 39 ME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, b)2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TREP: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min 17 MEUR - max 28 MEUR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b)1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бщо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IPs/STREPs: 56 MEU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(min 50% for IPs, 30% STREP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E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SA: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x 13 M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 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Общ бюджет </a:t>
            </a: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69 ME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C7BA-E6DB-415A-9215-AB4E84B19B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ahoma"/>
              </a:rPr>
              <a:t>Допълнителна информация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3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igiCult web site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Работна програма, текущи и предишни про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cordis.europa.eu/fp7/ict/telearn-digicult/digicult-projects_en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За въпроси, консултации по предложенията за проекти:</a:t>
            </a:r>
            <a:br>
              <a:rPr sz="2000"/>
            </a:br>
            <a:r>
              <a:rPr b="0" lang="fr-FR" sz="2400" spc="-1" strike="noStrike" u="sng">
                <a:solidFill>
                  <a:srgbClr val="0066ff"/>
                </a:solidFill>
                <a:uFillTx/>
                <a:latin typeface="Tahoma"/>
              </a:rPr>
              <a:t>infso-digicult@ec.europa.e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45F5-C8CE-45CC-92E6-8CC78D02756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редизвикателство 4. Цифрови библиотеки и съдържа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GITAL LIBRARIES AND CONT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Финансират се научни изследвания в областта на създаването, разпространението и използването на знания и цифрово съдържа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държа три цел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Цифрови библиотеки и запазване на цифрово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igital libraries and digital preserv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Технологично подпомагано учене ( конкурс 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chnology-enhanced lear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нтелигентно управление на информацията (конкурс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lligent Information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D0D7-D3EC-4D95-AF24-7EFEC1FDC9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134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CT-2009.4.1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Цифрови библиотеки и запазване на цифрово съдържание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зследователски те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305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осочени са 7 изследователски те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Скалируеми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alable</a:t>
            </a: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) системи и услуги за запазване на цифрово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Усъвършенствани сценарии за запазване на цифрово съдържание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Иновативни решения за съставяне на цифрови библиоте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Адаптивни културни прак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Интердисциплинарни изследователски мреж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Усвояване/ внедряване на изследователски резулта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8EB6-8F79-4C69-8245-D000494B76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Защо се появяват тези теми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За да се стимулира създаването на големи цифрови библиотеки, надхвърлящи /надграждащи възможностите на/ съществуващите библиотеки и инфраструктур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подкрепят научните общности, използващи цифрови библиотеки и да се добие по-добро разбиране на тези общности и на това как те взаимодействат с цифровите библиоте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оползотвори по-добре културното цифрово съдържание във всички възможни формати, вкл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улесни преходът към по-адаптивно и персонализирано използване на цифровото съдържание на основата на нови сценарии, фокусирани върху потреби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В политически контекст това отговаря на изследователските приоритети относно цифровите библиотеки в инициативата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i2010</a:t>
            </a: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AC48-729E-440E-A4F2-319A896362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r"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alable systems and services fo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eserving digital content</a:t>
            </a:r>
            <a:br>
              <a:rPr sz="2400"/>
            </a:b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Скалируеми системи и услуги за запазване на цифрово съдържание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Фокусът на изследванията  тук е върху разработването на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 скалируеми системи и услуги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ито боравят с (управляват) целия работен поток за запазване на цифрово съдържание за различни 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типове цифрови ресурси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, като гарантират дългосрочно техния интегритет и автентичнос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вен това проектите трябва да демонстрират  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осъществимостта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asibility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 тези системи и услуги и да оценят тяхното използване от различни организации в големи (мащабни) експериментални платформи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testb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пр. за научни бизнес, финансови, публични  и мултимедийни и аудиовизуални записи/ресурс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нструмент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ding scheme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4182-D7C6-45C4-AA52-97A1A38369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64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vanced preservation scenarios</a:t>
            </a:r>
            <a:br>
              <a:rPr sz="2400"/>
            </a:b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Усъвършенствани сценарии за запазване на цифрово съдържание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Ще се финансира разработването на методи, модели и инструменти за управление на цифрова памет. Фокусът трябва да е върху проблеми по запазването на цифрово съдържание, които не могат да бъдат решени чрез настоящите такива. Очакваните резултати от проектирате с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1/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Методи и инструменти за запазване на комплексни обект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напр. множество вложени структури, разпределени и взаимно свързани ресурси и онтологии, преходна информация и мимолетни дан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R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2/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нтелигентни системи за куриране и запазване на цифрово съдържание,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които са способни да учат, разсъждават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действат автономно на базата на интегрирането на инструменти и и методи подпомагащи процеса на вземане на сложни решения като оценка, селекция и управление на разнообразни колекции от цифрови ресурси. Системите трябва да осигуряват възможност за повторно използване на представяното съдържание и вложеното в него семантично знание. Задължителен компонент от изследователската работа е разработването на сценарии за верифика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D9DF-61C0-4F4F-AB97-16D67D356B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Запазване на цифрово съдържание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Очаквано въздейств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Укрепване капацитета на организациите да запазват цифрово съдържание по по-ефективни, ефикасни и евтини начи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Защитаване интегритета и автентичността на това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Значително намаляване на загубите от незаменима информ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Нови възможности за нейното повторно използване, включително създаване (продуциране) на ново зн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D2C3-490B-42D0-849C-B170B96FDA02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) Assembly of multimedia digital libraries </a:t>
            </a: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Съставяне  на цифрови библиотеки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азработване на иновативни решения за съставяне на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мултимедийни цифрови библиотек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за колаборативно (съвместно) използване в определени контексти и общности, които водят до усъвършенстване на изучаванет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 разбирането и натрупването на опит в областта на цифровото културно съдърж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ова включва също работа върху агрегирането на крос-медийни ресурси на различни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нституционалн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цифрови библиотеки и хранилищ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зследователската работа трябва да е насочена върху аспекти като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скалируемост, оперативна съвместимост, разпределени архитектури и инструменти за агрегиране на съдържание и семантично търсе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Дейностите по валидиране на резултатите от изследванията трябва да са  адресирани към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зследователите на културно съдържание и професионалната общност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, но трябва да са отворени и към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широката публика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ding scheme: I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5E18-FEB6-48CD-BF03-9A74C8F628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) Adaptive cultural experiences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Адаптивни културни практики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Изследвания в областта на адаптивни културни практики: проучване потенциала на ИКТ за създаване на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и представи (идеи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за различни форми на изразяване на културно съдържание, които отразяват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индивидуални тенденции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за описване на съдържание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ative tendencies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т.е. адаптират се към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 предпочитанията на потребителя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в зависимост от неговата подготовка, познавателен подход, контекст на  неговия интерес ( целта на неговото “посещение” на цифровата библиоте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5000"/>
              </a:lnSpc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Тези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и представи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трябва да предлагат смислено  упътване в интерпретацията на  културно съдържание (творби на културата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5000"/>
              </a:lnSpc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чакваното въздействие е постигане на значителен напредък в осигуряването на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 достъп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до културно и научно съдържание и по-ефикасното му използван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5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5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unding scheme: STRE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114C-CA4C-45C2-8A05-D61FEFAFB5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anuela Speiser</dc:creator>
  <dc:description/>
  <dc:language>en-US</dc:language>
  <cp:lastModifiedBy>tchernaeva</cp:lastModifiedBy>
  <dcterms:modified xsi:type="dcterms:W3CDTF">2009-11-24T12:43:07Z</dcterms:modified>
  <cp:revision>296</cp:revision>
  <dc:subject/>
  <dc:title>Kick-off meeting LiWA </dc:title>
</cp:coreProperties>
</file>