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3E7B-35C0-4754-BCFE-4B8770C311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51B0-87C0-4F48-BD15-00DC2A4BF5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8F6E-C685-4BD1-B941-3A15A9EC7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A038E-741B-4253-8248-E2B43B8EE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8296-B257-43DE-B919-0E8C8105E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FAB4-8DA2-413C-BBEF-D83F126867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8D35-98B1-4BB7-8BB9-774E67BC40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EC8F-0FD6-4045-BC24-F72484E89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992C-CA06-47AA-B455-4A9780DB4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3F25-8F9B-461D-AF6A-6C86C3290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9205-01FB-49FB-8B28-9DDC5155E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0FD1-6DDD-4F1F-BD1D-1165AD4FF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E503-4151-4E60-B6A4-FD2BE0736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47C4-EE7C-4D38-A148-0733DA4D7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7623CF12-92B5-461F-8BF8-64CEF631B3D9}" type="slidenum">
              <a:rPr b="1" lang="en-US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rieta_popova@abv.bg" TargetMode="External"/><Relationship Id="rId3" Type="http://schemas.openxmlformats.org/officeDocument/2006/relationships/hyperlink" Target="mailto:Marieta_popova@abv.bg" TargetMode="External"/><Relationship Id="rId4" Type="http://schemas.openxmlformats.org/officeDocument/2006/relationships/hyperlink" Target="mailto:Marieta_popova@abv.bg" TargetMode="External"/><Relationship Id="rId5" Type="http://schemas.openxmlformats.org/officeDocument/2006/relationships/hyperlink" Target="mailto:Galia@lml.bas.bg" TargetMode="External"/><Relationship Id="rId6" Type="http://schemas.openxmlformats.org/officeDocument/2006/relationships/hyperlink" Target="mailto:Galia@lml.bas.bg" TargetMode="External"/><Relationship Id="rId7" Type="http://schemas.openxmlformats.org/officeDocument/2006/relationships/hyperlink" Target="mailto:Galia@lml.bas.bg" TargetMode="External"/><Relationship Id="rId8" Type="http://schemas.openxmlformats.org/officeDocument/2006/relationships/hyperlink" Target="mailto:Galia@lml.bas.bg" TargetMode="External"/><Relationship Id="rId9" Type="http://schemas.openxmlformats.org/officeDocument/2006/relationships/hyperlink" Target="mailto:Galia@lml.bas.bg" TargetMode="External"/><Relationship Id="rId10" Type="http://schemas.openxmlformats.org/officeDocument/2006/relationships/hyperlink" Target="mailto:dany@manuf.ru.acad.bg" TargetMode="External"/><Relationship Id="rId11" Type="http://schemas.openxmlformats.org/officeDocument/2006/relationships/hyperlink" Target="mailto:dany@manuf.ru.acad.bg" TargetMode="External"/><Relationship Id="rId12" Type="http://schemas.openxmlformats.org/officeDocument/2006/relationships/hyperlink" Target="mailto:dany@manuf.ru.acad.bg" TargetMode="External"/><Relationship Id="rId13" Type="http://schemas.openxmlformats.org/officeDocument/2006/relationships/hyperlink" Target="mailto:dany@manuf.ru.acad.bg" TargetMode="External"/><Relationship Id="rId14" Type="http://schemas.openxmlformats.org/officeDocument/2006/relationships/hyperlink" Target="mailto:dany@manuf.ru.acad.bg" TargetMode="External"/><Relationship Id="rId15" Type="http://schemas.openxmlformats.org/officeDocument/2006/relationships/hyperlink" Target="mailto:dany@manuf.ru.acad.bg" TargetMode="External"/><Relationship Id="rId16" Type="http://schemas.openxmlformats.org/officeDocument/2006/relationships/hyperlink" Target="mailto:dany@manuf.ru.acad.bg" TargetMode="External"/><Relationship Id="rId17" Type="http://schemas.openxmlformats.org/officeDocument/2006/relationships/hyperlink" Target="mailto:dany@manuf.ru.acad.bg" TargetMode="External"/><Relationship Id="rId18" Type="http://schemas.openxmlformats.org/officeDocument/2006/relationships/hyperlink" Target="mailto:ste@bultima.net" TargetMode="External"/><Relationship Id="rId19" Type="http://schemas.openxmlformats.org/officeDocument/2006/relationships/hyperlink" Target="mailto:ste@bultima.net" TargetMode="External"/><Relationship Id="rId20" Type="http://schemas.openxmlformats.org/officeDocument/2006/relationships/hyperlink" Target="mailto:ste@bultima.net" TargetMode="External"/><Relationship Id="rId21" Type="http://schemas.openxmlformats.org/officeDocument/2006/relationships/hyperlink" Target="mailto:ste@bultima.net" TargetMode="External"/><Relationship Id="rId2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ordis.europa.eu/fp7/ict/" TargetMode="External"/><Relationship Id="rId3" Type="http://schemas.openxmlformats.org/officeDocument/2006/relationships/hyperlink" Target="http://cordis.europa.eu/fp7/ict/" TargetMode="External"/><Relationship Id="rId4" Type="http://schemas.openxmlformats.org/officeDocument/2006/relationships/hyperlink" Target="http://cordis.europa.eu/fp7/ict/" TargetMode="External"/><Relationship Id="rId5" Type="http://schemas.openxmlformats.org/officeDocument/2006/relationships/hyperlink" Target="http://cordis.europa.eu/fp7/ict/" TargetMode="External"/><Relationship Id="rId6" Type="http://schemas.openxmlformats.org/officeDocument/2006/relationships/hyperlink" Target="http://cordis.europa.eu/fp7/ict/" TargetMode="External"/><Relationship Id="rId7" Type="http://schemas.openxmlformats.org/officeDocument/2006/relationships/hyperlink" Target="http://cordis.europa.eu/fp7/ict/" TargetMode="External"/><Relationship Id="rId8" Type="http://schemas.openxmlformats.org/officeDocument/2006/relationships/hyperlink" Target="http://cordis.europa.eu/fp7/ict/" TargetMode="External"/><Relationship Id="rId9" Type="http://schemas.openxmlformats.org/officeDocument/2006/relationships/hyperlink" Target="http://cordis.europa.eu/fp7/ict/" TargetMode="External"/><Relationship Id="rId10" Type="http://schemas.openxmlformats.org/officeDocument/2006/relationships/hyperlink" Target="http://cordis.europa.eu/fp7/ict/" TargetMode="External"/><Relationship Id="rId11" Type="http://schemas.openxmlformats.org/officeDocument/2006/relationships/hyperlink" Target="http://cordis.europa.eu/fp7/ict/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ordis.europa.eu/fp7/ic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6312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Работна програма 2009-10</a:t>
            </a:r>
            <a:br>
              <a:rPr sz="2800"/>
            </a:br>
            <a:br>
              <a:rPr sz="2800"/>
            </a:b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Преглед на тематиката от шести конкур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631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3860640"/>
            <a:ext cx="669780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Тотка Черна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Програмен координ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МТИ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Национален информационен д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ноември 200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49360"/>
            <a:ext cx="7280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Тема ИКТ от Седма рамкова програ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DA2E-C99F-4C47-9B6B-216E8E18EE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0033"/>
                </a:solidFill>
                <a:latin typeface="Verdana"/>
              </a:rPr>
              <a:t>Национални контактни лица по тема</a:t>
            </a: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bg-BG" sz="2400" spc="-1" strike="noStrike">
                <a:solidFill>
                  <a:srgbClr val="990033"/>
                </a:solidFill>
                <a:latin typeface="Verdana"/>
              </a:rPr>
              <a:t>И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8469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Мариета Иванова Попова  </a:t>
            </a: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Тел.: 886847414 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Факс: 2 8658461 </a:t>
            </a:r>
            <a:br>
              <a:rPr sz="1400"/>
            </a:b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Marieta_popova@abv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bg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Координационен съвет за информационно обще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Галя Младенова Ангелова </a:t>
            </a:r>
            <a:br>
              <a:rPr sz="18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Тел.: 2 979 66 07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Факс: 2 70 72 73 </a:t>
            </a:r>
            <a:br>
              <a:rPr sz="1400"/>
            </a:b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Galia@lml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bas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bg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Институт по паралелна обработка на информация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Даниел Михайлов Братанов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Тел.: 82 888717 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Факс: 82845708</a:t>
            </a:r>
            <a:br>
              <a:rPr sz="1400"/>
            </a:b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dany@manuf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ru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acad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bg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Русенски университет „Ангел Кънчев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Стефан Дражев</a:t>
            </a:r>
            <a:br>
              <a:rPr sz="18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Тел.: 52 660480 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Факс: 52 610133 </a:t>
            </a:r>
            <a:br>
              <a:rPr sz="1400"/>
            </a:b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ste@bultima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net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990033"/>
                </a:solidFill>
                <a:latin typeface="Verdana"/>
              </a:rPr>
              <a:t>Благодаря за вниманието!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C4C1-7C7C-4084-9AEC-BB41362EF2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Verdana"/>
              </a:rPr>
              <a:t>Благодаря за вниманието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Verdana"/>
              </a:rPr>
              <a:t>Въпроси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96DD-214F-4333-8B80-CE54C19CAC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134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990033"/>
                </a:solidFill>
                <a:latin typeface="Verdana"/>
              </a:rPr>
              <a:t>Структура на работната програ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4152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333399"/>
                </a:solidFill>
                <a:uFillTx/>
                <a:latin typeface="Verdana"/>
              </a:rPr>
              <a:t>Включва определен брой </a:t>
            </a:r>
            <a:r>
              <a:rPr b="0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 “</a:t>
            </a:r>
            <a:r>
              <a:rPr b="0" lang="bg-BG" sz="1800" spc="-1" strike="noStrike" u="sng">
                <a:solidFill>
                  <a:srgbClr val="333399"/>
                </a:solidFill>
                <a:uFillTx/>
                <a:latin typeface="Verdana"/>
              </a:rPr>
              <a:t>предизвикателства</a:t>
            </a:r>
            <a:r>
              <a:rPr b="0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”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целящи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преодоляване на технологичните прегради пред европейската индустрия и затвърждаване на нейните предимст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създаване на нови технологични възможности и нови начини за използване на ИКТ за постигане на социално-икономическите цел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Предизвикателството е описано посредством </a:t>
            </a:r>
            <a:r>
              <a:rPr b="0" lang="bg-BG" sz="1800" spc="-1" strike="noStrike" u="sng">
                <a:solidFill>
                  <a:srgbClr val="333399"/>
                </a:solidFill>
                <a:uFillTx/>
                <a:latin typeface="Verdana"/>
              </a:rPr>
              <a:t>определен брой стратегически цели</a:t>
            </a: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, които представляват основата на конкурсите за предложения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333399"/>
                </a:solidFill>
                <a:uFillTx/>
                <a:latin typeface="Verdana"/>
              </a:rPr>
              <a:t>Всяка цел</a:t>
            </a: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 е описана посредство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Verdana"/>
              </a:rPr>
              <a:t>резултата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, който се очаква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чрез неговите характеристи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Verdana"/>
              </a:rPr>
              <a:t>очакваното въздействие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икономически и/или  социален ефект, технологично развитие и п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Verdana"/>
              </a:rPr>
              <a:t>финансовата схема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– типовете проекти, които ще се финансир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Verdana"/>
              </a:rPr>
              <a:t>Индикативния бюджет –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за съответната це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9276-5AD6-4965-92B3-BE2FD2B784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6200000">
            <a:off x="7198920" y="3970440"/>
            <a:ext cx="2894040" cy="10674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Бъдещи и нововъзникващи технолог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53360" y="3054240"/>
            <a:ext cx="561960" cy="2907000"/>
          </a:xfrm>
          <a:custGeom>
            <a:avLst/>
            <a:gdLst>
              <a:gd name="textAreaLeft" fmla="*/ -360 w 561960"/>
              <a:gd name="textAreaRight" fmla="*/ 561960 w 561960"/>
              <a:gd name="textAreaTop" fmla="*/ 0 h 2907000"/>
              <a:gd name="textAreaBottom" fmla="*/ 2907360 h 290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309200"/>
            <a:ext cx="7238880" cy="82404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гнитивни систем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оботика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7320" y="3319560"/>
            <a:ext cx="7213680" cy="82404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фраструкту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мрежи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320" y="5246640"/>
            <a:ext cx="7239240" cy="58068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мпоненти, систем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женерин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71640" y="1109520"/>
            <a:ext cx="5342040" cy="5021280"/>
            <a:chOff x="2771640" y="1109520"/>
            <a:chExt cx="5342040" cy="5021280"/>
          </a:xfrm>
        </p:grpSpPr>
        <p:sp>
          <p:nvSpPr>
            <p:cNvPr id="60" name=""/>
            <p:cNvSpPr/>
            <p:nvPr/>
          </p:nvSpPr>
          <p:spPr>
            <a:xfrm>
              <a:off x="2908440" y="1703160"/>
              <a:ext cx="1238040" cy="44276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51372"/>
                  </a:srgbClr>
                </a:gs>
                <a:gs pos="100000">
                  <a:srgbClr val="566768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Цифрови библиотеки и съдърж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02280" y="1703160"/>
              <a:ext cx="1085760" cy="44276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51372"/>
                  </a:srgbClr>
                </a:gs>
                <a:gs pos="100000">
                  <a:srgbClr val="566768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ИКТ за здрав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72280" y="1703160"/>
              <a:ext cx="1265040" cy="44276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51372"/>
                  </a:srgbClr>
                </a:gs>
                <a:gs pos="100000">
                  <a:srgbClr val="566768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ИКТ за мобилност и устойчив растеж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91400" y="1703160"/>
              <a:ext cx="1322280" cy="44276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51372"/>
                  </a:srgbClr>
                </a:gs>
                <a:gs pos="100000">
                  <a:srgbClr val="566768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ИКТ за независим живот и приобщаван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5178240" y="-1297080"/>
              <a:ext cx="528480" cy="534204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5342040"/>
                <a:gd name="textAreaBottom" fmla="*/ 5342400 h 534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75400" y="1242720"/>
              <a:ext cx="36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Социалн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икономически це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6200000">
            <a:off x="-879840" y="4251600"/>
            <a:ext cx="26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Технологични преград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4320" y="272880"/>
            <a:ext cx="8766000" cy="555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dfd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РП</a:t>
            </a:r>
            <a:r>
              <a:rPr b="1" lang="en-GB" sz="2800" spc="-1" strike="noStrike">
                <a:solidFill>
                  <a:srgbClr val="990033"/>
                </a:solidFill>
                <a:latin typeface="Verdana"/>
              </a:rPr>
              <a:t> 200</a:t>
            </a: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9</a:t>
            </a:r>
            <a:r>
              <a:rPr b="1" lang="en-GB" sz="2800" spc="-1" strike="noStrike">
                <a:solidFill>
                  <a:srgbClr val="990033"/>
                </a:solidFill>
                <a:latin typeface="Verdana"/>
              </a:rPr>
              <a:t>-</a:t>
            </a: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10</a:t>
            </a:r>
            <a:r>
              <a:rPr b="1" lang="en-GB" sz="2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Предизвикател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927A-9E97-4F01-BD3F-391972DC43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Съдържание на конкурс </a:t>
            </a: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42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Verdana"/>
              </a:rPr>
              <a:t>Конкурс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ндикативен бюджет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86,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млн. евр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Включва стратегически цели от предизвикателст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2: Когнитивни системи и робот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: Цифрови библиотеки и  съдърж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5:  Устойчиво и персонализирано здравеопазва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6: ИКТ за мобилност, устойчива околна среда и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bg-BG" sz="2000" spc="-1" strike="noStrike">
                <a:solidFill>
                  <a:srgbClr val="990033"/>
                </a:solidFill>
                <a:latin typeface="Verdana"/>
              </a:rPr>
              <a:t>и от “Бъдещи и нововъзникващи технологии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бявяване: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оемвр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Затваряне: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13 април 2010 г.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://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cordis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europa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.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eu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fp7/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ict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338D8-CDD0-449A-9511-E427202B05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990033"/>
                </a:solidFill>
                <a:latin typeface="Verdana"/>
              </a:rPr>
              <a:t>Финансови схеми (инструменти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a50021"/>
                </a:solidFill>
                <a:latin typeface="Verdana"/>
              </a:rPr>
              <a:t>Съвместни проекти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llaborative projects):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научно-изследователски проекти, насочени към създаване  на нови знания, нови технологии, продукти и демонстрационни дейности. Делят се на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REP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(насочени проекти) и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(интегрирани проект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a50021"/>
                </a:solidFill>
                <a:latin typeface="Verdana"/>
              </a:rPr>
              <a:t>Мрежи за върхова компетентност</a:t>
            </a:r>
            <a:r>
              <a:rPr b="0" lang="bg-BG" sz="16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Networks of excellence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E):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проекти за развитие на дадена научна област чрез интегрирани дейности между партньорите и ефективно използване на ресурсите, за укрепване на лидерските позиции на Европа в определени обла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a50021"/>
                </a:solidFill>
                <a:latin typeface="Verdana"/>
              </a:rPr>
              <a:t>Координиращи и подкрепящи действ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Coordination and support actions – CSA)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: проекти, насочени към координирането на дейности по съществуващи проекти или дейности, подкрепящи последващото участие в програма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a50021"/>
                </a:solidFill>
                <a:latin typeface="Verdana"/>
              </a:rPr>
              <a:t>Съвместни проекти за специфични съвместни дейности с партньорски страни по линия на международното сътрудничество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llaborative projects for specific cooperation actions dedicated to international cooperation partner countries - SIC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E4BB-8325-484B-B112-7B163540D0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990033"/>
                </a:solidFill>
                <a:latin typeface="Verdana"/>
              </a:rPr>
              <a:t>Минимален брой участниц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61516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Verdana"/>
              </a:rPr>
              <a:t>Съвместни проекти, Мрежи за върхова компетентност, Координиращи дейнос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Най-малко 3 независими юридически лица от различни страни-членки на ЕС или асоциирани стра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Verdana"/>
              </a:rPr>
              <a:t>Съвместни проекти за специфични съвместни дейности с партньорски страни по линия на международното сътрудничество: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най-малко 4 независими юридически лица, от които 2 от страна-членка или асоциирана страна и 2 от различни партньорски стра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Verdana"/>
              </a:rPr>
              <a:t>Подкрепящи дейности: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поне 1 юридическо лиц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Могат да участват Съвместните научноизследователски центрове, европейски финансови институции, международни организ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Може да има специфични изисквания, записани изрично в Р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3D3D-2DD5-4E1C-AD27-3FD7282F7E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02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0033"/>
                </a:solidFill>
                <a:latin typeface="Verdana"/>
              </a:rPr>
              <a:t>Максимално финансира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918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аучноизследователски дейност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о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т допустимите разходи освен 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75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Публични организации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: – 7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75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Средни и висши училища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: – 7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75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Научноизследователски организации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: – 7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75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МСП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: – 7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емонстрационни дейност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: 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50%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руги дейности вкл. управлен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: –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Перспективни научни изследвания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–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Координиращи и подкрепящи действия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–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бучение и кариерно развитие на учените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–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1DAD7-F53B-4048-ADF3-333E076617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270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990033"/>
                </a:solidFill>
                <a:latin typeface="Verdana"/>
              </a:rPr>
              <a:t>Крит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4901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Verdana"/>
              </a:rPr>
              <a:t>За допустимос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Минимален брой участниц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ъответствие с целите на конкур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Пълнота на предложение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пазване на срока за подава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Verdana"/>
              </a:rPr>
              <a:t>За оцен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аучни и</a:t>
            </a:r>
            <a:r>
              <a:rPr b="0" lang="bg-BG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технологични качества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(scientific and technical excelle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Качество и ефикасност на управлението и изпълнениет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а проект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(implement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Потенциално въздействие от развитие, разпространение и използване на резултатит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(impac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7974-CCC4-44A7-8AE2-FCB54B18DD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8469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get started? CORDIS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cordis.europa.eu/fp7/ict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9352080" y="8967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0920" y="1657440"/>
            <a:ext cx="4103280" cy="3593520"/>
            <a:chOff x="250920" y="1657440"/>
            <a:chExt cx="4103280" cy="3593520"/>
          </a:xfrm>
        </p:grpSpPr>
        <p:sp>
          <p:nvSpPr>
            <p:cNvPr id="81" name=""/>
            <p:cNvSpPr/>
            <p:nvPr/>
          </p:nvSpPr>
          <p:spPr>
            <a:xfrm>
              <a:off x="3640320" y="4686480"/>
              <a:ext cx="712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0920" y="4686480"/>
              <a:ext cx="3389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40320" y="4989600"/>
              <a:ext cx="7120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920" y="4989600"/>
              <a:ext cx="3389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40320" y="317196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0920" y="317196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40320" y="3474720"/>
              <a:ext cx="712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0920" y="3474720"/>
              <a:ext cx="3389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40320" y="377784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0920" y="377784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40320" y="408060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08060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40320" y="438372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920" y="438372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0320" y="2262960"/>
              <a:ext cx="712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0920" y="2262960"/>
              <a:ext cx="3389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0320" y="256608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920" y="256608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0320" y="286884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0920" y="286884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0320" y="196020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196020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40320" y="165744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920" y="165744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1657440"/>
              <a:ext cx="41018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920" y="5249880"/>
              <a:ext cx="41018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0920" y="1657440"/>
              <a:ext cx="1080" cy="3592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2760" y="1657440"/>
              <a:ext cx="1440" cy="3592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7561440" cy="446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Michael Arentoft</dc:creator>
  <dc:description/>
  <dc:language>en-US</dc:language>
  <cp:lastModifiedBy>tchernaeva</cp:lastModifiedBy>
  <dcterms:modified xsi:type="dcterms:W3CDTF">2009-11-24T12:38:08Z</dcterms:modified>
  <cp:revision>289</cp:revision>
  <dc:subject/>
  <dc:title>FP7 ICT WP 2009-10 Update</dc:title>
</cp:coreProperties>
</file>