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wmf" ContentType="image/x-wmf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3.png" ContentType="image/png"/>
  <Override PartName="/ppt/media/image22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24.png" ContentType="image/png"/>
  <Override PartName="/ppt/media/image17.jpeg" ContentType="image/jpe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2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2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2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6F32-C05F-4AA6-9F29-364F09135F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76BA-7BAF-4A3D-990B-916650229E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5A5F-91DE-4DE3-9802-BD3E9EA664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CD31-7017-4F5A-92AC-995D21FABF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0BA1-CD47-4BC9-9C2A-706CD433B9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8EF8-44BF-4B2E-9F67-1D1D22C585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BF0E-36D8-49B1-A9F7-0D079C51E6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9A41-20B9-4186-B9B4-E84F4FA3B4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F8F0-F7F7-4749-8B6C-B23F52ED53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E4B2-2277-4A6E-B1E2-E7B2A3F279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771F-71FA-4C8A-8A8D-B0C4241A54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B3E2-9E4E-43DF-B71C-F17C58EDFB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C6A9-1E6D-424A-AB90-C1E0DBC4DF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9FBDB-60E6-407F-A0ED-AE012FCE6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D1A69-87AC-4698-A2F1-0E0A68A84C6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83B2E-1255-4F38-8109-A321C9B2034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AFF05-AEF6-4AB8-8D15-CCBA90E2D5F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5FE89-015A-4C05-88DC-6B4BB86D9EF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F5CCF-96AA-4C5E-81DF-959D143B9DE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99F66-57AB-49CF-8B61-F51E891A77D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77D54-F716-4C6F-B63C-53E97BCD507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B4ED3-8625-4DBC-A2B0-61B0CEEED43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CC4FD-0F7C-49AC-8F11-37FAEEA007D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D2EB9-D5CD-4AD8-BCE3-26FE91C4EB9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1B0384-5400-4EF9-99A1-E8FEED9CF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238DD-D76E-45D5-9243-BE4D57410C6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4941F7-3BCC-4EE9-89D3-04709C6926B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CBFF50-39D3-44A7-8A1F-523F0DF45B4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92B4E1-B3C8-472D-9B80-6CB4360394F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74C60B-405A-4EEE-874D-C7A24AF3028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65E506-8EDF-4365-9CDD-9FEE377E53B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F4A8D1-1828-4181-A609-504EB9EDCB6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5C8715-FCB8-4687-99C8-717E8CE586A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1CCFED-F8E8-41D8-90CB-319FD1AF63C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523FC6-A4E4-4B84-99EC-9CAE67E1716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8CEC2C-3D4C-407C-8B46-E9EB0A862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9F4E2-A197-4384-AA66-42517765977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C6CF6A-1352-43C4-8F60-1220C47F133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F9D33C-D0BE-498F-96F7-CACEC0286DB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6F6EB2-5A1E-4C0C-AAC0-D73DA9364E0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059A87-275F-41FA-9173-5B3F2624C56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657AAC-7C55-441D-92C4-E42AA1F24B6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EF2D44-0527-43C0-8C9D-DEBCA406C7F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E59527-ABB5-4474-A694-A315DC2285A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D1D0E2-E163-45D3-A7C2-0716A2FFAB4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BD5440-F9AB-45A5-84BB-AD2A4FC2AF5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362D8A-4E64-4EC3-87C7-6D6C63D6D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05FEC-605E-46F5-BB29-9D1328DE7B6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FB418D-7169-4BFC-8030-2509796E09E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390FCB-4222-473B-B536-342008072A9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94A7C3-685A-4C9B-A2D4-52F6E66881C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6AE39-74B3-40D4-8ED0-1B58A90235A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80FCB-CFC3-4D02-9905-2AB9DBAE95F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4D8BE-61EA-454D-9FF3-C914F110804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BABFB-D94C-4C06-856C-1839492A2B5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C1C46-3CA9-4805-805F-7AE65AECA25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5CCB2-3381-4C2E-92B7-416E9CE25FA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5BF49-7CFB-4636-8008-E89B4D536A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11A2D-A09C-43FD-ABFF-6CA59B06DF0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1D5FA-4733-49EC-8281-17DCED6AE0A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51CE7-9C2D-47C3-AB90-359A736A9C2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DB8C1-5F17-4F38-99C2-3A7D79631E0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C0265-417E-4E72-8226-1775F1B70AB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D052E-87FC-4580-BF31-D8B338876C4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0A3FF5-924E-4FAC-BE6C-22CF5A5A593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E3E46D-9D70-48DD-A8DD-6AFD9923352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8EBE0E-4A0F-422F-9295-909D76FD236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1516DA-CC33-49FA-B44D-5CAB2FFFFE6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1C89A0-CB03-4B95-B6EB-3D01648945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69D7B-AE28-4655-9A50-7A8BFDAD99B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7AB02B-A002-4502-BA98-A621F99037F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90A0FA-8C91-40A4-B60D-834E56E343D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B65E8A-4696-4F97-94B1-69F59CF481C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4FB08E-0441-4A68-9D16-50560C8C45E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02EE22-987A-450E-A9B5-914E97B70AA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A2ACEB-7E86-44C1-A691-BD7B2F10A21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68DA74-6DA8-4EE9-967C-F9897B1358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8E1E3-56A5-4350-A6BC-7D944EBAA0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E5182-B06E-4101-ACA2-E0559891A1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852AB-5D64-4495-A692-FDCC6EEB35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BFD60-3930-485D-BF94-84A8D6EF8C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781E2-73EE-4BE5-9965-CE1A40719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CDC22-5544-40F1-8F3E-538141F463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D6373-0381-4843-80A5-A59ABC41B6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2190E-5E7D-4E2F-8236-D1DB360356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9F0B3-5E57-48EC-8D44-78E96F2B11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AE104-8500-43C0-A78D-B9F59F3234B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5FD6-DF28-4003-9AB5-159586ADFD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1CE9-F942-4249-B97E-079EE5D49B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DA01-6FDE-49EE-9ABE-7F1FFFCBB8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8CFA-0507-4356-A6C9-F488111E31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820F-6441-4439-A434-E967E7C435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126C3-FEDC-4B0C-99A6-C1FBE7F794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69A5-4151-40E4-B2D3-893B7EF839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F125-303F-4727-8670-921F06D059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2567-AA69-4B0D-BC6B-C55FD78713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5CE3-03AC-462D-9979-D97D17B1F5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FB83-B849-4C83-98E6-A8AC080490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798E-DA16-40B5-877B-688C955027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0EAF-8791-43D3-B061-B10CF2DBBA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B1D05-0A56-47CF-8E8C-2AA642B0CF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7B523-D2FD-4F8F-B123-AE540FFB26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9163F-AA96-419D-81BE-AA3FDABFD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AECF2-B91C-45D5-9C73-11EBE5AFD5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939D1-18ED-474E-8F27-F59607D747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082BB-B8C4-4291-8194-6D0ACEEB7A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8DA15-5B10-4165-8E6F-7E7708E165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E59448-EAA4-4397-A9D5-A27B7F41F3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C17E6-1191-4EC2-807F-0BE378A9DC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7F1B8-D423-4811-B2D2-82FA7895C6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3503C-5C29-4665-BA91-0DE519959F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B82B9-8E0B-4229-90DF-CCD838C47C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F6F7D-D057-4FAE-880D-6662DBEE586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4ED187-C211-4B1D-BCE4-40DB16EC2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CD73C-4CA8-4EE4-AD90-367C9D597CE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67DDAB-87B9-41A6-A167-67BBCF43B19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D5B4EB-70FB-4AE8-B4B4-92FB48F4797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337168-68C8-4B34-8079-A9D894AEC42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96D9F5-902B-434E-ABC0-552789B3BC8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B6A4BF-AEFA-42A7-9E1E-827B5BE2B1A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950AA4-B82D-499F-8022-3D927F34FDD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B4DE78-D330-45CA-B854-142A76D9BB3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382FEC-93B3-4F04-918B-0A3E16AB820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84EDD3-97AF-4109-96A8-433C6C58A7E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D062F2-2D78-4BD9-8F74-C6BD385C4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4A721-DAE0-4509-B564-2672679BBC1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1D7220-2924-49D7-933A-9D83462445A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C0881-43D3-4866-B98F-F00F9ACBA7B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87FDD-F0E9-444D-BBBA-EF2AC924792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B18CC-1186-45D2-A1A2-1DDC6B75C5F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CA6D1-4C72-4AA2-B16D-C566555FBE5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9A927-9251-43FD-9BB8-F8AD68C29E1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8FDF4-4BCE-4412-A7FB-E50AB73D068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CB995-EED8-4776-A236-394B8064F98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E7FC4-A97E-406A-BF7D-326EFF42877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D602C-5E35-475D-8DB1-543CA9A80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94172-0407-4186-BE9B-2F1C3E7C252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78D87-C4EE-415B-8278-F4124338181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33FFF-E15C-42B6-8246-10EEF5527E7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A9E99-F222-44FC-AAF2-ED5B9E6FFC4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E3D3D-B6B5-4A95-80C9-DD4718F7BDE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C2878-1B86-48EF-B5E3-698BA2513E0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07B8C-FF5F-45B5-9F08-C884117D286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CE2865-C6E8-4D3D-82D6-A7C70879032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8593FE-61D2-4A08-96FD-9F24338536A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FF8143-E0B5-43E1-ACDD-2EF5F916BB6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1FF0DC-F8C7-48F4-94EC-294F65362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43986-71BB-407D-A22C-17C18B06F85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6BA633-97D0-41C3-9202-4C6B87DE1CB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027AA1-E769-49D3-A6BD-276C3836DBA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CFD4AD-18CE-4E72-A55E-DF685A8FCCE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C5904-90FA-4B5E-9C14-77081F35D2E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45691C-2875-4327-B73B-15442DCB590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C4076A-E941-4D2E-ABC7-10874243A06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425BD7-9E4D-430C-BAA9-3A44AC5B77F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97CD66-10B1-4893-8094-782E6FBC196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A54008-6582-458E-8791-F47B6328A51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844B7C-D3BC-46EC-8076-645C50EA3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B403F-B27B-4388-95CC-E968A9A7CFD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3A16E5-C789-4A79-ABE5-88F2C18889E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CD15F3-0BC7-4EB0-98F2-6C4D6AF8866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F6E314-F9E3-4886-B36B-6DC0F2F8297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6514B4-114E-4CF5-A290-D52AE759514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98DAE3-8F66-442D-9EDF-733836E0C75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5FD5CC-7DDE-4A67-98A5-2A3225CC46E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63B9E5-313E-4287-B0F4-B688B34F285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5BD51-20AD-47C9-B336-FD6F64EE5C2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A26FF-960C-4BE2-B20E-246A8259C62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57E11-561A-4C4F-9EC2-DBF2D88E6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14880" indent="-2214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2227DBF9-46E3-4AE9-A546-FD82892CD5EE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19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0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C2C96C48-6EBF-4E09-8228-B71ABE555796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21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2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5AD87536-17EA-44A6-BE22-C7DFB28E1D1F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ftr" idx="23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24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6A4FE79E-8AAC-4BE0-AA41-F9D5779F7B64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25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26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E9C3C99E-7FDD-4CB2-A763-6B3716E75090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39F4E37B-A39F-4B11-BCE6-3853A1B9AD8A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B534178B-0228-4BF9-AE28-6DA7846E3344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318BF302-9E17-420C-B56A-1C7D528A916F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9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0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22FBA53B-81D3-4234-82C7-422B7EC7C7FF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1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C5F53880-A5EA-4DEE-B02D-C989747F0F23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13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4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C0C33F6B-6423-46E1-8B73-FE8EACE34360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5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6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AAA5E32B-E7F3-406E-B154-B62FFBA5924F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17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8DB3BA12-B192-4CA3-AAB1-728E1B656D3A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c.europa.eu/information_society/ehealth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urophysiome.org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jpeg"/><Relationship Id="rId12" Type="http://schemas.openxmlformats.org/officeDocument/2006/relationships/image" Target="../media/image21.png"/><Relationship Id="rId13" Type="http://schemas.openxmlformats.org/officeDocument/2006/relationships/image" Target="../media/image22.jpeg"/><Relationship Id="rId14" Type="http://schemas.openxmlformats.org/officeDocument/2006/relationships/hyperlink" Target="http://hamam-project.org/cms/website.php" TargetMode="External"/><Relationship Id="rId15" Type="http://schemas.openxmlformats.org/officeDocument/2006/relationships/image" Target="../media/image23.png"/><Relationship Id="rId16" Type="http://schemas.openxmlformats.org/officeDocument/2006/relationships/hyperlink" Target="http://www.euheart.eu/" TargetMode="External"/><Relationship Id="rId17" Type="http://schemas.openxmlformats.org/officeDocument/2006/relationships/hyperlink" Target="http://www.euheart.eu/" TargetMode="External"/><Relationship Id="rId18" Type="http://schemas.openxmlformats.org/officeDocument/2006/relationships/image" Target="../media/image24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85.xml"/><Relationship Id="rId2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12360" y="4581360"/>
            <a:ext cx="7704360" cy="17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Verdana"/>
              </a:rPr>
              <a:t>Мариета Попо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Verdana"/>
              </a:rPr>
              <a:t>НКЛ ИКТ/7РП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1041480" y="90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Конкурс 6</a:t>
            </a:r>
            <a:br>
              <a:rPr sz="2800"/>
            </a:b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Стратегическа це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5.3: </a:t>
            </a:r>
            <a:br>
              <a:rPr sz="2800"/>
            </a:br>
            <a:br>
              <a:rPr sz="1600"/>
            </a:b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bg-BG" sz="3000" spc="-1" strike="noStrike">
                <a:solidFill>
                  <a:srgbClr val="000000"/>
                </a:solidFill>
                <a:latin typeface="Verdana"/>
              </a:rPr>
              <a:t>Виртуален физиологичен човек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”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13412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Цел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 5.3 VPH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   Конкурс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85840" y="1195560"/>
            <a:ext cx="885816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ИКТ средства, услуги и инфраструктури за биомедицинските изследователи в подкрепа на поне 2 от 3 дейност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1. Обмен на данни и зн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2. Съвместна разработка и обмен на модели/симулатор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3. Създаване на среда за сътрудниче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За проекти от 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P/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Бюджет : 61 млн 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Минимум 30% з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P; 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повече от  50% з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P – 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поне един от 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и един от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46040" y="-6480"/>
            <a:ext cx="713448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Цел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 5.3 VPH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   Конкурс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34440" y="999720"/>
            <a:ext cx="825372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c) 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Оценка на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VPH 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проекти за оптимално използване и принос къ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-357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Споделени средства/инфра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-357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Клинични постиж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-357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Пазарен потенц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01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Инструмент/бюджет</a:t>
            </a: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-357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SA </a:t>
            </a: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максимално финансиране от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1M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01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d)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Наблюдение на постиженията в по-широки мащаби, вкл. биоинформатика, медицинска информатика и невро-информатик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-357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Засилване на комуникацията между проектит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-357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Разпространение и обуч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-357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Надграждане на съответните 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No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01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Инструммент/бюджет</a:t>
            </a: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-357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CSA </a:t>
            </a: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максимално финансиране от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1M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01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52208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Контактни лиц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4920" y="1844640"/>
            <a:ext cx="84945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G Information Society and Medi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nit “ICT for Health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information_society/ehealth</a:t>
            </a: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irtual Physiological Human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Joël Bacquet (joel.bacquet@ec.europa.e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Karin Johansson (karin.johansson1@ec.europa.e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malia Vlad (amalia-irina.vlad@ec.europa.e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Стратегически изследователски насоки в Предизвикателство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7640" y="1872720"/>
            <a:ext cx="78850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Общо</a:t>
            </a: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 € 340 M 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за </a:t>
            </a: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години</a:t>
            </a: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 (2007-201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Персонализиране на здравеопазванет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Лични здравни систе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72 M 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през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2007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€ 63 M 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през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Безопасност на пациента – избягване на медицински грешки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30 M 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през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2007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€ 30 M 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през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Предсказваща медицин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Виртуален физиологичен човек (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Virtual Physiological Human 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VPH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Моделиране/симулация на човешката физиология и заболяван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72 M 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през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2007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€ 5 M 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през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2009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€ 63 M 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през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2010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2268360" y="1916280"/>
            <a:ext cx="6551640" cy="29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Виртуалният физиологичен човек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е методологична и технологична рамка, която след като бъде създадена, ще позволи изследванията на човешкото тяло като единна комплексна систем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Един от първите 12 проекта в 6РП -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VPH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 изследователска пътна карта, разработена по проект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TEP 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през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200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www.europhysiome.org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2700360" y="5013360"/>
            <a:ext cx="561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Персонализирани здравни реш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Ранна диагностик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предсказваща медици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Разбиране на заболяванията чрез няколко биологични нива (за първи път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4"/>
          <p:cNvGrpSpPr/>
          <p:nvPr/>
        </p:nvGrpSpPr>
        <p:grpSpPr>
          <a:xfrm>
            <a:off x="0" y="1773360"/>
            <a:ext cx="2761920" cy="4322160"/>
            <a:chOff x="0" y="1773360"/>
            <a:chExt cx="2761920" cy="4322160"/>
          </a:xfrm>
        </p:grpSpPr>
        <p:pic>
          <p:nvPicPr>
            <p:cNvPr id="548" name="Picture 5" descr="fg058_1_1"/>
            <p:cNvPicPr/>
            <p:nvPr/>
          </p:nvPicPr>
          <p:blipFill>
            <a:blip r:embed="rId2"/>
            <a:srcRect l="13964" t="0" r="13964" b="0"/>
            <a:stretch/>
          </p:blipFill>
          <p:spPr>
            <a:xfrm>
              <a:off x="1149840" y="1773360"/>
              <a:ext cx="1612080" cy="352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6" descr="circulationgeneral"/>
            <p:cNvPicPr/>
            <p:nvPr/>
          </p:nvPicPr>
          <p:blipFill>
            <a:blip r:embed="rId3"/>
            <a:stretch/>
          </p:blipFill>
          <p:spPr>
            <a:xfrm>
              <a:off x="842760" y="2178360"/>
              <a:ext cx="1652400" cy="35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7" descr="Digest3"/>
            <p:cNvPicPr/>
            <p:nvPr/>
          </p:nvPicPr>
          <p:blipFill>
            <a:blip r:embed="rId4"/>
            <a:stretch/>
          </p:blipFill>
          <p:spPr>
            <a:xfrm>
              <a:off x="394920" y="2583720"/>
              <a:ext cx="1524240" cy="26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8" descr="JK324"/>
            <p:cNvPicPr/>
            <p:nvPr/>
          </p:nvPicPr>
          <p:blipFill>
            <a:blip r:embed="rId5"/>
            <a:stretch/>
          </p:blipFill>
          <p:spPr>
            <a:xfrm>
              <a:off x="0" y="3056400"/>
              <a:ext cx="1404360" cy="303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Rectangle 9"/>
          <p:cNvSpPr/>
          <p:nvPr/>
        </p:nvSpPr>
        <p:spPr>
          <a:xfrm>
            <a:off x="1042920" y="105192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На базата на международния проект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hysi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10"/>
          <p:cNvSpPr/>
          <p:nvPr/>
        </p:nvSpPr>
        <p:spPr>
          <a:xfrm>
            <a:off x="-181080" y="620640"/>
            <a:ext cx="93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Концепция за виртуален физиологичен ч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2700360" y="1700280"/>
            <a:ext cx="609120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Компютърна рамка за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-silico 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модел(и) на човешката физиология на различни нива и етапи и средства за симулиране и визуализация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Специфичен модел на пациент, използвайки данни като например биосигнали и образи (вкл. Молекулярни изображен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Използвани технологии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Биомедицинско моделиране, техники за симулация и визуализация; изображения;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ata mining, 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семантична интеграция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банки от данни;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HealthGrid (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инфраструктура и средств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468360" y="62064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VPH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от ИКТ преспект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4" descr="healthgrid"/>
          <p:cNvPicPr/>
          <p:nvPr/>
        </p:nvPicPr>
        <p:blipFill>
          <a:blip r:embed="rId1"/>
          <a:stretch/>
        </p:blipFill>
        <p:spPr>
          <a:xfrm>
            <a:off x="0" y="2205000"/>
            <a:ext cx="320184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4"/>
          <p:cNvSpPr/>
          <p:nvPr/>
        </p:nvSpPr>
        <p:spPr>
          <a:xfrm>
            <a:off x="7236000" y="2133720"/>
            <a:ext cx="1728720" cy="395928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39"/>
          <p:cNvSpPr/>
          <p:nvPr/>
        </p:nvSpPr>
        <p:spPr>
          <a:xfrm rot="6731400">
            <a:off x="6356880" y="1788120"/>
            <a:ext cx="1109880" cy="1511280"/>
          </a:xfrm>
          <a:custGeom>
            <a:avLst/>
            <a:gdLst>
              <a:gd name="textAreaLeft" fmla="*/ 0 w 1109880"/>
              <a:gd name="textAreaRight" fmla="*/ 1110240 w 110988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1426" h="765">
                <a:moveTo>
                  <a:pt x="0" y="0"/>
                </a:moveTo>
                <a:cubicBezTo>
                  <a:pt x="89" y="16"/>
                  <a:pt x="361" y="45"/>
                  <a:pt x="534" y="98"/>
                </a:cubicBezTo>
                <a:cubicBezTo>
                  <a:pt x="707" y="151"/>
                  <a:pt x="910" y="235"/>
                  <a:pt x="1039" y="316"/>
                </a:cubicBezTo>
                <a:cubicBezTo>
                  <a:pt x="1168" y="397"/>
                  <a:pt x="1241" y="508"/>
                  <a:pt x="1306" y="583"/>
                </a:cubicBezTo>
                <a:cubicBezTo>
                  <a:pt x="1371" y="658"/>
                  <a:pt x="1401" y="727"/>
                  <a:pt x="1426" y="765"/>
                </a:cubicBezTo>
              </a:path>
            </a:pathLst>
          </a:custGeom>
          <a:noFill/>
          <a:ln w="228600">
            <a:solidFill>
              <a:srgbClr val="0099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2"/>
          <p:cNvSpPr/>
          <p:nvPr/>
        </p:nvSpPr>
        <p:spPr>
          <a:xfrm>
            <a:off x="1979640" y="1557360"/>
            <a:ext cx="4680000" cy="719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76360" y="151920"/>
            <a:ext cx="612144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PN: 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схематична карти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108000" y="2276640"/>
            <a:ext cx="19620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Знан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За биологични и физиоло-гични пътеки, процеси и д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7" descr="j0235319"/>
          <p:cNvPicPr/>
          <p:nvPr/>
        </p:nvPicPr>
        <p:blipFill>
          <a:blip r:embed="rId1"/>
          <a:stretch/>
        </p:blipFill>
        <p:spPr>
          <a:xfrm>
            <a:off x="7380360" y="2781360"/>
            <a:ext cx="1409760" cy="1439640"/>
          </a:xfrm>
          <a:prstGeom prst="rect">
            <a:avLst/>
          </a:prstGeom>
          <a:ln w="0">
            <a:noFill/>
          </a:ln>
        </p:spPr>
      </p:pic>
      <p:sp>
        <p:nvSpPr>
          <p:cNvPr id="563" name="Freeform 8"/>
          <p:cNvSpPr/>
          <p:nvPr/>
        </p:nvSpPr>
        <p:spPr>
          <a:xfrm rot="6731400">
            <a:off x="6285240" y="4596120"/>
            <a:ext cx="1109880" cy="1511640"/>
          </a:xfrm>
          <a:custGeom>
            <a:avLst/>
            <a:gdLst>
              <a:gd name="textAreaLeft" fmla="*/ 0 w 1109880"/>
              <a:gd name="textAreaRight" fmla="*/ 1110240 w 1109880"/>
              <a:gd name="textAreaTop" fmla="*/ 0 h 1511640"/>
              <a:gd name="textAreaBottom" fmla="*/ 1512000 h 1511640"/>
            </a:gdLst>
            <a:ahLst/>
            <a:rect l="textAreaLeft" t="textAreaTop" r="textAreaRight" b="textAreaBottom"/>
            <a:pathLst>
              <a:path w="1426" h="765">
                <a:moveTo>
                  <a:pt x="0" y="0"/>
                </a:moveTo>
                <a:cubicBezTo>
                  <a:pt x="89" y="16"/>
                  <a:pt x="361" y="45"/>
                  <a:pt x="534" y="98"/>
                </a:cubicBezTo>
                <a:cubicBezTo>
                  <a:pt x="707" y="151"/>
                  <a:pt x="910" y="235"/>
                  <a:pt x="1039" y="316"/>
                </a:cubicBezTo>
                <a:cubicBezTo>
                  <a:pt x="1168" y="397"/>
                  <a:pt x="1241" y="508"/>
                  <a:pt x="1306" y="583"/>
                </a:cubicBezTo>
                <a:cubicBezTo>
                  <a:pt x="1371" y="658"/>
                  <a:pt x="1401" y="727"/>
                  <a:pt x="1426" y="765"/>
                </a:cubicBezTo>
              </a:path>
            </a:pathLst>
          </a:custGeom>
          <a:noFill/>
          <a:ln w="228600">
            <a:solidFill>
              <a:srgbClr val="0099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34920" y="2276640"/>
            <a:ext cx="2016000" cy="1657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10"/>
          <p:cNvSpPr/>
          <p:nvPr/>
        </p:nvSpPr>
        <p:spPr>
          <a:xfrm>
            <a:off x="2195640" y="2276640"/>
            <a:ext cx="1584360" cy="36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2268360" y="1663560"/>
            <a:ext cx="41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Компютърни ресурс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2340000" y="3500280"/>
            <a:ext cx="122400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Verdana"/>
              </a:rPr>
              <a:t>Достъп до данн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Verdana"/>
              </a:rPr>
              <a:t>Обработка на данн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AutoShape 13"/>
          <p:cNvCxnSpPr>
            <a:stCxn id="569" idx="3"/>
          </p:cNvCxnSpPr>
          <p:nvPr/>
        </p:nvCxnSpPr>
        <p:spPr>
          <a:xfrm flipH="1">
            <a:off x="5317560" y="4076640"/>
            <a:ext cx="1154520" cy="2402640"/>
          </a:xfrm>
          <a:prstGeom prst="bentConnector4">
            <a:avLst>
              <a:gd name="adj1" fmla="val -124204"/>
              <a:gd name="adj2" fmla="val 158084"/>
            </a:avLst>
          </a:prstGeom>
          <a:ln w="0">
            <a:noFill/>
          </a:ln>
        </p:spPr>
      </p:cxnSp>
      <p:grpSp>
        <p:nvGrpSpPr>
          <p:cNvPr id="570" name="Group 14"/>
          <p:cNvGrpSpPr/>
          <p:nvPr/>
        </p:nvGrpSpPr>
        <p:grpSpPr>
          <a:xfrm>
            <a:off x="3780000" y="2276640"/>
            <a:ext cx="2663640" cy="3600360"/>
            <a:chOff x="3780000" y="2276640"/>
            <a:chExt cx="2663640" cy="3600360"/>
          </a:xfrm>
        </p:grpSpPr>
        <p:sp>
          <p:nvSpPr>
            <p:cNvPr id="569" name="Rectangle 15"/>
            <p:cNvSpPr/>
            <p:nvPr/>
          </p:nvSpPr>
          <p:spPr>
            <a:xfrm>
              <a:off x="3780000" y="2276640"/>
              <a:ext cx="2663640" cy="36003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6"/>
            <p:cNvSpPr/>
            <p:nvPr/>
          </p:nvSpPr>
          <p:spPr>
            <a:xfrm>
              <a:off x="4387320" y="2327400"/>
              <a:ext cx="153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000000"/>
                  </a:solidFill>
                  <a:latin typeface="Verdana"/>
                </a:rPr>
                <a:t>Моделиран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Oval 17"/>
            <p:cNvSpPr/>
            <p:nvPr/>
          </p:nvSpPr>
          <p:spPr>
            <a:xfrm>
              <a:off x="4259160" y="4941720"/>
              <a:ext cx="1733040" cy="863640"/>
            </a:xfrm>
            <a:prstGeom prst="ellipse">
              <a:avLst/>
            </a:prstGeom>
            <a:noFill/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8"/>
            <p:cNvSpPr/>
            <p:nvPr/>
          </p:nvSpPr>
          <p:spPr>
            <a:xfrm>
              <a:off x="3922560" y="2782800"/>
              <a:ext cx="230472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buClr>
                  <a:srgbClr val="000000"/>
                </a:buClr>
                <a:buFont typeface="Arial"/>
                <a:buChar char=" 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Създаване и/или усъвършенстване на различни времеви и пространствени разрез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19"/>
            <p:cNvSpPr/>
            <p:nvPr/>
          </p:nvSpPr>
          <p:spPr>
            <a:xfrm>
              <a:off x="4330440" y="4076640"/>
              <a:ext cx="1582560" cy="647640"/>
            </a:xfrm>
            <a:prstGeom prst="rect">
              <a:avLst/>
            </a:prstGeom>
            <a:noFill/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20"/>
            <p:cNvSpPr/>
            <p:nvPr/>
          </p:nvSpPr>
          <p:spPr>
            <a:xfrm>
              <a:off x="4402080" y="4116240"/>
              <a:ext cx="147744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buClr>
                  <a:srgbClr val="000000"/>
                </a:buClr>
                <a:buFont typeface="Arial"/>
                <a:buChar char=" 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bg-BG" sz="1600" spc="-1" strike="noStrike">
                  <a:solidFill>
                    <a:srgbClr val="000000"/>
                  </a:solidFill>
                  <a:latin typeface="Arial"/>
                </a:rPr>
                <a:t>Интегриране на моделит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21"/>
            <p:cNvSpPr/>
            <p:nvPr/>
          </p:nvSpPr>
          <p:spPr>
            <a:xfrm>
              <a:off x="3851280" y="2708280"/>
              <a:ext cx="2520360" cy="1081080"/>
            </a:xfrm>
            <a:prstGeom prst="ellipse">
              <a:avLst/>
            </a:prstGeom>
            <a:noFill/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22"/>
            <p:cNvSpPr/>
            <p:nvPr/>
          </p:nvSpPr>
          <p:spPr>
            <a:xfrm>
              <a:off x="5148000" y="3787920"/>
              <a:ext cx="0" cy="28872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23"/>
            <p:cNvSpPr/>
            <p:nvPr/>
          </p:nvSpPr>
          <p:spPr>
            <a:xfrm>
              <a:off x="5148000" y="4726080"/>
              <a:ext cx="0" cy="21564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24"/>
            <p:cNvSpPr/>
            <p:nvPr/>
          </p:nvSpPr>
          <p:spPr>
            <a:xfrm>
              <a:off x="4546440" y="5033880"/>
              <a:ext cx="122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buClr>
                  <a:srgbClr val="000000"/>
                </a:buClr>
                <a:buFont typeface="Arial"/>
                <a:buChar char=" 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Верифи-кация на моделит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0" name="AutoShape 25"/>
            <p:cNvCxnSpPr>
              <a:stCxn id="572" idx="7"/>
            </p:cNvCxnSpPr>
            <p:nvPr/>
          </p:nvCxnSpPr>
          <p:spPr>
            <a:xfrm flipH="1" flipV="1" rot="5400000">
              <a:off x="5207760" y="4030200"/>
              <a:ext cx="1550160" cy="489240"/>
            </a:xfrm>
            <a:prstGeom prst="bentConnector3">
              <a:avLst>
                <a:gd name="adj1" fmla="val -603"/>
              </a:avLst>
            </a:prstGeom>
            <a:ln w="28440">
              <a:solidFill>
                <a:srgbClr val="3399ff"/>
              </a:solidFill>
              <a:miter/>
              <a:tailEnd len="med" type="triangle" w="med"/>
            </a:ln>
          </p:spPr>
        </p:cxnSp>
      </p:grpSp>
      <p:sp>
        <p:nvSpPr>
          <p:cNvPr id="581" name="Text Box 26"/>
          <p:cNvSpPr/>
          <p:nvPr/>
        </p:nvSpPr>
        <p:spPr>
          <a:xfrm>
            <a:off x="7236000" y="2421000"/>
            <a:ext cx="1728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дравни служите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ол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27"/>
          <p:cNvSpPr/>
          <p:nvPr/>
        </p:nvSpPr>
        <p:spPr>
          <a:xfrm>
            <a:off x="108000" y="4148280"/>
            <a:ext cx="19620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ff"/>
                </a:solidFill>
                <a:latin typeface="Verdana"/>
              </a:rPr>
              <a:t>Паци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Специфични дан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изображ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клинич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8"/>
          <p:cNvSpPr/>
          <p:nvPr/>
        </p:nvSpPr>
        <p:spPr>
          <a:xfrm>
            <a:off x="34920" y="4149720"/>
            <a:ext cx="2016000" cy="18003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29"/>
          <p:cNvSpPr/>
          <p:nvPr/>
        </p:nvSpPr>
        <p:spPr>
          <a:xfrm rot="20246400">
            <a:off x="1763640" y="2781360"/>
            <a:ext cx="936720" cy="647640"/>
          </a:xfrm>
          <a:custGeom>
            <a:avLst/>
            <a:gdLst>
              <a:gd name="textAreaLeft" fmla="*/ 0 w 936720"/>
              <a:gd name="textAreaRight" fmla="*/ 937080 w 936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426" h="765">
                <a:moveTo>
                  <a:pt x="0" y="0"/>
                </a:moveTo>
                <a:cubicBezTo>
                  <a:pt x="89" y="16"/>
                  <a:pt x="361" y="45"/>
                  <a:pt x="534" y="98"/>
                </a:cubicBezTo>
                <a:cubicBezTo>
                  <a:pt x="707" y="151"/>
                  <a:pt x="910" y="235"/>
                  <a:pt x="1039" y="316"/>
                </a:cubicBezTo>
                <a:cubicBezTo>
                  <a:pt x="1168" y="397"/>
                  <a:pt x="1241" y="508"/>
                  <a:pt x="1306" y="583"/>
                </a:cubicBezTo>
                <a:cubicBezTo>
                  <a:pt x="1371" y="658"/>
                  <a:pt x="1401" y="727"/>
                  <a:pt x="1426" y="765"/>
                </a:cubicBezTo>
              </a:path>
            </a:pathLst>
          </a:custGeom>
          <a:noFill/>
          <a:ln w="228600">
            <a:solidFill>
              <a:srgbClr val="0099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30"/>
          <p:cNvSpPr/>
          <p:nvPr/>
        </p:nvSpPr>
        <p:spPr>
          <a:xfrm>
            <a:off x="2202840" y="227664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Управл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на даннит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31"/>
          <p:cNvSpPr/>
          <p:nvPr/>
        </p:nvSpPr>
        <p:spPr>
          <a:xfrm>
            <a:off x="3203640" y="4005360"/>
            <a:ext cx="1152360" cy="0"/>
          </a:xfrm>
          <a:prstGeom prst="line">
            <a:avLst/>
          </a:prstGeom>
          <a:ln w="228600">
            <a:solidFill>
              <a:srgbClr val="009999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reeform 32"/>
          <p:cNvSpPr/>
          <p:nvPr/>
        </p:nvSpPr>
        <p:spPr>
          <a:xfrm rot="8469000">
            <a:off x="1763280" y="4954320"/>
            <a:ext cx="936720" cy="593640"/>
          </a:xfrm>
          <a:custGeom>
            <a:avLst/>
            <a:gdLst>
              <a:gd name="textAreaLeft" fmla="*/ 0 w 936720"/>
              <a:gd name="textAreaRight" fmla="*/ 937080 w 93672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426" h="765">
                <a:moveTo>
                  <a:pt x="0" y="0"/>
                </a:moveTo>
                <a:cubicBezTo>
                  <a:pt x="89" y="16"/>
                  <a:pt x="361" y="45"/>
                  <a:pt x="534" y="98"/>
                </a:cubicBezTo>
                <a:cubicBezTo>
                  <a:pt x="707" y="151"/>
                  <a:pt x="910" y="235"/>
                  <a:pt x="1039" y="316"/>
                </a:cubicBezTo>
                <a:cubicBezTo>
                  <a:pt x="1168" y="397"/>
                  <a:pt x="1241" y="508"/>
                  <a:pt x="1306" y="583"/>
                </a:cubicBezTo>
                <a:cubicBezTo>
                  <a:pt x="1371" y="658"/>
                  <a:pt x="1401" y="727"/>
                  <a:pt x="1426" y="765"/>
                </a:cubicBezTo>
              </a:path>
            </a:pathLst>
          </a:custGeom>
          <a:noFill/>
          <a:ln w="228600">
            <a:solidFill>
              <a:srgbClr val="009999"/>
            </a:solidFill>
            <a:round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34"/>
          <p:cNvSpPr/>
          <p:nvPr/>
        </p:nvSpPr>
        <p:spPr>
          <a:xfrm>
            <a:off x="0" y="5950080"/>
            <a:ext cx="29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Предсказван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Ранна диагностик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35"/>
          <p:cNvSpPr/>
          <p:nvPr/>
        </p:nvSpPr>
        <p:spPr>
          <a:xfrm>
            <a:off x="7020000" y="16621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При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36"/>
          <p:cNvSpPr/>
          <p:nvPr/>
        </p:nvSpPr>
        <p:spPr>
          <a:xfrm>
            <a:off x="6516720" y="2276640"/>
            <a:ext cx="647640" cy="36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Клинично валидира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37"/>
          <p:cNvSpPr/>
          <p:nvPr/>
        </p:nvSpPr>
        <p:spPr>
          <a:xfrm>
            <a:off x="7164360" y="4653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38"/>
          <p:cNvSpPr/>
          <p:nvPr/>
        </p:nvSpPr>
        <p:spPr>
          <a:xfrm>
            <a:off x="7236000" y="4076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10"/>
          <p:cNvGrpSpPr/>
          <p:nvPr/>
        </p:nvGrpSpPr>
        <p:grpSpPr>
          <a:xfrm>
            <a:off x="0" y="0"/>
            <a:ext cx="9144000" cy="1220760"/>
            <a:chOff x="0" y="0"/>
            <a:chExt cx="9144000" cy="1220760"/>
          </a:xfrm>
        </p:grpSpPr>
        <p:sp>
          <p:nvSpPr>
            <p:cNvPr id="594" name="Rectangle 10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91372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5" name="Picture 5" descr="logo"/>
            <p:cNvPicPr/>
            <p:nvPr/>
          </p:nvPicPr>
          <p:blipFill>
            <a:blip r:embed="rId1"/>
            <a:stretch/>
          </p:blipFill>
          <p:spPr>
            <a:xfrm>
              <a:off x="7086600" y="0"/>
              <a:ext cx="2057400" cy="12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50920" y="380520"/>
            <a:ext cx="69134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Резултати от първия конкурс за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PH: 15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проек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7" name="Picture 3" descr=""/>
          <p:cNvPicPr/>
          <p:nvPr/>
        </p:nvPicPr>
        <p:blipFill>
          <a:blip r:embed="rId2"/>
          <a:stretch/>
        </p:blipFill>
        <p:spPr>
          <a:xfrm>
            <a:off x="5500800" y="2286000"/>
            <a:ext cx="1214280" cy="2890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3"/>
          <a:stretch/>
        </p:blipFill>
        <p:spPr>
          <a:xfrm>
            <a:off x="2571840" y="2214720"/>
            <a:ext cx="1285920" cy="303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Radical Stratos best"/>
          <p:cNvPicPr/>
          <p:nvPr/>
        </p:nvPicPr>
        <p:blipFill>
          <a:blip r:embed="rId4"/>
          <a:stretch/>
        </p:blipFill>
        <p:spPr>
          <a:xfrm>
            <a:off x="4071960" y="5715000"/>
            <a:ext cx="892080" cy="6429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"/>
          <p:cNvPicPr/>
          <p:nvPr/>
        </p:nvPicPr>
        <p:blipFill>
          <a:blip r:embed="rId5"/>
          <a:stretch/>
        </p:blipFill>
        <p:spPr>
          <a:xfrm>
            <a:off x="1857240" y="2857680"/>
            <a:ext cx="1355760" cy="3823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"/>
          <p:cNvPicPr/>
          <p:nvPr/>
        </p:nvPicPr>
        <p:blipFill>
          <a:blip r:embed="rId6"/>
          <a:stretch/>
        </p:blipFill>
        <p:spPr>
          <a:xfrm>
            <a:off x="2071800" y="5143680"/>
            <a:ext cx="1143000" cy="5428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" descr=""/>
          <p:cNvPicPr/>
          <p:nvPr/>
        </p:nvPicPr>
        <p:blipFill>
          <a:blip r:embed="rId7"/>
          <a:stretch/>
        </p:blipFill>
        <p:spPr>
          <a:xfrm>
            <a:off x="1643040" y="3571920"/>
            <a:ext cx="1285920" cy="6444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9" descr=""/>
          <p:cNvPicPr/>
          <p:nvPr/>
        </p:nvPicPr>
        <p:blipFill>
          <a:blip r:embed="rId8"/>
          <a:stretch/>
        </p:blipFill>
        <p:spPr>
          <a:xfrm>
            <a:off x="4071960" y="1857240"/>
            <a:ext cx="1071720" cy="5256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0" descr=""/>
          <p:cNvPicPr/>
          <p:nvPr/>
        </p:nvPicPr>
        <p:blipFill>
          <a:blip r:embed="rId9"/>
          <a:stretch/>
        </p:blipFill>
        <p:spPr>
          <a:xfrm>
            <a:off x="5357880" y="5500800"/>
            <a:ext cx="785880" cy="5983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1" descr="Imppactlogo_stein"/>
          <p:cNvPicPr/>
          <p:nvPr/>
        </p:nvPicPr>
        <p:blipFill>
          <a:blip r:embed="rId10"/>
          <a:stretch/>
        </p:blipFill>
        <p:spPr>
          <a:xfrm>
            <a:off x="6215040" y="5214960"/>
            <a:ext cx="819000" cy="3142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2" descr=""/>
          <p:cNvPicPr/>
          <p:nvPr/>
        </p:nvPicPr>
        <p:blipFill>
          <a:blip r:embed="rId11"/>
          <a:stretch/>
        </p:blipFill>
        <p:spPr>
          <a:xfrm>
            <a:off x="6500880" y="4500720"/>
            <a:ext cx="1143000" cy="3362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3" descr=""/>
          <p:cNvPicPr/>
          <p:nvPr/>
        </p:nvPicPr>
        <p:blipFill>
          <a:blip r:embed="rId12"/>
          <a:stretch/>
        </p:blipFill>
        <p:spPr>
          <a:xfrm>
            <a:off x="2786040" y="5643720"/>
            <a:ext cx="874800" cy="5000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7" descr="vphop_logo_text256"/>
          <p:cNvPicPr/>
          <p:nvPr/>
        </p:nvPicPr>
        <p:blipFill>
          <a:blip r:embed="rId13"/>
          <a:stretch/>
        </p:blipFill>
        <p:spPr>
          <a:xfrm>
            <a:off x="6572160" y="3214800"/>
            <a:ext cx="606600" cy="10713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http://hamam-project.org/html/img/hamam_logo.gif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000840" y="2786040"/>
            <a:ext cx="880920" cy="42876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22"/>
          <p:cNvSpPr/>
          <p:nvPr/>
        </p:nvSpPr>
        <p:spPr>
          <a:xfrm>
            <a:off x="0" y="64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Osaka"/>
                <a:hlinkClick r:id="rId16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Osaka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23" descr="http://www.vph-noe.eu/images/stories/euheart.pn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000160" y="4500720"/>
            <a:ext cx="714600" cy="6966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" descr="logo"/>
          <p:cNvPicPr/>
          <p:nvPr/>
        </p:nvPicPr>
        <p:blipFill>
          <a:blip r:embed="rId19"/>
          <a:stretch/>
        </p:blipFill>
        <p:spPr>
          <a:xfrm>
            <a:off x="3605040" y="3214800"/>
            <a:ext cx="2167200" cy="1285920"/>
          </a:xfrm>
          <a:prstGeom prst="rect">
            <a:avLst/>
          </a:prstGeom>
          <a:ln w="0">
            <a:noFill/>
          </a:ln>
        </p:spPr>
      </p:pic>
      <p:sp>
        <p:nvSpPr>
          <p:cNvPr id="613" name="TextBox 34"/>
          <p:cNvSpPr/>
          <p:nvPr/>
        </p:nvSpPr>
        <p:spPr>
          <a:xfrm>
            <a:off x="4000680" y="4500720"/>
            <a:ext cx="107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Networking No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35"/>
          <p:cNvSpPr/>
          <p:nvPr/>
        </p:nvSpPr>
        <p:spPr>
          <a:xfrm>
            <a:off x="7072200" y="3500280"/>
            <a:ext cx="107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Osteoporos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Box 36"/>
          <p:cNvSpPr/>
          <p:nvPr/>
        </p:nvSpPr>
        <p:spPr>
          <a:xfrm>
            <a:off x="6000840" y="5643720"/>
            <a:ext cx="1500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Alzheimer's/ BM &amp; diagnosis STR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Box 37"/>
          <p:cNvSpPr/>
          <p:nvPr/>
        </p:nvSpPr>
        <p:spPr>
          <a:xfrm>
            <a:off x="1571760" y="578628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Heart /CV disease STR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Box 38"/>
          <p:cNvSpPr/>
          <p:nvPr/>
        </p:nvSpPr>
        <p:spPr>
          <a:xfrm>
            <a:off x="7429680" y="4429080"/>
            <a:ext cx="107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Cancer STR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39"/>
          <p:cNvSpPr/>
          <p:nvPr/>
        </p:nvSpPr>
        <p:spPr>
          <a:xfrm>
            <a:off x="6500880" y="2214720"/>
            <a:ext cx="142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Liver surgery STR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0"/>
          <p:cNvSpPr/>
          <p:nvPr/>
        </p:nvSpPr>
        <p:spPr>
          <a:xfrm>
            <a:off x="500040" y="2857680"/>
            <a:ext cx="142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Heart/ LVD surgery  STR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1"/>
          <p:cNvSpPr/>
          <p:nvPr/>
        </p:nvSpPr>
        <p:spPr>
          <a:xfrm>
            <a:off x="571680" y="371484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Oral cancer/ BM D&amp;T STR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2"/>
          <p:cNvSpPr/>
          <p:nvPr/>
        </p:nvSpPr>
        <p:spPr>
          <a:xfrm>
            <a:off x="1071720" y="2214720"/>
            <a:ext cx="1500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CV/ Atheroschlerosis 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Box 43"/>
          <p:cNvSpPr/>
          <p:nvPr/>
        </p:nvSpPr>
        <p:spPr>
          <a:xfrm>
            <a:off x="6786720" y="2714760"/>
            <a:ext cx="142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Breast cancer/ diagnosis STR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45"/>
          <p:cNvSpPr/>
          <p:nvPr/>
        </p:nvSpPr>
        <p:spPr>
          <a:xfrm>
            <a:off x="500040" y="5214960"/>
            <a:ext cx="1643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Vascular/ AVF &amp; haemodialysis STR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46"/>
          <p:cNvSpPr/>
          <p:nvPr/>
        </p:nvSpPr>
        <p:spPr>
          <a:xfrm>
            <a:off x="7000920" y="5214960"/>
            <a:ext cx="1357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Liver cancer/RFA therapy STR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47"/>
          <p:cNvSpPr/>
          <p:nvPr/>
        </p:nvSpPr>
        <p:spPr>
          <a:xfrm>
            <a:off x="3857760" y="6427800"/>
            <a:ext cx="1500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Security and Privacy in VPH 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49"/>
          <p:cNvSpPr/>
          <p:nvPr/>
        </p:nvSpPr>
        <p:spPr>
          <a:xfrm>
            <a:off x="4000680" y="1428840"/>
            <a:ext cx="107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Grid access 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Box 50"/>
          <p:cNvSpPr/>
          <p:nvPr/>
        </p:nvSpPr>
        <p:spPr>
          <a:xfrm>
            <a:off x="857160" y="4643280"/>
            <a:ext cx="1276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Heart /CV disease STR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8" name="Straight Arrow Connector 54"/>
          <p:cNvCxnSpPr/>
          <p:nvPr/>
        </p:nvCxnSpPr>
        <p:spPr>
          <a:xfrm flipH="1">
            <a:off x="4642560" y="2499840"/>
            <a:ext cx="252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9" name="Straight Arrow Connector 60"/>
          <p:cNvCxnSpPr/>
          <p:nvPr/>
        </p:nvCxnSpPr>
        <p:spPr>
          <a:xfrm>
            <a:off x="5771880" y="385776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0" name="Straight Arrow Connector 61"/>
          <p:cNvCxnSpPr/>
          <p:nvPr/>
        </p:nvCxnSpPr>
        <p:spPr>
          <a:xfrm>
            <a:off x="2928600" y="392904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1" name="Straight Arrow Connector 62"/>
          <p:cNvCxnSpPr/>
          <p:nvPr/>
        </p:nvCxnSpPr>
        <p:spPr>
          <a:xfrm flipH="1">
            <a:off x="4571640" y="5214600"/>
            <a:ext cx="21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2" name="Straight Arrow Connector 65"/>
          <p:cNvCxnSpPr/>
          <p:nvPr/>
        </p:nvCxnSpPr>
        <p:spPr>
          <a:xfrm flipV="1">
            <a:off x="5072040" y="2857320"/>
            <a:ext cx="35784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3" name="Straight Arrow Connector 66"/>
          <p:cNvCxnSpPr/>
          <p:nvPr/>
        </p:nvCxnSpPr>
        <p:spPr>
          <a:xfrm flipV="1">
            <a:off x="3143160" y="4785480"/>
            <a:ext cx="35784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4" name="Straight Arrow Connector 68"/>
          <p:cNvCxnSpPr/>
          <p:nvPr/>
        </p:nvCxnSpPr>
        <p:spPr>
          <a:xfrm>
            <a:off x="3357720" y="3071880"/>
            <a:ext cx="3578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5" name="Straight Arrow Connector 69"/>
          <p:cNvCxnSpPr/>
          <p:nvPr/>
        </p:nvCxnSpPr>
        <p:spPr>
          <a:xfrm>
            <a:off x="5715000" y="4857840"/>
            <a:ext cx="3578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6" name="Straight Arrow Connector 72"/>
          <p:cNvCxnSpPr/>
          <p:nvPr/>
        </p:nvCxnSpPr>
        <p:spPr>
          <a:xfrm>
            <a:off x="3786120" y="2714760"/>
            <a:ext cx="2865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7" name="Straight Arrow Connector 73"/>
          <p:cNvCxnSpPr/>
          <p:nvPr/>
        </p:nvCxnSpPr>
        <p:spPr>
          <a:xfrm>
            <a:off x="5357880" y="5072040"/>
            <a:ext cx="2865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8" name="Straight Arrow Connector 75"/>
          <p:cNvCxnSpPr/>
          <p:nvPr/>
        </p:nvCxnSpPr>
        <p:spPr>
          <a:xfrm flipV="1">
            <a:off x="5428800" y="3214080"/>
            <a:ext cx="42948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9" name="Straight Arrow Connector 76"/>
          <p:cNvCxnSpPr/>
          <p:nvPr/>
        </p:nvCxnSpPr>
        <p:spPr>
          <a:xfrm flipV="1">
            <a:off x="2928600" y="4357080"/>
            <a:ext cx="42948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0" name="Straight Arrow Connector 78"/>
          <p:cNvCxnSpPr/>
          <p:nvPr/>
        </p:nvCxnSpPr>
        <p:spPr>
          <a:xfrm flipH="1">
            <a:off x="3642840" y="5071680"/>
            <a:ext cx="2865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1" name="Straight Arrow Connector 80"/>
          <p:cNvCxnSpPr/>
          <p:nvPr/>
        </p:nvCxnSpPr>
        <p:spPr>
          <a:xfrm>
            <a:off x="5928840" y="4500720"/>
            <a:ext cx="42948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42" name="TextBox 50"/>
          <p:cNvSpPr/>
          <p:nvPr/>
        </p:nvSpPr>
        <p:spPr>
          <a:xfrm>
            <a:off x="0" y="121428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ндуст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51"/>
          <p:cNvSpPr/>
          <p:nvPr/>
        </p:nvSpPr>
        <p:spPr>
          <a:xfrm>
            <a:off x="6500880" y="63961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ли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Box 52"/>
          <p:cNvSpPr/>
          <p:nvPr/>
        </p:nvSpPr>
        <p:spPr>
          <a:xfrm>
            <a:off x="468360" y="6396120"/>
            <a:ext cx="284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Reproduction from VPH No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51"/>
          <p:cNvSpPr/>
          <p:nvPr/>
        </p:nvSpPr>
        <p:spPr>
          <a:xfrm>
            <a:off x="5219640" y="1214280"/>
            <a:ext cx="42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арале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 VPH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оек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6" name="Straight Arrow Connector 54"/>
          <p:cNvCxnSpPr/>
          <p:nvPr/>
        </p:nvCxnSpPr>
        <p:spPr>
          <a:xfrm>
            <a:off x="1428840" y="1714680"/>
            <a:ext cx="4291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7" name="Straight Arrow Connector 55"/>
          <p:cNvCxnSpPr/>
          <p:nvPr/>
        </p:nvCxnSpPr>
        <p:spPr>
          <a:xfrm>
            <a:off x="7286760" y="6143760"/>
            <a:ext cx="4291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8" name="Straight Arrow Connector 59"/>
          <p:cNvCxnSpPr/>
          <p:nvPr/>
        </p:nvCxnSpPr>
        <p:spPr>
          <a:xfrm flipV="1">
            <a:off x="6286320" y="1714320"/>
            <a:ext cx="5007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9" name="Straight Arrow Connector 60"/>
          <p:cNvCxnSpPr/>
          <p:nvPr/>
        </p:nvCxnSpPr>
        <p:spPr>
          <a:xfrm flipV="1">
            <a:off x="785520" y="6000480"/>
            <a:ext cx="5007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50" name="Oval 59"/>
          <p:cNvSpPr/>
          <p:nvPr/>
        </p:nvSpPr>
        <p:spPr>
          <a:xfrm>
            <a:off x="324000" y="5084640"/>
            <a:ext cx="302400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0"/>
          <p:cNvSpPr/>
          <p:nvPr/>
        </p:nvSpPr>
        <p:spPr>
          <a:xfrm>
            <a:off x="900000" y="5661000"/>
            <a:ext cx="3024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1"/>
          <p:cNvSpPr/>
          <p:nvPr/>
        </p:nvSpPr>
        <p:spPr>
          <a:xfrm>
            <a:off x="250920" y="4437000"/>
            <a:ext cx="302400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2"/>
          <p:cNvSpPr/>
          <p:nvPr/>
        </p:nvSpPr>
        <p:spPr>
          <a:xfrm>
            <a:off x="324000" y="2708280"/>
            <a:ext cx="302400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3"/>
          <p:cNvSpPr/>
          <p:nvPr/>
        </p:nvSpPr>
        <p:spPr>
          <a:xfrm>
            <a:off x="971640" y="1989000"/>
            <a:ext cx="302400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4"/>
          <p:cNvSpPr/>
          <p:nvPr/>
        </p:nvSpPr>
        <p:spPr>
          <a:xfrm>
            <a:off x="250920" y="3573360"/>
            <a:ext cx="3024000" cy="720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5"/>
          <p:cNvSpPr/>
          <p:nvPr/>
        </p:nvSpPr>
        <p:spPr>
          <a:xfrm>
            <a:off x="5508720" y="2637000"/>
            <a:ext cx="3024000" cy="720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6"/>
          <p:cNvSpPr/>
          <p:nvPr/>
        </p:nvSpPr>
        <p:spPr>
          <a:xfrm>
            <a:off x="5867280" y="4292640"/>
            <a:ext cx="3024360" cy="720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7"/>
          <p:cNvSpPr/>
          <p:nvPr/>
        </p:nvSpPr>
        <p:spPr>
          <a:xfrm>
            <a:off x="5651640" y="5013360"/>
            <a:ext cx="3024000" cy="720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13412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Verdana"/>
              </a:rPr>
              <a:t>VPH</a:t>
            </a: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  - Конкурс </a:t>
            </a:r>
            <a:r>
              <a:rPr b="1" lang="fr-BE" sz="2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7138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Запазване на общите дългосрочни цели/визия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Verdana"/>
              </a:rPr>
              <a:t>Ранна диагностика</a:t>
            </a:r>
            <a:r>
              <a:rPr b="0" lang="en-GB" sz="1900" spc="-1" strike="noStrike">
                <a:solidFill>
                  <a:srgbClr val="333399"/>
                </a:solidFill>
                <a:latin typeface="Verdana"/>
              </a:rPr>
              <a:t> &amp; </a:t>
            </a:r>
            <a:r>
              <a:rPr b="0" lang="bg-BG" sz="1900" spc="-1" strike="noStrike">
                <a:solidFill>
                  <a:srgbClr val="333399"/>
                </a:solidFill>
                <a:latin typeface="Verdana"/>
              </a:rPr>
              <a:t>предсказваща медицин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Verdana"/>
              </a:rPr>
              <a:t>Персонализирани здравни решени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Със средствата н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Verdana"/>
              </a:rPr>
              <a:t>Моделиране</a:t>
            </a:r>
            <a:r>
              <a:rPr b="0" lang="en-GB" sz="1900" spc="-1" strike="noStrike">
                <a:solidFill>
                  <a:srgbClr val="333399"/>
                </a:solidFill>
                <a:latin typeface="Verdana"/>
              </a:rPr>
              <a:t> &amp; </a:t>
            </a:r>
            <a:r>
              <a:rPr b="0" lang="bg-BG" sz="1900" spc="-1" strike="noStrike">
                <a:solidFill>
                  <a:srgbClr val="333399"/>
                </a:solidFill>
                <a:latin typeface="Verdana"/>
              </a:rPr>
              <a:t>симулация на човешката физиология и процесите, свързани със заболяванет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Verdana"/>
              </a:rPr>
              <a:t>Засилване на средствата/инфраструктура за био-медицинските изследовател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VPH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през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20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Verdana"/>
              </a:rPr>
              <a:t>Конкурс 6 се открива на 24 ноември 2009 и приключва през април</a:t>
            </a:r>
            <a:r>
              <a:rPr b="0" lang="en-GB" sz="1900" spc="-1" strike="noStrike">
                <a:solidFill>
                  <a:srgbClr val="333399"/>
                </a:solidFill>
                <a:latin typeface="Verdana"/>
              </a:rPr>
              <a:t> 201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Verdana"/>
              </a:rPr>
              <a:t>Бюджет</a:t>
            </a:r>
            <a:r>
              <a:rPr b="0" lang="fr-BE" sz="1900" spc="-1" strike="noStrike">
                <a:solidFill>
                  <a:srgbClr val="333399"/>
                </a:solidFill>
                <a:latin typeface="Verdana"/>
              </a:rPr>
              <a:t> 63M€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13412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Цел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 5.3 VPH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   Конкурс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47760" y="1195560"/>
            <a:ext cx="825336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Очаквани цели и резултат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) </a:t>
            </a:r>
            <a:r>
              <a:rPr b="0" lang="bg-BG" sz="2000" spc="-1" strike="noStrike">
                <a:solidFill>
                  <a:srgbClr val="333399"/>
                </a:solidFill>
                <a:latin typeface="Verdana"/>
              </a:rPr>
              <a:t>Специфични за пациента компютърно базирани модели и симул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b) </a:t>
            </a:r>
            <a:r>
              <a:rPr b="0" lang="bg-BG" sz="2000" spc="-1" strike="noStrike">
                <a:solidFill>
                  <a:srgbClr val="333399"/>
                </a:solidFill>
                <a:latin typeface="Verdana"/>
              </a:rPr>
              <a:t>ИКТ средства, услуги и инфраструктури за биомедицинските изследовате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c) </a:t>
            </a:r>
            <a:r>
              <a:rPr b="0" lang="bg-BG" sz="2000" spc="-1" strike="noStrike">
                <a:solidFill>
                  <a:srgbClr val="333399"/>
                </a:solidFill>
                <a:latin typeface="Verdana"/>
              </a:rPr>
              <a:t>Оценка на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VPH </a:t>
            </a:r>
            <a:r>
              <a:rPr b="0" lang="bg-BG" sz="2000" spc="-1" strike="noStrike">
                <a:solidFill>
                  <a:srgbClr val="333399"/>
                </a:solidFill>
                <a:latin typeface="Verdana"/>
              </a:rPr>
              <a:t>проекти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 w.r.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d)</a:t>
            </a:r>
            <a:r>
              <a:rPr b="0" lang="bg-BG" sz="2000" spc="-1" strike="noStrike">
                <a:solidFill>
                  <a:srgbClr val="333399"/>
                </a:solidFill>
                <a:latin typeface="Verdana"/>
              </a:rPr>
              <a:t> Наблюдение върху постиженията и развитието на по-широко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BMI </a:t>
            </a:r>
            <a:r>
              <a:rPr b="0" lang="bg-BG" sz="2000" spc="-1" strike="noStrike">
                <a:solidFill>
                  <a:srgbClr val="333399"/>
                </a:solidFill>
                <a:latin typeface="Verdana"/>
              </a:rPr>
              <a:t>поле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 (</a:t>
            </a:r>
            <a:r>
              <a:rPr b="0" lang="bg-BG" sz="2000" spc="-1" strike="noStrike">
                <a:solidFill>
                  <a:srgbClr val="333399"/>
                </a:solidFill>
                <a:latin typeface="Verdana"/>
              </a:rPr>
              <a:t>напр. биоинформатика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, </a:t>
            </a:r>
            <a:r>
              <a:rPr b="0" lang="bg-BG" sz="2000" spc="-1" strike="noStrike">
                <a:solidFill>
                  <a:srgbClr val="333399"/>
                </a:solidFill>
                <a:latin typeface="Verdana"/>
              </a:rPr>
              <a:t>медицинска информатика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, </a:t>
            </a:r>
            <a:r>
              <a:rPr b="0" lang="bg-BG" sz="2000" spc="-1" strike="noStrike">
                <a:solidFill>
                  <a:srgbClr val="333399"/>
                </a:solidFill>
                <a:latin typeface="Verdana"/>
              </a:rPr>
              <a:t>неври-информатика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a) </a:t>
            </a:r>
            <a:r>
              <a:rPr b="0" lang="bg-BG" sz="2000" spc="-1" strike="noStrike">
                <a:solidFill>
                  <a:srgbClr val="333399"/>
                </a:solidFill>
                <a:latin typeface="Verdana"/>
              </a:rPr>
              <a:t>и</a:t>
            </a: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 b) IP/STREP 61M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c) SA 1M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d) CSA 1M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13412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Цел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 5.3 VPH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   Конкурс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47760" y="1195560"/>
            <a:ext cx="825336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Специфични за пациента компютърно базирани модели и симулаци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Модели и симулации на органи и систе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По-добро разбиране за функционирането на органите и патологията им с цел ранна диагностик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Специално внимание към интеграция на съществуващи модели; демонстрация на клинични резултати; събиране на данни и медицински, клинични и био изследвания; достъп до външни изчисляващи устройс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Не попадат в обхват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- предложения, които покриват само една биологична класифика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- подобряване на настоящи техники за обработка на медицински изображ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- моделиране на клинични процеси  и д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8:26:31Z</dcterms:created>
  <dc:creator>Benoit Goossens</dc:creator>
  <dc:description/>
  <dc:language>en-US</dc:language>
  <cp:lastModifiedBy>Owner</cp:lastModifiedBy>
  <dcterms:modified xsi:type="dcterms:W3CDTF">2009-11-21T09:42:41Z</dcterms:modified>
  <cp:revision>215</cp:revision>
  <dc:subject/>
  <dc:title>Présentation PowerPoint</dc:title>
</cp:coreProperties>
</file>