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DC8-68B1-4213-BFD6-73CE4ABE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59B-8D62-443B-898B-DD88B70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E75-7FFC-4529-A886-54DF43A1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A2E-63BD-4FF4-9BB8-B1130679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46B4-04C4-4B21-AD5D-7EF54E9F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5E5C-3D7D-408F-9A5C-7A003B2B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6F09-3BA5-41DE-BC22-8A69B8B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F548-B783-4DD4-8912-A8EBF414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A08E-0E4B-4782-AF03-3A14B471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43C6-35AF-489B-934A-1F55B328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9F4C-BBCD-4310-BD4E-F2286386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B89-EE66-4BBD-9CB5-4003310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C973-D50B-474B-9FDE-EC1D077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7923-E549-42EB-897F-479ED3B9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30E2-1268-454E-9C2F-9FDB733A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D0BF-A0A3-4D22-A1FD-E2A73E08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5148-84C9-42CF-8281-26C63C02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44E-8399-4823-AB54-325F4318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A16-7460-4977-8B71-88DCCEB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838-01CB-4D46-B6BD-B8BCF276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0E3-AC50-4FC8-9FE9-FA0DC2C7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886-22EB-4CB5-AC13-3EC7169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FB4-E06A-4B84-90E0-D9DD069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99B-C385-4E2C-BAD3-FB946EF9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C422-AE8C-4F92-9A54-37581EA4AB2A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3342-E885-48CC-B947-C56CE99530B1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1856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Информационен ден по Седма Рамкова Програма на ЕС</a:t>
            </a:r>
            <a:br>
              <a:rPr sz="2400"/>
            </a:b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24 ноември  2009 г.</a:t>
            </a:r>
            <a:r>
              <a:rPr b="0" i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9:3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Откри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н Първан Русинов, заместник министър на транспорта, информационните технологии и съобщения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Д-р инж. Румен Трифонов, Директор КЦИК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</a:rPr>
              <a:t>Шеста конкурсна сесия по тема ИКТ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9:35 – 09:5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глед на тематиката на шести конк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9:5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:0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дизвикателство 2: Когнитивни системи и роб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0:00 – 10: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извикателство 4: Цифрови библиотеки и  съдъ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0: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 – 10:4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Кафе п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0:40 – 11: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дизвикателство 5:  Устойчиво и персонализирано здравеопаз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Мариета Попова, НКЛ по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1:00 – 11: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Предизвикателство 6: ИКТ за мобилност, устойчива околна среда и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Мариета Попова, НКЛ по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1:20 – 11:4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Бъдещи и нововъзникващи технологии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Тотка Чернаева, Член на Програмния комитет на ИКТ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1:40 –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: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Хоризонтални действия в 7РП. Синергии между 7РП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P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и структурните фонд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Мариета Попова, НКЛ по ИКТ/7РП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00 – 12: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Въпроси и отгов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и „Наука в обществото” и „Социално-икономически и хуманитарни науки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20 – 12:4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Отворени конкурси по тема „Наука в обществото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Ели Канева, Член на програмния комитет на „Наука в обществото”/7РП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40 – 12:5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Отворени конкурси по тема „Социално-икономически и хуманитарни науки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bg-BG" sz="1200" spc="-1" strike="noStrike">
                <a:solidFill>
                  <a:srgbClr val="000000"/>
                </a:solidFill>
                <a:latin typeface="Times New Roman"/>
              </a:rPr>
              <a:t>Г-жа Ели Канева, НКЛ по СИХН/7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12:50 – 13:0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</a:rPr>
              <a:t>Въпроси и отгов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0:05:30Z</dcterms:created>
  <dc:creator>kaneva</dc:creator>
  <dc:description/>
  <dc:language>en-US</dc:language>
  <cp:lastModifiedBy>kaneva</cp:lastModifiedBy>
  <dcterms:modified xsi:type="dcterms:W3CDTF">2009-11-23T10:07:40Z</dcterms:modified>
  <cp:revision>2</cp:revision>
  <dc:subject/>
  <dc:title>Информационен ден по Седма Рамкова Програма на ЕС 24 ноември  2009 г. </dc:title>
</cp:coreProperties>
</file>