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802CA-0B12-4E58-9257-60650CBD4F07}" type="slidenum">
              <a:rPr b="0" lang="bg-BG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201680" y="717480"/>
            <a:ext cx="4494240" cy="337032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28800" y="4375080"/>
            <a:ext cx="5037120" cy="40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PEN FOR ONLY 1 ACTION LINE, 1 TOP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201680" y="717480"/>
            <a:ext cx="4494240" cy="337032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28800" y="4375080"/>
            <a:ext cx="5037120" cy="40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PEN FOR ONLY 1 ACTION LINE, 1 TOP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201680" y="717480"/>
            <a:ext cx="4494240" cy="337032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28800" y="4375080"/>
            <a:ext cx="5037120" cy="40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pdated 3/10/2006 – added “over period” to second point; changed basic research budget to 1 billion from 1.5 bill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pdated 6/10/2006 after review by P. Amor – replaced second point to exclude value and changed “doubles over period” to “increased significantly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Updated per Lars Aggerbeck 10/10/2006 – added sub-point to first ar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Action lines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4BC55-F540-4C64-BF8D-09F0B7FE4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A8DE2-6FBB-4B72-A01D-69B44EB2B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1FCD3-B0CA-4BB7-B85D-D8C0F51F9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E8E13-C6DD-4DF6-B5EB-73EAD295A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13B0E-1B54-43D5-B198-63C938F62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2972D-ECE6-4A10-97F9-EEF43F549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CFF83-8A14-45B4-8D39-2BEB75D1F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E2E4F-9E74-4C2A-8518-508356522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AC19C-A47A-4832-87D4-4E6AF1C57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D7E83-56C6-4E10-B170-9EF15FB7E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8CAA0-A60E-42D2-9967-4E3090D3E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A9F7C-B708-47AA-8815-DAD692C1C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AD825-81C8-4E64-A2AA-6DC1E3CC5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9A873-AEBB-4861-B76A-BC9E69DE6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B1F80-1DEF-45CC-AE13-73D522245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F8934-C894-415B-9298-6E854747D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18254-3BBF-48B9-B6A6-1C95FBCC9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E8437-EAFF-413D-9A4B-630B7602B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E3D86-B874-4755-897D-7412BEE45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9CD8F-DAC5-4702-BAAB-943F95DBD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7B8CF-CE3D-4B6F-8011-355E65AB3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A96EB-D6D2-4857-A6F3-7FE54EA85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C515B-3132-4C38-8FD7-44842F95A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E7CE3-4A38-43E9-9AFA-C27D55E04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F221B-98A9-4AE9-A8E2-8E0722494C46}" type="slidenum">
              <a:rPr b="0" lang="bg-BG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57F59-2D2D-4C10-83F3-4458467B51D2}" type="slidenum">
              <a:rPr b="0" lang="bg-BG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cordis.europa.eu/fp7" TargetMode="External"/><Relationship Id="rId2" Type="http://schemas.openxmlformats.org/officeDocument/2006/relationships/hyperlink" Target="http://cordis.europa.eu/fp7" TargetMode="External"/><Relationship Id="rId3" Type="http://schemas.openxmlformats.org/officeDocument/2006/relationships/hyperlink" Target="http://cordis.europa.eu/fp7" TargetMode="External"/><Relationship Id="rId4" Type="http://schemas.openxmlformats.org/officeDocument/2006/relationships/hyperlink" Target="http://cordis.europa.eu/fp7" TargetMode="External"/><Relationship Id="rId5" Type="http://schemas.openxmlformats.org/officeDocument/2006/relationships/hyperlink" Target="http://cordis.europa.eu/fp7" TargetMode="External"/><Relationship Id="rId6" Type="http://schemas.openxmlformats.org/officeDocument/2006/relationships/hyperlink" Target="http://cordis.europa.eu/fp7" TargetMode="External"/><Relationship Id="rId7" Type="http://schemas.openxmlformats.org/officeDocument/2006/relationships/hyperlink" Target="http://cordis.europa.eu/fp7" TargetMode="External"/><Relationship Id="rId8" Type="http://schemas.openxmlformats.org/officeDocument/2006/relationships/hyperlink" Target="http://cordis.europa.eu/fp7/dc/index.cfm?fuseaction=UserSite.CapacitiesDetailsCallPage&amp;call_id=271" TargetMode="External"/><Relationship Id="rId9" Type="http://schemas.openxmlformats.org/officeDocument/2006/relationships/hyperlink" Target="http://cordis.europa.eu/fp7/partners_en.html" TargetMode="External"/><Relationship Id="rId10" Type="http://schemas.openxmlformats.org/officeDocument/2006/relationships/hyperlink" Target="http://cordis.europa.eu/fp7/partners_en.html" TargetMode="External"/><Relationship Id="rId11" Type="http://schemas.openxmlformats.org/officeDocument/2006/relationships/hyperlink" Target="http://www.nsfb.net/" TargetMode="External"/><Relationship Id="rId12" Type="http://schemas.openxmlformats.org/officeDocument/2006/relationships/hyperlink" Target="http://7fp.mon.bg/" TargetMode="External"/><Relationship Id="rId1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mailto:kaneva@daits.government.bg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900000" y="3499920"/>
            <a:ext cx="7632720" cy="25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Times New Roman"/>
              </a:rPr>
              <a:t>ЕЛИ КАНЕВ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Times New Roman"/>
              </a:rPr>
              <a:t>МИНИСТЕРСТВО НА ТРАНСПОРТА, ИНФОРМАЦИОННИТЕ ТЕХНОЛОГИИ И СЪОБЩЕНИЯ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Times New Roman"/>
              </a:rPr>
              <a:t>Национален делегат в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S P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title"/>
          </p:nvPr>
        </p:nvSpPr>
        <p:spPr>
          <a:xfrm>
            <a:off x="-360" y="333000"/>
            <a:ext cx="8893080" cy="23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bg-BG" sz="3200" spc="-1" strike="noStrike">
                <a:solidFill>
                  <a:srgbClr val="ccecff"/>
                </a:solidFill>
                <a:latin typeface="Times New Roman"/>
              </a:rPr>
              <a:t>ОТВОРЕНИ КОНКУРСИ </a:t>
            </a:r>
            <a:br>
              <a:rPr sz="3200"/>
            </a:br>
            <a:r>
              <a:rPr b="0" lang="bg-BG" sz="3200" spc="-1" strike="noStrike">
                <a:solidFill>
                  <a:srgbClr val="ccecff"/>
                </a:solidFill>
                <a:latin typeface="Times New Roman"/>
              </a:rPr>
              <a:t> “НАУКА В ОБЩЕСТВОТО” (</a:t>
            </a: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iS</a:t>
            </a:r>
            <a:r>
              <a:rPr b="0" lang="bg-BG" sz="3200" spc="-1" strike="noStrike">
                <a:solidFill>
                  <a:srgbClr val="ccecff"/>
                </a:solidFill>
                <a:latin typeface="Times New Roman"/>
              </a:rPr>
              <a:t>)</a:t>
            </a:r>
            <a:br>
              <a:rPr sz="3200"/>
            </a:b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P 7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8360" y="-3524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g-BG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250920" y="549360"/>
            <a:ext cx="864216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7451640" y="5589720"/>
            <a:ext cx="1552680" cy="1095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8" name=""/>
          <p:cNvGraphicFramePr/>
          <p:nvPr/>
        </p:nvGraphicFramePr>
        <p:xfrm>
          <a:off x="250920" y="404640"/>
          <a:ext cx="8713800" cy="6448680"/>
        </p:xfrm>
        <a:graphic>
          <a:graphicData uri="http://schemas.openxmlformats.org/drawingml/2006/table">
            <a:tbl>
              <a:tblPr/>
              <a:tblGrid>
                <a:gridCol w="2905200"/>
                <a:gridCol w="2903400"/>
                <a:gridCol w="2905200"/>
              </a:tblGrid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ДЕЙНОСТ/ ОБЛАС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ТЕМ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Финансови схем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280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CTION LINE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r>
                        <a:rPr b="1" lang="bg-BG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:Укрепване на потенциала, разширяване на хоризонтит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260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800" spc="-1" strike="noStrike">
                          <a:solidFill>
                            <a:srgbClr val="99ff99"/>
                          </a:solidFill>
                          <a:latin typeface="Times New Roman"/>
                        </a:rPr>
                        <a:t>Дейност 5.2.</a:t>
                      </a:r>
                      <a:r>
                        <a:rPr b="1" lang="en-US" sz="1800" spc="-1" strike="noStrike">
                          <a:solidFill>
                            <a:srgbClr val="99ff99"/>
                          </a:solidFill>
                          <a:latin typeface="Times New Roman"/>
                        </a:rPr>
                        <a:t>2: </a:t>
                      </a:r>
                      <a:r>
                        <a:rPr b="1" lang="bg-BG" sz="1800" spc="-1" strike="noStrike">
                          <a:solidFill>
                            <a:srgbClr val="99ff99"/>
                          </a:solidFill>
                          <a:latin typeface="Times New Roman"/>
                        </a:rPr>
                        <a:t>Младите хора и науката</a:t>
                      </a:r>
                      <a:r>
                        <a:rPr b="1" lang="bg-BG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(EUR 8.25 million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8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Област 5.2.2.1 Подкрепа на формалното и неформалното научно образование в училищата, както и в научните центрове и музеит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Тема SiS-2010-2.2.1-1.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bg-BG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Дейности по координация и подкрепа за иновативни методи в научното образование: обучение на учител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SA (Supporting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5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Област 5.2.2.3 Изследователски и координационни действия, свързани с нови методи в научното образование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Тема  SiS-2010-2.2.3-1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bg-BG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аучни учебни планове и техните цели: балансиране на нуждите между обучение за бъдещи учени и по-широки социални  нужд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ъвместни проекти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</a:t>
                      </a:r>
                      <a:r>
                        <a:rPr b="0" lang="bg-BG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малки или средни по размер фокусирани проекти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68360" y="-3524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g-BG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250920" y="549360"/>
            <a:ext cx="864216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7451640" y="5589720"/>
            <a:ext cx="1552680" cy="1095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2" name=""/>
          <p:cNvGraphicFramePr/>
          <p:nvPr/>
        </p:nvGraphicFramePr>
        <p:xfrm>
          <a:off x="250920" y="404640"/>
          <a:ext cx="8713800" cy="3559320"/>
        </p:xfrm>
        <a:graphic>
          <a:graphicData uri="http://schemas.openxmlformats.org/drawingml/2006/table">
            <a:tbl>
              <a:tblPr/>
              <a:tblGrid>
                <a:gridCol w="2905200"/>
                <a:gridCol w="2903400"/>
                <a:gridCol w="2905200"/>
              </a:tblGrid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ДЕЙНОСТ/ОБЛАС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ТЕМ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ФИНАНСОВИ СХЕМ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54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2400" spc="-1" strike="noStrike">
                          <a:solidFill>
                            <a:srgbClr val="99ff99"/>
                          </a:solidFill>
                          <a:latin typeface="Times New Roman"/>
                        </a:rPr>
                        <a:t>ACTION LINE </a:t>
                      </a:r>
                      <a:r>
                        <a:rPr b="1" lang="en-US" sz="2400" spc="-1" strike="noStrike">
                          <a:solidFill>
                            <a:srgbClr val="99ff99"/>
                          </a:solidFill>
                          <a:latin typeface="Times New Roman"/>
                        </a:rPr>
                        <a:t>3</a:t>
                      </a:r>
                      <a:r>
                        <a:rPr b="1" lang="bg-BG" sz="2400" spc="-1" strike="noStrike">
                          <a:solidFill>
                            <a:srgbClr val="99ff99"/>
                          </a:solidFill>
                          <a:latin typeface="Times New Roman"/>
                        </a:rPr>
                        <a:t>:</a:t>
                      </a:r>
                      <a:r>
                        <a:rPr b="1" lang="en-US" sz="2400" spc="-1" strike="noStrike">
                          <a:solidFill>
                            <a:srgbClr val="99ff99"/>
                          </a:solidFill>
                          <a:latin typeface="Times New Roman"/>
                        </a:rPr>
                        <a:t> </a:t>
                      </a:r>
                      <a:r>
                        <a:rPr b="1" lang="bg-BG" sz="2400" spc="-1" strike="noStrike">
                          <a:solidFill>
                            <a:srgbClr val="99ff99"/>
                          </a:solidFill>
                          <a:latin typeface="Times New Roman"/>
                        </a:rPr>
                        <a:t>Комуникацията между Науката и обществото (индикативен бюджет 2.5 млн. евро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2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Област 5.3.0.3 – Насърчаване на европейското измерение при организиране на  научните събития, насочени към общественостт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Тема SiS-2010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</a:t>
                      </a:r>
                      <a:r>
                        <a:rPr b="0" lang="bg-BG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.0.3-1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ауката и изкуството: експериментален подход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SA (дейности по подкрепа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0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g-BG" sz="40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54" name=""/>
          <p:cNvGraphicFramePr/>
          <p:nvPr/>
        </p:nvGraphicFramePr>
        <p:xfrm>
          <a:off x="395280" y="836640"/>
          <a:ext cx="8229600" cy="4859280"/>
        </p:xfrm>
        <a:graphic>
          <a:graphicData uri="http://schemas.openxmlformats.org/drawingml/2006/table">
            <a:tbl>
              <a:tblPr/>
              <a:tblGrid>
                <a:gridCol w="3816360"/>
                <a:gridCol w="4413240"/>
              </a:tblGrid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Финансови схеми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инимални изисква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9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ъвместни проект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малки или средни по размер научни проекти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ай-малко 3 независими ЮЛ, създадени в 3 различни  MS или AC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74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ъвместни изследователски проекти за специфични дейности за сътрудничество, насочени към международно сътрудничество с партньорски страни извън ЕС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ай-малко 4 независими ЮЛ. От тях 2 трябва да са създадени в 2 различни MS или AC. Останалите 2 трябва да са създадени в различни партньорски страни извън ЕС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0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Дейности по координация и подкрепа (дейности по подкрепа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ай-малко 1 независимо ЮЛ, създадено в MS или AC (допълнителни изисквания – в документацията за конкурса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g-BG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Arial"/>
              </a:rPr>
              <a:t>Оценките на предложенията за проекти се очаква да бъдат през април 2010 г., </a:t>
            </a:r>
            <a:r>
              <a:rPr b="0" lang="bg-BG" sz="3200" spc="-1" strike="noStrike">
                <a:solidFill>
                  <a:srgbClr val="ffffff"/>
                </a:solidFill>
                <a:latin typeface="Arial"/>
              </a:rPr>
              <a:t>подписване на първото споразумение за грант – юли 2010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7451640" y="5589720"/>
            <a:ext cx="1552680" cy="109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4400" spc="-1" strike="noStrike">
                <a:solidFill>
                  <a:srgbClr val="ff0066"/>
                </a:solidFill>
                <a:latin typeface="Arial"/>
              </a:rPr>
              <a:t>Call FP7-S</a:t>
            </a:r>
            <a:r>
              <a:rPr b="0" i="1" lang="en-US" sz="4400" spc="-1" strike="noStrike">
                <a:solidFill>
                  <a:srgbClr val="ff0066"/>
                </a:solidFill>
                <a:latin typeface="Arial"/>
              </a:rPr>
              <a:t>iS</a:t>
            </a:r>
            <a:r>
              <a:rPr b="0" i="1" lang="bg-BG" sz="4400" spc="-1" strike="noStrike">
                <a:solidFill>
                  <a:srgbClr val="ff0066"/>
                </a:solidFill>
                <a:latin typeface="Arial"/>
              </a:rPr>
              <a:t>-2010-</a:t>
            </a:r>
            <a:r>
              <a:rPr b="0" i="1" lang="en-US" sz="4400" spc="-1" strike="noStrike">
                <a:solidFill>
                  <a:srgbClr val="ff0066"/>
                </a:solidFill>
                <a:latin typeface="Arial"/>
              </a:rPr>
              <a:t>UNIV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68360" y="2205000"/>
            <a:ext cx="82296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all identifier: FP7-SCIENCE-IN-SOCIETY-2010-UNIV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bg-BG" sz="2800" spc="-1" strike="noStrike">
                <a:solidFill>
                  <a:srgbClr val="ffffff"/>
                </a:solidFill>
                <a:latin typeface="Arial"/>
              </a:rPr>
              <a:t>Дата на публикуване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 30 </a:t>
            </a:r>
            <a:r>
              <a:rPr b="0" lang="bg-BG" sz="2800" spc="-1" strike="noStrike">
                <a:solidFill>
                  <a:srgbClr val="ffffff"/>
                </a:solidFill>
                <a:latin typeface="Arial"/>
              </a:rPr>
              <a:t>юли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200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ffffff"/>
                </a:solidFill>
                <a:latin typeface="Arial"/>
              </a:rPr>
              <a:t>Крайна дата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*: 2 </a:t>
            </a:r>
            <a:r>
              <a:rPr b="0" lang="bg-BG" sz="2800" spc="-1" strike="noStrike">
                <a:solidFill>
                  <a:srgbClr val="ffffff"/>
                </a:solidFill>
                <a:latin typeface="Arial"/>
              </a:rPr>
              <a:t>декември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2009</a:t>
            </a:r>
            <a:r>
              <a:rPr b="0" lang="bg-BG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17.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ffffff"/>
                </a:solidFill>
                <a:latin typeface="Arial"/>
              </a:rPr>
              <a:t>Индикативен бюджет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 2.50</a:t>
            </a:r>
            <a:r>
              <a:rPr b="0" lang="bg-BG" sz="2800" spc="-1" strike="noStrike">
                <a:solidFill>
                  <a:srgbClr val="ffffff"/>
                </a:solidFill>
                <a:latin typeface="Arial"/>
              </a:rPr>
              <a:t> млн. евр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* </a:t>
            </a:r>
            <a:r>
              <a:rPr b="0" i="1" lang="en-GB" sz="2400" spc="-1" strike="noStrike">
                <a:solidFill>
                  <a:srgbClr val="ffffff"/>
                </a:solidFill>
                <a:latin typeface="Times New Roman"/>
              </a:rPr>
              <a:t>The Director General responsible may delay this deadline by up to two month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7451640" y="5589720"/>
            <a:ext cx="1552680" cy="109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68360" y="-3524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g-BG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50920" y="549360"/>
            <a:ext cx="864216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63" name=""/>
          <p:cNvGraphicFramePr/>
          <p:nvPr/>
        </p:nvGraphicFramePr>
        <p:xfrm>
          <a:off x="179280" y="836640"/>
          <a:ext cx="8713800" cy="4463640"/>
        </p:xfrm>
        <a:graphic>
          <a:graphicData uri="http://schemas.openxmlformats.org/drawingml/2006/table">
            <a:tbl>
              <a:tblPr/>
              <a:tblGrid>
                <a:gridCol w="2905200"/>
                <a:gridCol w="2903400"/>
                <a:gridCol w="2905200"/>
              </a:tblGrid>
              <a:tr h="47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ДЕЙНОСТ/ОБЛАС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ТЕМ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Финансови схем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3952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CTION LINE 1: По-динамично управление на връзката между науката и обществото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18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ff99"/>
                          </a:solidFill>
                          <a:latin typeface="Times New Roman"/>
                        </a:rPr>
                        <a:t>Дейност 5.1.4 Развиващата се роля на университетит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индикативен бюджет 2.5 млн. евро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38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Тема SiS-2010-1.4-2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Ролята на университетите в процеса към развитие на общество, базирано на знаният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SA (дейности по подкрепа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0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g-BG" sz="40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65" name=""/>
          <p:cNvGraphicFramePr/>
          <p:nvPr/>
        </p:nvGraphicFramePr>
        <p:xfrm>
          <a:off x="395280" y="836640"/>
          <a:ext cx="8229600" cy="5545080"/>
        </p:xfrm>
        <a:graphic>
          <a:graphicData uri="http://schemas.openxmlformats.org/drawingml/2006/table">
            <a:tbl>
              <a:tblPr/>
              <a:tblGrid>
                <a:gridCol w="2376360"/>
                <a:gridCol w="5853240"/>
              </a:tblGrid>
              <a:tr h="1219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Финансова схем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инимални изисква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2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Дейности по координация и подкреп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Дейности по подкрепа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ай-малко 1 ЮЛ, създадено в страна-членка или АС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bg-BG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опълнителни критерии за избираемос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ай-малко 3 независими ЮЛ, създадени в 3 различни страни-членки  или АС. Максималната продължителност на проекта трябва да бъде 2 години, максималното искане за финансова подкрепа – 600 000 евро за проект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g-BG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Arial"/>
              </a:rPr>
              <a:t>Оценките на предложенията за проекти се очакват февруари 2010 г., </a:t>
            </a:r>
            <a:r>
              <a:rPr b="0" lang="bg-BG" sz="3200" spc="-1" strike="noStrike">
                <a:solidFill>
                  <a:srgbClr val="ffffff"/>
                </a:solidFill>
                <a:latin typeface="Arial"/>
              </a:rPr>
              <a:t>подписване на първото споразумение за грант – юни 2010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7451640" y="5589720"/>
            <a:ext cx="1552680" cy="109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4400" spc="-1" strike="noStrike">
                <a:solidFill>
                  <a:srgbClr val="ff0066"/>
                </a:solidFill>
                <a:latin typeface="Arial"/>
              </a:rPr>
              <a:t>Call FP7-S</a:t>
            </a:r>
            <a:r>
              <a:rPr b="0" i="1" lang="en-US" sz="4400" spc="-1" strike="noStrike">
                <a:solidFill>
                  <a:srgbClr val="ff0066"/>
                </a:solidFill>
                <a:latin typeface="Arial"/>
              </a:rPr>
              <a:t>iS</a:t>
            </a:r>
            <a:r>
              <a:rPr b="0" i="1" lang="bg-BG" sz="4400" spc="-1" strike="noStrike">
                <a:solidFill>
                  <a:srgbClr val="ff0066"/>
                </a:solidFill>
                <a:latin typeface="Arial"/>
              </a:rPr>
              <a:t>-2010-</a:t>
            </a:r>
            <a:r>
              <a:rPr b="0" i="1" lang="en-US" sz="4400" spc="-1" strike="noStrike">
                <a:solidFill>
                  <a:srgbClr val="ff0066"/>
                </a:solidFill>
                <a:latin typeface="Arial"/>
              </a:rPr>
              <a:t>CAREER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68360" y="2205000"/>
            <a:ext cx="82296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all identifier: FP7-SCIENCE-IN-SOCIETY-2010-CARE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ffffff"/>
                </a:solidFill>
                <a:latin typeface="Arial"/>
              </a:rPr>
              <a:t>Дата на публикуване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 30 </a:t>
            </a:r>
            <a:r>
              <a:rPr b="0" lang="bg-BG" sz="2800" spc="-1" strike="noStrike">
                <a:solidFill>
                  <a:srgbClr val="ffffff"/>
                </a:solidFill>
                <a:latin typeface="Arial"/>
              </a:rPr>
              <a:t>юли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200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ffffff"/>
                </a:solidFill>
                <a:latin typeface="Arial"/>
              </a:rPr>
              <a:t>Крайна дата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*: 21 </a:t>
            </a:r>
            <a:r>
              <a:rPr b="0" lang="bg-BG" sz="2800" spc="-1" strike="noStrike">
                <a:solidFill>
                  <a:srgbClr val="ffffff"/>
                </a:solidFill>
                <a:latin typeface="Arial"/>
              </a:rPr>
              <a:t>януари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2010</a:t>
            </a:r>
            <a:r>
              <a:rPr b="0" lang="bg-BG" sz="2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17.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bg-BG" sz="2800" spc="-1" strike="noStrike">
                <a:solidFill>
                  <a:srgbClr val="ffffff"/>
                </a:solidFill>
                <a:latin typeface="Arial"/>
              </a:rPr>
              <a:t>Индикативен бюджет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 4</a:t>
            </a:r>
            <a:r>
              <a:rPr b="0" lang="bg-BG" sz="2800" spc="-1" strike="noStrike">
                <a:solidFill>
                  <a:srgbClr val="ffffff"/>
                </a:solidFill>
                <a:latin typeface="Arial"/>
              </a:rPr>
              <a:t> млн. евр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* </a:t>
            </a:r>
            <a:r>
              <a:rPr b="0" i="1" lang="en-GB" sz="2400" spc="-1" strike="noStrike">
                <a:solidFill>
                  <a:srgbClr val="ffffff"/>
                </a:solidFill>
                <a:latin typeface="Times New Roman"/>
              </a:rPr>
              <a:t>The Director General responsible may delay this deadline by up to two month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7451640" y="5589720"/>
            <a:ext cx="1552680" cy="109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68360" y="-3524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g-BG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250920" y="549360"/>
            <a:ext cx="864216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7451640" y="5589720"/>
            <a:ext cx="1552680" cy="1095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75" name=""/>
          <p:cNvGraphicFramePr/>
          <p:nvPr/>
        </p:nvGraphicFramePr>
        <p:xfrm>
          <a:off x="179280" y="981000"/>
          <a:ext cx="8713800" cy="3589560"/>
        </p:xfrm>
        <a:graphic>
          <a:graphicData uri="http://schemas.openxmlformats.org/drawingml/2006/table">
            <a:tbl>
              <a:tblPr/>
              <a:tblGrid>
                <a:gridCol w="2905200"/>
                <a:gridCol w="2903400"/>
                <a:gridCol w="290520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ДЕЙНОСТ/ОБЛАС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ТЕМ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Финансови схем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CTION LINE 2: Укрепване на потенциала, разширяване на хоризонтит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99ff99"/>
                          </a:solidFill>
                          <a:latin typeface="Times New Roman"/>
                        </a:rPr>
                        <a:t>Дейност 5.2.2 Младите хора и науката (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индикативен бюджет 4 млн. евро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874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Тема 5.2.2.2 Засилване връзките между научното образование и научните кариер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SA (дейности по подкрепа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Times New Roman"/>
              </a:rPr>
              <a:t>Програма “Капацитети”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3068280"/>
            <a:ext cx="8229600" cy="30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рограмата е насочена към повишаване на научния и иновативен капацитет в цяла Европ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7451640" y="5589720"/>
            <a:ext cx="1552680" cy="109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0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g-BG" sz="40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77" name=""/>
          <p:cNvGraphicFramePr/>
          <p:nvPr/>
        </p:nvGraphicFramePr>
        <p:xfrm>
          <a:off x="395280" y="836640"/>
          <a:ext cx="8229600" cy="5544720"/>
        </p:xfrm>
        <a:graphic>
          <a:graphicData uri="http://schemas.openxmlformats.org/drawingml/2006/table">
            <a:tbl>
              <a:tblPr/>
              <a:tblGrid>
                <a:gridCol w="2376360"/>
                <a:gridCol w="5853240"/>
              </a:tblGrid>
              <a:tr h="1218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Финансова схем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инимални изисква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2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Дейности по координация и подкреп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дейности по подкрепа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ай-малко 1 независимо ЮЛ, създадено в MS или AС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bg-BG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опълнителни критерии за избираемос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bg-BG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инималният брой на участниците – 3 независими ЮЛ, създадени в 3 различни страни-членки </a:t>
                      </a:r>
                      <a:r>
                        <a:rPr b="0" lang="bg-BG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или АС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78" name="" descr=""/>
          <p:cNvPicPr/>
          <p:nvPr/>
        </p:nvPicPr>
        <p:blipFill>
          <a:blip r:embed="rId1"/>
          <a:stretch/>
        </p:blipFill>
        <p:spPr>
          <a:xfrm>
            <a:off x="7591320" y="5762520"/>
            <a:ext cx="1552680" cy="10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g-BG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Arial"/>
              </a:rPr>
              <a:t>Оценките на предложенията за проекти се очакват април 2010 г., </a:t>
            </a:r>
            <a:r>
              <a:rPr b="0" lang="bg-BG" sz="3200" spc="-1" strike="noStrike">
                <a:solidFill>
                  <a:srgbClr val="ffffff"/>
                </a:solidFill>
                <a:latin typeface="Arial"/>
              </a:rPr>
              <a:t>подписване на първото споразумение за грант – юли 2010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7451640" y="5589720"/>
            <a:ext cx="1552680" cy="109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000" spc="-1" strike="noStrike">
                <a:solidFill>
                  <a:srgbClr val="ccecff"/>
                </a:solidFill>
                <a:latin typeface="Arial"/>
              </a:rPr>
              <a:t>Конкурси, времеви график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83" name=""/>
          <p:cNvGraphicFramePr/>
          <p:nvPr/>
        </p:nvGraphicFramePr>
        <p:xfrm>
          <a:off x="-36360" y="1052640"/>
          <a:ext cx="8929440" cy="4105080"/>
        </p:xfrm>
        <a:graphic>
          <a:graphicData uri="http://schemas.openxmlformats.org/drawingml/2006/table">
            <a:tbl>
              <a:tblPr/>
              <a:tblGrid>
                <a:gridCol w="1728720"/>
                <a:gridCol w="1508040"/>
                <a:gridCol w="1371600"/>
                <a:gridCol w="1371600"/>
                <a:gridCol w="1508040"/>
                <a:gridCol w="1441440"/>
              </a:tblGrid>
              <a:tr h="72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l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ublica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adlin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valuat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gotiat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udge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1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bg-BG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P7-S</a:t>
                      </a:r>
                      <a:r>
                        <a:rPr b="0" i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S</a:t>
                      </a:r>
                      <a:r>
                        <a:rPr b="0" i="1" lang="bg-BG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2010-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.07.200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1.01.20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4.20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7.20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9.75 MEU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bg-BG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P7-S</a:t>
                      </a:r>
                      <a:r>
                        <a:rPr b="0" i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S</a:t>
                      </a:r>
                      <a:r>
                        <a:rPr b="0" i="1" lang="bg-BG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2010-</a:t>
                      </a:r>
                      <a:r>
                        <a:rPr b="0" i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UNIV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.07.200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2.12.200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2.20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6.20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.5 MEU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bg-BG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P7-S</a:t>
                      </a:r>
                      <a:r>
                        <a:rPr b="0" i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S</a:t>
                      </a:r>
                      <a:r>
                        <a:rPr b="0" i="1" lang="bg-BG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2010-</a:t>
                      </a:r>
                      <a:r>
                        <a:rPr b="0" i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REER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.07.200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.01.20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4.20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7.20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 MEU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5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bg-BG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ll</a:t>
                      </a:r>
                      <a:r>
                        <a:rPr b="0" i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i="1" lang="bg-BG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P7-S</a:t>
                      </a:r>
                      <a:r>
                        <a:rPr b="0" i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S</a:t>
                      </a:r>
                      <a:r>
                        <a:rPr b="0" i="1" lang="bg-BG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2010-</a:t>
                      </a:r>
                      <a:r>
                        <a:rPr b="0" i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CP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.07.200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.04.20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6.20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7.20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0 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g-BG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 u="sng">
                <a:solidFill>
                  <a:srgbClr val="99ff99"/>
                </a:solidFill>
                <a:uFillTx/>
                <a:latin typeface="Times New Roman"/>
                <a:hlinkClick r:id="rId1"/>
              </a:rPr>
              <a:t>http://</a:t>
            </a:r>
            <a:r>
              <a:rPr b="0" lang="bg-BG" sz="2800" spc="-1" strike="noStrike" u="sng">
                <a:solidFill>
                  <a:srgbClr val="99ff99"/>
                </a:solidFill>
                <a:uFillTx/>
                <a:latin typeface="Times New Roman"/>
                <a:hlinkClick r:id="rId2"/>
              </a:rPr>
              <a:t>cordis</a:t>
            </a:r>
            <a:r>
              <a:rPr b="0" lang="bg-BG" sz="2800" spc="-1" strike="noStrike" u="sng">
                <a:solidFill>
                  <a:srgbClr val="99ff99"/>
                </a:solidFill>
                <a:uFillTx/>
                <a:latin typeface="Times New Roman"/>
                <a:hlinkClick r:id="rId3"/>
              </a:rPr>
              <a:t>.</a:t>
            </a:r>
            <a:r>
              <a:rPr b="0" lang="bg-BG" sz="2800" spc="-1" strike="noStrike" u="sng">
                <a:solidFill>
                  <a:srgbClr val="99ff99"/>
                </a:solidFill>
                <a:uFillTx/>
                <a:latin typeface="Times New Roman"/>
                <a:hlinkClick r:id="rId4"/>
              </a:rPr>
              <a:t>europa</a:t>
            </a:r>
            <a:r>
              <a:rPr b="0" lang="bg-BG" sz="2800" spc="-1" strike="noStrike" u="sng">
                <a:solidFill>
                  <a:srgbClr val="99ff99"/>
                </a:solidFill>
                <a:uFillTx/>
                <a:latin typeface="Times New Roman"/>
                <a:hlinkClick r:id="rId5"/>
              </a:rPr>
              <a:t>.</a:t>
            </a:r>
            <a:r>
              <a:rPr b="0" lang="bg-BG" sz="2800" spc="-1" strike="noStrike" u="sng">
                <a:solidFill>
                  <a:srgbClr val="99ff99"/>
                </a:solidFill>
                <a:uFillTx/>
                <a:latin typeface="Times New Roman"/>
                <a:hlinkClick r:id="rId6"/>
              </a:rPr>
              <a:t>eu</a:t>
            </a:r>
            <a:r>
              <a:rPr b="0" lang="bg-BG" sz="2800" spc="-1" strike="noStrike" u="sng">
                <a:solidFill>
                  <a:srgbClr val="99ff99"/>
                </a:solidFill>
                <a:uFillTx/>
                <a:latin typeface="Times New Roman"/>
                <a:hlinkClick r:id="rId7"/>
              </a:rPr>
              <a:t>/fp7</a:t>
            </a:r>
            <a:r>
              <a:rPr b="0" lang="en-US" sz="2800" spc="-1" strike="noStrike">
                <a:solidFill>
                  <a:srgbClr val="99ff99"/>
                </a:solidFill>
                <a:latin typeface="Times New Roman"/>
              </a:rPr>
              <a:t>/home.html</a:t>
            </a:r>
            <a:r>
              <a:rPr b="0" lang="bg-BG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General Inform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 u="sng">
                <a:solidFill>
                  <a:srgbClr val="99ff99"/>
                </a:solidFill>
                <a:uFillTx/>
                <a:latin typeface="Arial"/>
                <a:hlinkClick r:id="rId8"/>
              </a:rPr>
              <a:t>http://cordis.europa.eu/fp7/dc/index.cfm?fuseaction=UserSite.CapacitiesDetailsCallPage&amp;call_id=27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- Information Package for Science in Society (Call Fiche, Working Programme, </a:t>
            </a:r>
            <a:r>
              <a:rPr b="0" lang="bg-BG" sz="2800" spc="-1" strike="noStrike">
                <a:solidFill>
                  <a:srgbClr val="ffffff"/>
                </a:solidFill>
                <a:latin typeface="Arial"/>
              </a:rPr>
              <a:t>The Guides for Applicant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 u="sng">
                <a:solidFill>
                  <a:srgbClr val="99ff99"/>
                </a:solidFill>
                <a:uFillTx/>
                <a:latin typeface="Times New Roman"/>
                <a:hlinkClick r:id="rId9"/>
              </a:rPr>
              <a:t>http</a:t>
            </a:r>
            <a:r>
              <a:rPr b="0" lang="bg-BG" sz="2400" spc="-1" strike="noStrike" u="sng">
                <a:solidFill>
                  <a:srgbClr val="99ff99"/>
                </a:solidFill>
                <a:uFillTx/>
                <a:latin typeface="Times New Roman"/>
                <a:hlinkClick r:id="rId10"/>
              </a:rPr>
              <a:t>://cordis.europa.eu/fp7/partners_en.html</a:t>
            </a:r>
            <a:r>
              <a:rPr b="0" lang="bg-BG" sz="2400" spc="-1" strike="noStrike">
                <a:solidFill>
                  <a:srgbClr val="ffffff"/>
                </a:solidFill>
                <a:latin typeface="Times New Roman"/>
              </a:rPr>
              <a:t> -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artner sear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ff99"/>
                </a:solidFill>
                <a:uFillTx/>
                <a:latin typeface="Times New Roman"/>
                <a:hlinkClick r:id="rId11"/>
              </a:rPr>
              <a:t>www.nsfb.n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 u="sng">
                <a:solidFill>
                  <a:srgbClr val="99ff99"/>
                </a:solidFill>
                <a:uFillTx/>
                <a:latin typeface="Times New Roman"/>
                <a:hlinkClick r:id="rId12"/>
              </a:rPr>
              <a:t>http://7fp.mon.bg/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000" spc="-1" strike="noStrike">
                <a:solidFill>
                  <a:srgbClr val="ffffff"/>
                </a:solidFill>
                <a:latin typeface="Times New Roman"/>
              </a:rPr>
              <a:t>Благодаря за вниманието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bg-BG" sz="3200" spc="-1" strike="noStrike">
                <a:solidFill>
                  <a:srgbClr val="ffffff"/>
                </a:solidFill>
                <a:latin typeface="Times New Roman"/>
              </a:rPr>
              <a:t>ли Канев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l</a:t>
            </a:r>
            <a:r>
              <a:rPr b="0" lang="bg-BG" sz="3200" spc="-1" strike="noStrike">
                <a:solidFill>
                  <a:srgbClr val="ffffff"/>
                </a:solidFill>
                <a:latin typeface="Times New Roman"/>
              </a:rPr>
              <a:t>. 949 231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-mail: </a:t>
            </a:r>
            <a:r>
              <a:rPr b="0" lang="en-US" sz="3200" spc="-1" strike="noStrike" u="sng">
                <a:solidFill>
                  <a:srgbClr val="99ff99"/>
                </a:solidFill>
                <a:uFillTx/>
                <a:latin typeface="Times New Roman"/>
                <a:hlinkClick r:id="rId1"/>
              </a:rPr>
              <a:t>kaneva@daits.government.b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000" spc="-1" strike="noStrike">
                <a:solidFill>
                  <a:srgbClr val="ccecff"/>
                </a:solidFill>
                <a:latin typeface="Arial"/>
              </a:rPr>
              <a:t>Капацитет  – капацитет за научни изследвания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Инфраструктури за научни изследвания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Научни изследвания в полза на МСП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Региони на знанието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отенциал за научни изследвания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99"/>
                </a:solidFill>
                <a:latin typeface="Arial"/>
              </a:rPr>
              <a:t>Науката в обществото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одкрепа за съгласувано (кохерентно) развитие на изследователските политики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пецифични дейности по международно сътрудничество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ccecff"/>
                </a:solidFill>
                <a:latin typeface="Arial"/>
              </a:rPr>
              <a:t>Индикативен бюджет за тема “Наука в обществото” 2010 </a:t>
            </a: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WP</a:t>
            </a:r>
            <a:r>
              <a:rPr b="0" lang="bg-BG" sz="3200" spc="-1" strike="noStrike">
                <a:solidFill>
                  <a:srgbClr val="ccecff"/>
                </a:solidFill>
                <a:latin typeface="Arial"/>
              </a:rPr>
              <a:t> (в млн. евро)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468360" y="1773360"/>
          <a:ext cx="8229600" cy="3332160"/>
        </p:xfrm>
        <a:graphic>
          <a:graphicData uri="http://schemas.openxmlformats.org/drawingml/2006/table">
            <a:tbl>
              <a:tblPr/>
              <a:tblGrid>
                <a:gridCol w="5194080"/>
                <a:gridCol w="3035520"/>
              </a:tblGrid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bg-BG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ll FP7-S</a:t>
                      </a:r>
                      <a:r>
                        <a:rPr b="0" i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S</a:t>
                      </a:r>
                      <a:r>
                        <a:rPr b="0" i="1" lang="bg-BG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2010-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.7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4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bg-BG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ll</a:t>
                      </a:r>
                      <a:r>
                        <a:rPr b="0" i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i="1" lang="bg-BG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P7-S</a:t>
                      </a:r>
                      <a:r>
                        <a:rPr b="0" i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S</a:t>
                      </a:r>
                      <a:r>
                        <a:rPr b="0" i="1" lang="bg-BG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2010-</a:t>
                      </a:r>
                      <a:r>
                        <a:rPr b="0" i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NIV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9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bg-BG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ll</a:t>
                      </a:r>
                      <a:r>
                        <a:rPr b="0" i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i="1" lang="bg-BG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P7-S</a:t>
                      </a:r>
                      <a:r>
                        <a:rPr b="0" i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S</a:t>
                      </a:r>
                      <a:r>
                        <a:rPr b="0" i="1" lang="bg-BG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2010-</a:t>
                      </a:r>
                      <a:r>
                        <a:rPr b="0" i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CP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3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bg-BG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ll FP7-S</a:t>
                      </a:r>
                      <a:r>
                        <a:rPr b="0" i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S</a:t>
                      </a:r>
                      <a:r>
                        <a:rPr b="0" i="1" lang="bg-BG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2010-</a:t>
                      </a:r>
                      <a:r>
                        <a:rPr b="0" i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REER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бщ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r>
                        <a:rPr b="1" i="1" lang="bg-BG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5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-119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g-BG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324000" y="1341360"/>
          <a:ext cx="8820000" cy="4059360"/>
        </p:xfrm>
        <a:graphic>
          <a:graphicData uri="http://schemas.openxmlformats.org/drawingml/2006/table">
            <a:tbl>
              <a:tblPr/>
              <a:tblGrid>
                <a:gridCol w="2808000"/>
                <a:gridCol w="3456000"/>
                <a:gridCol w="2556000"/>
              </a:tblGrid>
              <a:tr h="142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ублични организации, средни училища и Университети, научни организации и МСП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сички останали организаци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зследователски дейности и дейности за технологично развити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5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r>
                        <a:rPr b="0" lang="bg-BG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Демонстрационни дейност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r>
                        <a:rPr b="0" lang="bg-BG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r>
                        <a:rPr b="0" lang="bg-BG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Дейности за координация и подкреп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 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 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0" name=""/>
          <p:cNvSpPr/>
          <p:nvPr/>
        </p:nvSpPr>
        <p:spPr>
          <a:xfrm>
            <a:off x="250920" y="260280"/>
            <a:ext cx="835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Максимално финансиране (% от допустимите разходи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4400" spc="-1" strike="noStrike">
                <a:solidFill>
                  <a:srgbClr val="ff0066"/>
                </a:solidFill>
                <a:latin typeface="Arial"/>
              </a:rPr>
              <a:t>Call FP7-S</a:t>
            </a:r>
            <a:r>
              <a:rPr b="0" i="1" lang="en-US" sz="4400" spc="-1" strike="noStrike">
                <a:solidFill>
                  <a:srgbClr val="ff0066"/>
                </a:solidFill>
                <a:latin typeface="Arial"/>
              </a:rPr>
              <a:t>iS</a:t>
            </a:r>
            <a:r>
              <a:rPr b="0" i="1" lang="bg-BG" sz="4400" spc="-1" strike="noStrike">
                <a:solidFill>
                  <a:srgbClr val="ff0066"/>
                </a:solidFill>
                <a:latin typeface="Arial"/>
              </a:rPr>
              <a:t>-2010-1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68360" y="2205000"/>
            <a:ext cx="82296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all identifier: FP7-SCIENCE-IN-SOCIETY-2010-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Arial"/>
              </a:rPr>
              <a:t>Публикуван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bg-BG" sz="3200" spc="-1" strike="noStrike">
                <a:solidFill>
                  <a:srgbClr val="ffffff"/>
                </a:solidFill>
                <a:latin typeface="Arial"/>
              </a:rPr>
              <a:t>30 юли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200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Arial"/>
              </a:rPr>
              <a:t>Краен срок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*: 21 </a:t>
            </a:r>
            <a:r>
              <a:rPr b="0" lang="bg-BG" sz="3200" spc="-1" strike="noStrike">
                <a:solidFill>
                  <a:srgbClr val="ffffff"/>
                </a:solidFill>
                <a:latin typeface="Arial"/>
              </a:rPr>
              <a:t>януари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2010 </a:t>
            </a:r>
            <a:r>
              <a:rPr b="0" lang="bg-BG" sz="3200" spc="-1" strike="noStrike">
                <a:solidFill>
                  <a:srgbClr val="ffffff"/>
                </a:solidFill>
                <a:latin typeface="Arial"/>
              </a:rPr>
              <a:t>в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17.00</a:t>
            </a:r>
            <a:r>
              <a:rPr b="0" lang="bg-BG" sz="3200" spc="-1" strike="noStrike">
                <a:solidFill>
                  <a:srgbClr val="ffffff"/>
                </a:solidFill>
                <a:latin typeface="Arial"/>
              </a:rPr>
              <a:t> ч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Arial"/>
              </a:rPr>
              <a:t>Индикативен бюджет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: 39.75</a:t>
            </a:r>
            <a:r>
              <a:rPr b="0" lang="bg-BG" sz="3200" spc="-1" strike="noStrike">
                <a:solidFill>
                  <a:srgbClr val="ffffff"/>
                </a:solidFill>
                <a:latin typeface="Arial"/>
              </a:rPr>
              <a:t> млн. евр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7451640" y="5589720"/>
            <a:ext cx="1552680" cy="109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68360" y="-3524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g-BG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250920" y="549360"/>
            <a:ext cx="864216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250920" y="404640"/>
          <a:ext cx="8713800" cy="5976720"/>
        </p:xfrm>
        <a:graphic>
          <a:graphicData uri="http://schemas.openxmlformats.org/drawingml/2006/table">
            <a:tbl>
              <a:tblPr/>
              <a:tblGrid>
                <a:gridCol w="2894040"/>
                <a:gridCol w="2892240"/>
                <a:gridCol w="216000"/>
                <a:gridCol w="2711520"/>
              </a:tblGrid>
              <a:tr h="539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Дейност/ Област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Тем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Финансови схем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5060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99ff99"/>
                          </a:solidFill>
                          <a:latin typeface="Times New Roman"/>
                        </a:rPr>
                        <a:t>Дейност 1: По-динамично управление на взаимодействието между науката и обществото</a:t>
                      </a:r>
                      <a:r>
                        <a:rPr b="1" lang="en-US" sz="1400" spc="-1" strike="noStrike">
                          <a:solidFill>
                            <a:srgbClr val="99ff99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7712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Тема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iS-2010 1.0-1 Дейности по мобилизация и взаимно обучение (индикативен бюджет 16.5 млн. евро)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SA (Supporting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428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Област 5.1.1 По-добро разбиране на мястото на науката и технологиите в обществото (индикативен бюджет 3 млн. евро)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122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Област 5.1.1.1 Връзки между наука, демокрация и закон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Тема SiS-2010-1.1.1-1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bg-BG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Ролята на етиката в политиката и законодателството  на ЕС: ЕС като световен играч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ъвместни изследователски проекти (малки или средни по размер фокусирани изследователски проекти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33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Тема  SiS-2010- 1.1.1-2 Ролята на етиката в политиката на ЕС: Развитие на политиката на ЕС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68360" y="-3524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g-BG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50920" y="549360"/>
            <a:ext cx="864216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7451640" y="5589720"/>
            <a:ext cx="1552680" cy="1095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0" name=""/>
          <p:cNvGraphicFramePr/>
          <p:nvPr/>
        </p:nvGraphicFramePr>
        <p:xfrm>
          <a:off x="250920" y="549360"/>
          <a:ext cx="8713800" cy="3865320"/>
        </p:xfrm>
        <a:graphic>
          <a:graphicData uri="http://schemas.openxmlformats.org/drawingml/2006/table">
            <a:tbl>
              <a:tblPr/>
              <a:tblGrid>
                <a:gridCol w="2905200"/>
                <a:gridCol w="2903400"/>
                <a:gridCol w="182520"/>
                <a:gridCol w="27226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Дейност/Област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Тем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Финансови схем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548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99ff99"/>
                          </a:solidFill>
                          <a:latin typeface="Times New Roman"/>
                        </a:rPr>
                        <a:t>Дейност  5.1.3 Укрепване и подобряване на системата на Европейската наука (индикативен бюджет 3 млн. евро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8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Област  5.1.3.3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Тема SIS-2010-1.3.3-1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bg-BG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Оценка на това как научните резултати на ниво отделни изследователи се оценяват и измерват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ъвместни изследователски проекти (малки или средни по размер фокусирани изследователски проекти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68360" y="-3524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g-BG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50920" y="549360"/>
            <a:ext cx="864216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7451640" y="5589720"/>
            <a:ext cx="1552680" cy="1095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4" name=""/>
          <p:cNvGraphicFramePr/>
          <p:nvPr/>
        </p:nvGraphicFramePr>
        <p:xfrm>
          <a:off x="250920" y="404640"/>
          <a:ext cx="8713800" cy="5656320"/>
        </p:xfrm>
        <a:graphic>
          <a:graphicData uri="http://schemas.openxmlformats.org/drawingml/2006/table">
            <a:tbl>
              <a:tblPr/>
              <a:tblGrid>
                <a:gridCol w="2905200"/>
                <a:gridCol w="3287520"/>
                <a:gridCol w="25210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Дейност/ Облас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Тем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Финансови схем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CTION LINE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r>
                        <a:rPr b="1" lang="bg-BG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: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1" lang="bg-BG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Укрепване на потенциала, разширяване на хоризонтит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99ff99"/>
                          </a:solidFill>
                          <a:latin typeface="Times New Roman"/>
                        </a:rPr>
                        <a:t>Дейност 5.2.1 Пол и научни изследван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2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Област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.2.1.1. </a:t>
                      </a:r>
                      <a:r>
                        <a:rPr b="0" lang="bg-BG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Укрепване на ролята на жените в научните изследвания и вземането на научни решен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iS-2010-2.1.1-1 Осъществяване на структурни промени в научните организации/университети (бюджет 4.5 млн. евро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SA (Supporting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2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rea 5.2.1.3. </a:t>
                      </a:r>
                      <a:r>
                        <a:rPr b="0" lang="bg-BG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реобладаващ пол в научните политики и програми на Общността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iS-2010-2.1.3-1 </a:t>
                      </a:r>
                      <a:r>
                        <a:rPr b="0" lang="bg-BG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Жените в науката: Евро-Средиземноморско сътрудничество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бюджет 2 млн. евро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ъвместни изследователски проекти за специфични дейности за сътрудничество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3T08:17:35Z</dcterms:created>
  <dc:creator>kaneva</dc:creator>
  <dc:description/>
  <dc:language>en-US</dc:language>
  <cp:lastModifiedBy>miro</cp:lastModifiedBy>
  <dcterms:modified xsi:type="dcterms:W3CDTF">2009-11-24T05:23:26Z</dcterms:modified>
  <cp:revision>4</cp:revision>
  <dc:subject/>
  <dc:title> ОТВОРЕНИ КОНКУРСИ  “СОЦИАЛНО-ИКОНОМИЧЕСКИ И ХУМАНИТАРНИ НАУКИ” (SSH) “НАУКА В ОБЩЕСТВОТО” (SiS) FP 7</dc:title>
</cp:coreProperties>
</file>