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6F8B-82BA-4BFF-B611-49C870D33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B67-9EF3-4F56-A93A-AC2C672381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A0A3-4DF6-4919-B907-2287D1E66B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F597-6C06-4F94-972F-B3C431A42F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D67A-4EAA-4AFB-944D-70C175DCE4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A98B-C3F8-4748-8929-61A1043A71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832C5-FF25-4BD1-A984-72F8318080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36E7D-318F-4996-9B36-77B102772B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304C8-DB3C-4057-AC35-831770A593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85A3-94CF-4CAB-A10B-8BDBA911ED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4204-6EC2-4750-8CE0-CCEA19F5C2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C5E21-FD0D-4F6C-83AE-E7AA43FCA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CFCB-1C94-4B54-81D0-E87CC445BC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08BEE-4865-428D-A23A-EFDA0D259B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3141A-30A7-4923-A1B2-4A8F86493D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4A835-6433-44A7-A93C-9BD7F0205F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52851-902E-4003-9B9D-C836C50C63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486B9-A896-433E-8D9A-E86B1BD702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0587A-81C8-4D00-AD63-51678BA612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E374A-947C-4963-A2E6-3E8508417E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50ED4-FF79-45A5-9444-239CD972E9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CB75C-146D-427C-A4F8-10439181B26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B7880-28CA-45F3-894B-3EF64D284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9FDE-7F45-4017-839B-717649B62D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9881B-15A7-409B-961A-DC6F05A159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136885-C755-46C2-9836-7F46D4C0D8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2CF17-6112-4964-BAC0-FF46481A7A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B2540-2829-4C21-9324-ABA0DCF2AFA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5D6DC4-C4AC-4FE0-95C4-BADF4B9B8B9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552DC-0D89-4AA1-B590-CBD04F29CB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4B7A6A-BA58-47A4-9010-90D875C9A1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D921C8-BF74-445D-AD25-16898C5DC7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C09BC-85E9-4315-A21B-BC64177D6AA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3AD5E-DC58-4035-AA07-82B1FFA78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EF62A-9490-437C-900E-F32F69AB33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13CE2-B014-4F36-88AF-B7CDB33EA5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AA2510-DC5A-4B5F-9880-06F955DD32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787E8-9810-4A0C-BC26-48BDF4D009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81A28-7BC0-45F7-BDAC-085747C673F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408D-A3FB-43CC-9069-EA58E37A56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06AA-DF2D-445F-ADB5-08B1856B10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4C68-5612-4D47-B5D0-7EBEA6405E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F2A8-D3EB-448E-86E3-8B93F863A8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3970-1220-4283-9520-947A4477C3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C6D5-7E23-471C-969F-1EC3032867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57D4B-7E5C-44DA-A6F1-5986DEBAF0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6AA8-8979-45B7-A882-29DDBD3716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EBBE-9A8D-4C4C-9522-7DACB79982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B6FA-2A92-49D8-A5C5-6BE1F4AEA3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ADE09-C011-4EC7-8D55-00B0FF6AE9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774B-0B7E-4BCD-B7A1-1D67BC7FA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1F06C-D596-479F-BE1C-2A343B21C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238FF-3B77-4337-A463-7EADE9E03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75C10-1CA6-4DB7-88CF-FF614F241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2043C-8882-4222-8492-887E10FF0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3620-9ACA-4F87-BBA2-538091841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EB3D-63F5-4D82-A282-747BA44FC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DEF55-A79D-4636-BECB-E2CFC09037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91497-861E-4FDE-A3A2-E4A3C3D6DD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B902-6299-46FA-A751-8F82A4F97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4126D-944D-4DD3-96E5-02C01CA56F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55A0-D3F5-4F84-AE46-8EA4B2D437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5D4-692B-4696-85F6-213A54FD84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4D8-6254-4E13-806D-055022C128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1CEB-019C-4CA4-9469-3545808C7E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851-212D-4A0E-A954-429D184CD9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2BBD-FE01-41D0-8B8D-CB3AA0CEA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078C-D4E2-4346-8D13-C572F19E62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D94-BDB6-4031-8892-E35E5B61D9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3C73-FDE7-4F0C-B51C-CD3B3C32A5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8C43-83A8-49E8-B178-D5D09D8AB0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AB0-3EC2-4220-8E02-C25CA77011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450-FA62-49D2-B658-04340EE696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224-1935-4927-887A-6E52F6A313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B0EF-A044-44D3-8E08-A4351B1981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CFEE1-1269-4BA1-AE6D-B29408583B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33A1B-60CE-444E-8FD5-C4025B564A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F1E5C-6BC3-4319-8D7D-20DAD844C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5001-6274-48CD-ACA3-16DB8BF64D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47326-525A-4480-9243-30F672F604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8F784-2BAB-47BA-BF7E-1F26DBEF6C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C02CD-8E85-459B-98A0-7E1ADA9B7B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F25BC-A9CD-4DF3-92F0-949F8F6544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22840-3D3C-4FB2-A27D-731F584BF8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00F52-16BC-4466-ABD8-EDD7138383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C4F2E-C4FA-443E-85D6-0ED19666AC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B5576-7DBB-4682-84D9-0BE8F740D7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9EEEB-BE37-462B-A01F-3F0A4AD33F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07F90-C88B-45DE-8FFC-4B231E3F1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0F51-D940-42C5-94A1-43289DAE73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39B40-67CB-4EF1-B9AD-79F8DD3944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AF9CD-D49A-49D8-BFCE-F50A6EB557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59182-11D3-4985-ABD7-68B743C3B2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45629-E381-48A5-84E6-1D9A3D899C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58819-03E1-4F98-A9C6-9B771682CC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2C3FC-0A65-49A9-A03C-68D4A689BD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B68E3-62BD-4008-93A7-EF559E9CD6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9C44F-9098-4C06-9A34-B4DADBEE8F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13599-9164-4EA3-A20C-0F53C3BEAB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5F625-BAE6-4BE3-9818-FB1DFA428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FD7C-8374-4BCD-A77C-C8FFD231A3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9753C-C98D-4235-9379-574357891C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2477-8C7A-4BAC-B33F-5E504F20DF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9B0D-619B-4756-8BFB-19AE2D00DC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E4C0-B7F2-45B9-A4DD-03C82F00D2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4A75-727D-46A8-AC3F-7A4BB7E3FA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B86D-D193-41A5-8619-92FF229A6A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EC8F-38BB-4FEA-ACA0-F7346B3BC5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E00A-1C54-4342-A948-1A35EC86A3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C723-2740-4BA7-B790-73F5AA9EDD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55CE-959E-449B-B1E8-0BD910126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BD11-6036-449E-84C9-3FBF3E509A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384D-CDD5-4158-8DB3-A780245BF9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C29C-3AD7-4487-8DCB-D784AD1A1B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B13AD-8393-47C6-A3DC-5F2ED14181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17284-E4C9-4E39-ABE8-11DE99D11F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D8C5D-F807-4F27-BE3F-E9BC983802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928FA-1E6B-47F3-952D-FC1B3A9196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B32E1-E9AC-4940-ACED-60B9FCC68A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D924C-F0FE-47AA-816C-398EBE56E6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FBFD6-18CB-4C75-8DDF-D88CFD2136E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3C0F9-866F-4DEC-A84F-DB8A7B824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E179-AFA9-4100-AA80-FAE6857FFA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7B5ED-5809-45DF-9A16-DDD93BCE58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DDF75-AF7D-44CE-85C8-81DE9706AA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AE2AB-24B0-4BDD-80A1-EF93E5C154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8BA7D-53DF-45C3-90C1-484165AD91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DB8B9-F20B-43F8-B89E-479D7B9D8E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4EECA-7D14-4D20-B70F-823FC108ED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3457A-EE54-473D-913A-8794A51FFB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2061B3-46B2-4A14-9ACD-1ECFD62E7D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52C52-25BD-4C78-A184-1A70297FBA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D9C09-0DD1-449A-B6F4-6280FD6AE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F066-EBFB-496A-839D-30391FE3F2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D6CE5F-E5AA-4F88-8FE4-83D6CEA5A6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85730-A3E9-460C-AC43-2ECBAB26F7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6B00F-2328-478C-A73C-9D9F716359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EFCA69-A3DF-4BA2-BC19-AE99668266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407130-CE99-4004-AD98-EE879191E1F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BDC8C-B559-4DE7-875D-E3989385A7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65293-7338-49CF-A1AA-C2D192FDA3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41F8-AAA6-405B-AE22-CD91E94F3A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8E24-8E73-4C0B-BFFE-B60574312C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C4A6-1164-4583-885D-903604E02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72B09C4-AF62-4E39-B3FA-3C4EABF2738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482A227-D677-4EA5-8AB4-85390CAE8EF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00BFFAE-DEE3-4F9D-AEEB-F7D2CC642F5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C315C8B-28DF-44CF-9AB5-C6588B086FF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BD56261-48E8-437C-B359-3F355A9480E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E187A38-1CBD-457B-941C-6530C77FEA25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B5247B3E-1902-494F-8D12-C21E5B48541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F2FEE54-8C93-4DA0-9AA2-FC0C37C74D31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0AFE1BC1-AAC7-4EF4-9FB1-4276E68BD2FD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F2459EF-3DBF-4711-968D-BC346A01600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4E96721-A992-42CF-8514-DF32C4ECD88E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4EDD51F-55F1-40F3-B2A6-2C0D2A983F8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6BCDC0D-AE1E-420C-8327-1570F24ACBA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358120" cy="26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Хоризонтални действия в 7РП. Синергии между 7РП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 и структурните фондов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3068280"/>
            <a:ext cx="763128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740399F-F47A-4783-B23A-B586EE7DFF3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а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Подкрепа на ИКТ изследователски резултати в развиващи се иконом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силване на дифузията и използване на място на ИКТ изследователските резулта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естване на решения съобразени с местните изискван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КТ за обществени услуги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пр. е-правителство, е-здравеопазван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…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риложения, свързани с бизнеса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пр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-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ъргов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банкиран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ешения в подкрепа на устойчиви цели за развитие, особено за околната сре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зграждане на мрежи между технологични разработчици с местни потребит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трани – кандидат-членки, Средиземно море и други развиващи се стра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Call 6;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Small or medium-scale focused research projects (STREP)/ SICA, 5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0116325-8675-4783-8370-1AEDE4731813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0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 </a:t>
            </a:r>
            <a:br>
              <a:rPr sz="2400"/>
            </a:br>
            <a:r>
              <a:rPr b="0" lang="bg-BG" sz="1600" spc="-1" strike="noStrike">
                <a:solidFill>
                  <a:srgbClr val="ff3300"/>
                </a:solidFill>
                <a:latin typeface="Verdana"/>
              </a:rPr>
              <a:t>Общо финансиране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: 12M€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Подкрепа на диалога за политиката на информационното общество и укрепване на международното сътрудни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бития, анализ на ИКТ политики и изследователски приоритети в трети стра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инергии с дейности, стартирали по други програми и от страните-чле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Ази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обено страните о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EAN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 Индия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Латинска Америка и Афр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3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Големите индустриални стра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обено, но не изключително за САЩ, Канада, Австралия, Япония, Нова зеланди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Конкурс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; SA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,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EDFA1A4-30AC-49C9-9EF4-AF5E26B3EA8D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4000" y="1499760"/>
            <a:ext cx="88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)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Идентифициране на стратегически  партньори и разработване на целите и приоритетите на международния пазар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азширяване на Европейските технологични и иновационни пътни карти към ключови партньори в трети стра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особено за области от Бъдещ интернет и ИКТ компоненти и сист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дентифициране на центрове за компетентно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емина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мен на добри прак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равнителни изслед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Бързо развиващи се икономик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Латинска Аме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Конкурс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; SA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,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Owner</cp:lastModifiedBy>
  <dcterms:modified xsi:type="dcterms:W3CDTF">2009-11-22T18:30:49Z</dcterms:modified>
  <cp:revision>325</cp:revision>
  <dc:subject/>
  <dc:title>FP7 ICT WP 2007</dc:title>
</cp:coreProperties>
</file>