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7460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B4D0D87-D3FD-46A7-9561-166962D7F2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95A53AA-739F-4B59-8DCD-793D47156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F74FF32-FF2C-4BA0-9708-E07858A7F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BD94902-7D2F-4AC2-82AF-ECDB3EEEB1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CEDAD32-112D-4C78-A10F-7C81662F26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0180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39BA686-9C44-4347-8082-C50FBC377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FE02E56-B988-4DF6-9870-438EB239D4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9CEA242-5219-4680-B541-9636CE829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03240" y="733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CFA6FFA-3BFB-4C8C-87AE-FE72A749F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03240" y="733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038476C-1A02-46A0-9D51-0AA699D50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Expected Impact of Call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roved safety, efficiency and competitiveness of transport syste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timised mobility of people and goods in urban environments across different transport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roved quality of life in urban environ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 mobility concepts which meet the increased demand, support economic growth, are environmentally sustainable and capable of accommodating future uncertainties and shock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ider uptake of intelligent vehicle systems and co-operative systems through proof-of-concept to all stakeholders in Field Operational Tes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creased European research excellence by fostering closer cooperation with leading international part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3104443-8A2A-49D8-9D50-F017BF9F9D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EEE5E06-CC7F-4AB0-BCB4-08E7E7B5C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89FC696-DB31-4B20-AA1B-51A0D9150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05040" y="736560"/>
            <a:ext cx="4865400" cy="36496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885960" y="4630320"/>
            <a:ext cx="4897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62D9AA1-8775-4B84-9B40-588DF4B69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B6D6404-1F0E-4EE7-9998-9EAE93C2E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BB71-1A8B-440F-BC4F-BC8F09C88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417852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E924-3F2E-4770-880E-879C414E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7608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4CB0-03F3-4F19-8B6E-47E07B2DE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460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2484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460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2484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2888-05A0-43FC-9E2D-C1D9CDC9E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5A7C-F913-4FD6-B531-4DE41C3DA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5F46-260E-48F4-9566-205E5EED2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E608-7A7B-42CF-9DA1-7483BC7A3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FCAD-2FAE-43E7-A01F-197F7C00D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3B1B-F4BA-4CAB-8A8E-D13A8C266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30C6-7DB1-4AD0-BD65-036CB62F0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7608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0D80-F884-44EE-B51E-E9B5341B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87F0-D171-4DC8-913D-6D037308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5856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D271403-CFCB-4B2E-A8C5-BE3823F4D3F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BA7-AE3E-4291-A7C8-BECBC65D16F1}" type="slidenum">
              <a:rPr b="1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0" y="6272280"/>
            <a:ext cx="755640" cy="585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i2010_ICI_RGB"/>
          <p:cNvPicPr/>
          <p:nvPr/>
        </p:nvPicPr>
        <p:blipFill>
          <a:blip r:embed="rId4"/>
          <a:stretch/>
        </p:blipFill>
        <p:spPr>
          <a:xfrm>
            <a:off x="1042920" y="6335640"/>
            <a:ext cx="1944720" cy="522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e_safety logo blueyellow"/>
          <p:cNvPicPr/>
          <p:nvPr/>
        </p:nvPicPr>
        <p:blipFill>
          <a:blip r:embed="rId5"/>
          <a:stretch/>
        </p:blipFill>
        <p:spPr>
          <a:xfrm>
            <a:off x="3419640" y="6348240"/>
            <a:ext cx="115236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fso-g4@ec.europa.eu" TargetMode="External"/><Relationship Id="rId2" Type="http://schemas.openxmlformats.org/officeDocument/2006/relationships/hyperlink" Target="http://ec.europa.eu/information_society/activities/esafety/index_en.htm" TargetMode="External"/><Relationship Id="rId3" Type="http://schemas.openxmlformats.org/officeDocument/2006/relationships/hyperlink" Target="http://cordis.europa.eu/ist/so/esafety/%0Bhome.html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08793682-A2DD-4221-A109-E5269051AF3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1413000"/>
            <a:ext cx="720072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Конкурсна сесия 6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CT 2009.6.2. </a:t>
            </a: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920" y="4653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16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7D641BEF-A84E-4546-957C-FC28EAB3F1D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"/>
          <p:cNvSpPr/>
          <p:nvPr/>
        </p:nvSpPr>
        <p:spPr>
          <a:xfrm>
            <a:off x="465120" y="1873080"/>
            <a:ext cx="8213760" cy="6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960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Международно сътрудниче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тивен обмен на информация чре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33320" indent="-37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здаване на двустранни работни груп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33320" indent="-37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довни семина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29384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заимно валидиране и екплоатация на резултатите, като например методологии, спецификации и стандарти;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9384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оценка на набор данни от полеви оперативни тестов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AutoShape 5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6"/>
          <p:cNvSpPr/>
          <p:nvPr/>
        </p:nvSpPr>
        <p:spPr>
          <a:xfrm>
            <a:off x="6948360" y="2708280"/>
            <a:ext cx="1768680" cy="1138320"/>
          </a:xfrm>
          <a:prstGeom prst="cloudCallout">
            <a:avLst>
              <a:gd name="adj1" fmla="val -39407"/>
              <a:gd name="adj2" fmla="val -78870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7"/>
          <p:cNvSpPr/>
          <p:nvPr/>
        </p:nvSpPr>
        <p:spPr>
          <a:xfrm>
            <a:off x="7522200" y="2924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468360" y="5157720"/>
            <a:ext cx="7416720" cy="865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66"/>
              </a:gs>
              <a:gs pos="100000">
                <a:srgbClr val="ff99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395280" y="5084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“…</a:t>
            </a:r>
            <a:r>
              <a:rPr b="0" i="1" lang="bg-BG" sz="1800" spc="-1" strike="noStrike">
                <a:solidFill>
                  <a:srgbClr val="000000"/>
                </a:solidFill>
                <a:latin typeface="Arial Narrow"/>
              </a:rPr>
              <a:t>Международното сътрудничество ще позволи на европейците (индустрия и обществени организации) да използват изследователските резултати бързо и да ги адаптират към регионалните изисквания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2F5EB10-6A1B-4B96-A9DA-D4AE90E0A87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"/>
          <p:cNvSpPr/>
          <p:nvPr/>
        </p:nvSpPr>
        <p:spPr>
          <a:xfrm>
            <a:off x="250920" y="1557360"/>
            <a:ext cx="7921440" cy="4464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7850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Очаквано въздейств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ена безопасност, ефективност и конкуретноспособност на транспортните систем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изирана мобилност на хора и стоки в градска сре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ено качество на живот в градски услов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 концепции за мобилност, които отговарят на повишено търсене, подкрепят икономическия растеж и са в устойчива среда – с възможност да се нагодят към бъдещи сътресени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широко възприемане на интелигентни превозни системи и кооперативни системи чрез доказване на концепцията на всички ключови участници в полевите оперативни тестов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ени изследователски достижения чрез задълбочаване на сътрудничеството с водещи международни партньор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AutoShape 5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4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C7E7614F-93B7-43E1-9942-47EC0EE3FDA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5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Подготвя 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вземат се предвид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ущи изследователски дей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тегичския изследователски дневен ред на свързаните с транспорта технологични платформ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RTRAC, ERRAC, ACMARE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следователския дневен ре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изследователските работни групи на форум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afe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ностите на страните-чле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носа на професоионални и изследователски организации кат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UCAR, ECTRI, CLEPA, FERHL, CEDR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мен на мнения с ключови актьори от САЩ и Япо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зултати от предишни конкур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ъдещи насоки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Работна програма</a:t>
            </a: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2011-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AE3EB81-7B3B-4F68-87AE-0FBC87CD7B4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ъдещи насоки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Работна програма</a:t>
            </a: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2011-2012 </a:t>
            </a:r>
            <a:br>
              <a:rPr sz="2200"/>
            </a:b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Предложени теми за конкурс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По предизвикателство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6 – </a:t>
            </a: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Ниско-въглеродна иконо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оперативни системи за сигурна, енергийно ефективна и устойчива в околната среда моби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ско-въглеродна мулти-модална мобилност и прево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вързаната кола на бъдещет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По ПЧП Зелени к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пълно електрическа кола базирана на коопеативни систем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кто и следните </a:t>
            </a:r>
            <a:r>
              <a:rPr b="1" lang="bg-BG" sz="2000" spc="-1" strike="noStrike">
                <a:solidFill>
                  <a:srgbClr val="333399"/>
                </a:solidFill>
                <a:latin typeface="Verdana"/>
              </a:rPr>
              <a:t>хоризонтални тем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гурност, лична неприкоснове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рмода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еративни тестове на мяс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андарт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ология за измерване влиянието на ИКТ приложения за намаляване на емисиит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автомобилния транспо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ждународно сътрудни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5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2B79F85-C078-4533-BCFD-B653DC2C832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108000" y="1341000"/>
            <a:ext cx="54720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l Boxe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Infso-g4@ec.europa.eu</a:t>
            </a:r>
            <a:r>
              <a:rPr b="0" lang="en-GB" sz="2000" spc="-1" strike="noStrike">
                <a:solidFill>
                  <a:srgbClr val="6666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afety Web-si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information_society/activities/esafety/index_en.ht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on CORDIS websi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cordis.europa.eu/ist/so/esafety/_x000b_home.htm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569916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4" descr=""/>
          <p:cNvPicPr/>
          <p:nvPr/>
        </p:nvPicPr>
        <p:blipFill>
          <a:blip r:embed="rId4"/>
          <a:stretch/>
        </p:blipFill>
        <p:spPr>
          <a:xfrm>
            <a:off x="5724360" y="1341360"/>
            <a:ext cx="2521080" cy="17002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5" descr=""/>
          <p:cNvPicPr/>
          <p:nvPr/>
        </p:nvPicPr>
        <p:blipFill>
          <a:blip r:embed="rId5"/>
          <a:stretch/>
        </p:blipFill>
        <p:spPr>
          <a:xfrm>
            <a:off x="5580000" y="3479760"/>
            <a:ext cx="2665440" cy="172260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6"/>
          <p:cNvSpPr/>
          <p:nvPr/>
        </p:nvSpPr>
        <p:spPr>
          <a:xfrm>
            <a:off x="0" y="0"/>
            <a:ext cx="8802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вече информ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ACF0D26B-A063-4C69-A52A-2204CDC621B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056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ff"/>
                </a:solidFill>
                <a:latin typeface="Verdana"/>
              </a:rPr>
              <a:t>Благодаря за вниманието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010640" cy="2460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D28D1D97-0BEB-42B2-905C-CBE279D5918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88640"/>
            <a:ext cx="66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КТ за транспорт: към кооперативни систем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98560" y="83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108000" y="980640"/>
            <a:ext cx="8496000" cy="5040720"/>
            <a:chOff x="108000" y="980640"/>
            <a:chExt cx="8496000" cy="5040720"/>
          </a:xfrm>
        </p:grpSpPr>
        <p:sp>
          <p:nvSpPr>
            <p:cNvPr id="58" name="Line 5"/>
            <p:cNvSpPr/>
            <p:nvPr/>
          </p:nvSpPr>
          <p:spPr>
            <a:xfrm flipV="1">
              <a:off x="6950160" y="2324880"/>
              <a:ext cx="0" cy="349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V="1">
              <a:off x="5809320" y="2998080"/>
              <a:ext cx="0" cy="282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V="1">
              <a:off x="4668840" y="3669120"/>
              <a:ext cx="0" cy="2083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V="1">
              <a:off x="3528000" y="4341600"/>
              <a:ext cx="0" cy="1410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2388960" y="5013720"/>
              <a:ext cx="0" cy="807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V="1">
              <a:off x="6806880" y="2324880"/>
              <a:ext cx="0" cy="3427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535320" y="5283000"/>
              <a:ext cx="14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108000" y="980640"/>
              <a:ext cx="0" cy="415404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535320" y="5753160"/>
              <a:ext cx="8068680" cy="144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08000" y="981000"/>
              <a:ext cx="84805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>
              <a:off x="1391400" y="5148360"/>
              <a:ext cx="3990240" cy="4046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vision for the futur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sic functions defined, but technology not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2530440" y="4476960"/>
              <a:ext cx="3988800" cy="4032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roving traffic systems efficienc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ffic management:  data – information - guid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3671280" y="3804120"/>
              <a:ext cx="3776760" cy="4032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epening of the to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sic inputs to Standardisation (GDT, ATT Alert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1818720" y="3199320"/>
              <a:ext cx="1852560" cy="3362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ving to Field t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2459880" y="2526480"/>
              <a:ext cx="2422080" cy="3362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s and Safety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0"/>
            <p:cNvSpPr/>
            <p:nvPr/>
          </p:nvSpPr>
          <p:spPr>
            <a:xfrm>
              <a:off x="3314520" y="1855440"/>
              <a:ext cx="2777400" cy="4028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ving to Cooperative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1"/>
            <p:cNvSpPr/>
            <p:nvPr/>
          </p:nvSpPr>
          <p:spPr>
            <a:xfrm>
              <a:off x="4312080" y="1047240"/>
              <a:ext cx="2708280" cy="6048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lligent Transpor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lligent Transpor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perative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2"/>
            <p:cNvSpPr/>
            <p:nvPr/>
          </p:nvSpPr>
          <p:spPr>
            <a:xfrm>
              <a:off x="5952240" y="1652400"/>
              <a:ext cx="1178280" cy="53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T 6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3"/>
            <p:cNvSpPr/>
            <p:nvPr/>
          </p:nvSpPr>
          <p:spPr>
            <a:xfrm>
              <a:off x="4811760" y="2325240"/>
              <a:ext cx="1176480" cy="536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T 5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4"/>
            <p:cNvSpPr/>
            <p:nvPr/>
          </p:nvSpPr>
          <p:spPr>
            <a:xfrm>
              <a:off x="3671280" y="2998080"/>
              <a:ext cx="1176120" cy="536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P 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5"/>
            <p:cNvSpPr/>
            <p:nvPr/>
          </p:nvSpPr>
          <p:spPr>
            <a:xfrm>
              <a:off x="7091280" y="981000"/>
              <a:ext cx="1176120" cy="536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ST 7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6"/>
            <p:cNvSpPr/>
            <p:nvPr/>
          </p:nvSpPr>
          <p:spPr>
            <a:xfrm>
              <a:off x="2530440" y="3669120"/>
              <a:ext cx="1176480" cy="536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 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7"/>
            <p:cNvSpPr/>
            <p:nvPr/>
          </p:nvSpPr>
          <p:spPr>
            <a:xfrm>
              <a:off x="1391400" y="4341960"/>
              <a:ext cx="1176480" cy="536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 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8"/>
            <p:cNvSpPr/>
            <p:nvPr/>
          </p:nvSpPr>
          <p:spPr>
            <a:xfrm>
              <a:off x="250920" y="5013720"/>
              <a:ext cx="1176120" cy="536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methe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EUREKA)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9"/>
            <p:cNvSpPr/>
            <p:nvPr/>
          </p:nvSpPr>
          <p:spPr>
            <a:xfrm>
              <a:off x="1248480" y="5753160"/>
              <a:ext cx="1140120" cy="268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8-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0"/>
            <p:cNvSpPr/>
            <p:nvPr/>
          </p:nvSpPr>
          <p:spPr>
            <a:xfrm>
              <a:off x="108000" y="5753160"/>
              <a:ext cx="1140480" cy="26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7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1"/>
            <p:cNvSpPr/>
            <p:nvPr/>
          </p:nvSpPr>
          <p:spPr>
            <a:xfrm>
              <a:off x="2388960" y="5753160"/>
              <a:ext cx="1140480" cy="268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0-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2"/>
            <p:cNvSpPr/>
            <p:nvPr/>
          </p:nvSpPr>
          <p:spPr>
            <a:xfrm>
              <a:off x="3528000" y="5753160"/>
              <a:ext cx="1140480" cy="268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4-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"/>
            <p:cNvSpPr/>
            <p:nvPr/>
          </p:nvSpPr>
          <p:spPr>
            <a:xfrm>
              <a:off x="4668840" y="5753160"/>
              <a:ext cx="1140120" cy="26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8-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4"/>
            <p:cNvSpPr/>
            <p:nvPr/>
          </p:nvSpPr>
          <p:spPr>
            <a:xfrm>
              <a:off x="5809320" y="5753160"/>
              <a:ext cx="1140480" cy="26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02-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5"/>
            <p:cNvSpPr/>
            <p:nvPr/>
          </p:nvSpPr>
          <p:spPr>
            <a:xfrm>
              <a:off x="6950160" y="5753160"/>
              <a:ext cx="1140120" cy="268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07-20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6"/>
            <p:cNvSpPr/>
            <p:nvPr/>
          </p:nvSpPr>
          <p:spPr>
            <a:xfrm>
              <a:off x="108000" y="568656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7"/>
            <p:cNvSpPr/>
            <p:nvPr/>
          </p:nvSpPr>
          <p:spPr>
            <a:xfrm flipV="1">
              <a:off x="1248480" y="568656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8"/>
            <p:cNvSpPr/>
            <p:nvPr/>
          </p:nvSpPr>
          <p:spPr>
            <a:xfrm flipV="1">
              <a:off x="8088840" y="1652400"/>
              <a:ext cx="0" cy="4100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40" descr="6FPlogo"/>
          <p:cNvPicPr/>
          <p:nvPr/>
        </p:nvPicPr>
        <p:blipFill>
          <a:blip r:embed="rId1"/>
          <a:stretch/>
        </p:blipFill>
        <p:spPr>
          <a:xfrm>
            <a:off x="898560" y="1851120"/>
            <a:ext cx="1152360" cy="641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52BACB1-67B7-4E54-932C-DFD7BA7D5BF8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855720" y="7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87360" y="1149480"/>
            <a:ext cx="1440" cy="4798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98280" y="1023840"/>
            <a:ext cx="8739360" cy="0"/>
          </a:xfrm>
          <a:prstGeom prst="line">
            <a:avLst/>
          </a:prstGeom>
          <a:ln w="158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58920" y="1125360"/>
            <a:ext cx="6257880" cy="1835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8764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зследователски проекти в 6РП и 7Р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0" y="981000"/>
            <a:ext cx="1203480" cy="5603760"/>
          </a:xfrm>
          <a:prstGeom prst="downArrow">
            <a:avLst>
              <a:gd name="adj1" fmla="val 62269"/>
              <a:gd name="adj2" fmla="val 38091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149800" y="2330280"/>
            <a:ext cx="22240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8000"/>
                  </a:srgbClr>
                </a:solidFill>
                <a:latin typeface="Arial Black"/>
              </a:rPr>
              <a:t>6th F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8959680" y="1147680"/>
            <a:ext cx="0" cy="5180040"/>
          </a:xfrm>
          <a:prstGeom prst="line">
            <a:avLst/>
          </a:prstGeom>
          <a:ln w="158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039760" y="1476360"/>
            <a:ext cx="58327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нтелигентни превозни средства &amp; услуги за мобил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ъм кооперативни систе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069920" y="1025640"/>
            <a:ext cx="979560" cy="610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073160" y="1728720"/>
            <a:ext cx="100800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915840" y="1333440"/>
            <a:ext cx="17964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915840" y="2038320"/>
            <a:ext cx="13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7769160" y="716040"/>
            <a:ext cx="1152720" cy="615960"/>
          </a:xfrm>
          <a:prstGeom prst="wedgeRoundRectCallout">
            <a:avLst>
              <a:gd name="adj1" fmla="val -145453"/>
              <a:gd name="adj2" fmla="val 4562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769160" y="746280"/>
            <a:ext cx="1081080" cy="542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14 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80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7624800" y="1590840"/>
            <a:ext cx="1297080" cy="666720"/>
          </a:xfrm>
          <a:prstGeom prst="wedgeRoundRectCallout">
            <a:avLst>
              <a:gd name="adj1" fmla="val -199814"/>
              <a:gd name="adj2" fmla="val 1809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22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92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946080" y="3459240"/>
            <a:ext cx="817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946080" y="4422600"/>
            <a:ext cx="803520" cy="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971640" y="4858920"/>
            <a:ext cx="76032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944640" y="3795840"/>
            <a:ext cx="804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1720800" y="3162240"/>
            <a:ext cx="5840640" cy="2965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558880" y="2859120"/>
            <a:ext cx="555336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нтелигентни превозни средства &amp; услуги за мобил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ооперативни систе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Сигурнос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енергийна ефективност на мобилност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Мобилност на бъдеще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5537160" y="5551560"/>
            <a:ext cx="15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8000"/>
                  </a:srgbClr>
                </a:solidFill>
                <a:latin typeface="Arial Black"/>
              </a:rPr>
              <a:t>7th F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1574640" y="409104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1576440" y="453708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1560600" y="310032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9"/>
          <p:cNvSpPr/>
          <p:nvPr/>
        </p:nvSpPr>
        <p:spPr>
          <a:xfrm>
            <a:off x="1557360" y="346068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0" descr=""/>
          <p:cNvPicPr/>
          <p:nvPr/>
        </p:nvPicPr>
        <p:blipFill>
          <a:blip r:embed="rId1"/>
          <a:stretch/>
        </p:blipFill>
        <p:spPr>
          <a:xfrm>
            <a:off x="3592440" y="4903920"/>
            <a:ext cx="866880" cy="128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AutoShape 31"/>
          <p:cNvSpPr/>
          <p:nvPr/>
        </p:nvSpPr>
        <p:spPr>
          <a:xfrm>
            <a:off x="7769160" y="2598840"/>
            <a:ext cx="1152720" cy="631800"/>
          </a:xfrm>
          <a:prstGeom prst="wedgeRoundRectCallout">
            <a:avLst>
              <a:gd name="adj1" fmla="val -101240"/>
              <a:gd name="adj2" fmla="val 7663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4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57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2"/>
          <p:cNvSpPr/>
          <p:nvPr/>
        </p:nvSpPr>
        <p:spPr>
          <a:xfrm>
            <a:off x="7769160" y="3422520"/>
            <a:ext cx="1152720" cy="631800"/>
          </a:xfrm>
          <a:prstGeom prst="wedgeRoundRectCallout">
            <a:avLst>
              <a:gd name="adj1" fmla="val -268870"/>
              <a:gd name="adj2" fmla="val 1281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2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48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7769160" y="4338720"/>
            <a:ext cx="1152720" cy="779400"/>
          </a:xfrm>
          <a:prstGeom prst="wedgeRoundRectCallout">
            <a:avLst>
              <a:gd name="adj1" fmla="val -118046"/>
              <a:gd name="adj2" fmla="val -3981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3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 53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4"/>
          <p:cNvSpPr/>
          <p:nvPr/>
        </p:nvSpPr>
        <p:spPr>
          <a:xfrm>
            <a:off x="7697880" y="5280120"/>
            <a:ext cx="1224000" cy="871560"/>
          </a:xfrm>
          <a:prstGeom prst="wedgeRoundRectCallout">
            <a:avLst>
              <a:gd name="adj1" fmla="val -247925"/>
              <a:gd name="adj2" fmla="val -10282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Индикативен бюджет</a:t>
            </a: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: 37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5"/>
          <p:cNvSpPr/>
          <p:nvPr/>
        </p:nvSpPr>
        <p:spPr>
          <a:xfrm>
            <a:off x="1000080" y="4975200"/>
            <a:ext cx="300240" cy="1079640"/>
          </a:xfrm>
          <a:custGeom>
            <a:avLst/>
            <a:gdLst>
              <a:gd name="textAreaLeft" fmla="*/ 0 w 300240"/>
              <a:gd name="textAreaRight" fmla="*/ 108360 w 3002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6"/>
          <p:cNvGrpSpPr/>
          <p:nvPr/>
        </p:nvGrpSpPr>
        <p:grpSpPr>
          <a:xfrm>
            <a:off x="1576440" y="4975200"/>
            <a:ext cx="3676320" cy="1460520"/>
            <a:chOff x="1576440" y="4975200"/>
            <a:chExt cx="3676320" cy="1460520"/>
          </a:xfrm>
        </p:grpSpPr>
        <p:sp>
          <p:nvSpPr>
            <p:cNvPr id="128" name="AutoShape 37"/>
            <p:cNvSpPr/>
            <p:nvPr/>
          </p:nvSpPr>
          <p:spPr>
            <a:xfrm>
              <a:off x="1576440" y="4975200"/>
              <a:ext cx="1996200" cy="1046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РП се подготв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38"/>
            <p:cNvGrpSpPr/>
            <p:nvPr/>
          </p:nvGrpSpPr>
          <p:grpSpPr>
            <a:xfrm>
              <a:off x="4332600" y="5187960"/>
              <a:ext cx="920160" cy="1247760"/>
              <a:chOff x="4332600" y="5187960"/>
              <a:chExt cx="920160" cy="1247760"/>
            </a:xfrm>
          </p:grpSpPr>
          <p:pic>
            <p:nvPicPr>
              <p:cNvPr id="130" name="Pictur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2600" y="5187960"/>
                <a:ext cx="920160" cy="1247760"/>
              </a:xfrm>
              <a:prstGeom prst="rect">
                <a:avLst/>
              </a:prstGeom>
              <a:ln w="9360">
                <a:solidFill>
                  <a:srgbClr val="5f5f5f"/>
                </a:solidFill>
                <a:miter/>
              </a:ln>
            </p:spPr>
          </p:pic>
          <p:sp>
            <p:nvSpPr>
              <p:cNvPr id="131" name="WordArt 40"/>
              <p:cNvSpPr txBox="1"/>
              <p:nvPr/>
            </p:nvSpPr>
            <p:spPr>
              <a:xfrm>
                <a:off x="4403160" y="5774040"/>
                <a:ext cx="816480" cy="304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Updat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504E8AD3-0BC3-4485-8EAB-EC4BF41DF1C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Работна програм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09-2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редложени те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95280" y="1125360"/>
            <a:ext cx="7993080" cy="50403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799308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6600"/>
                </a:solidFill>
                <a:latin typeface="Verdana"/>
              </a:rPr>
              <a:t>Конкурс 6 - Цел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6.2: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перационни тестове за интегрирани системи за сигурност и кооперативни систе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P, STREP, C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одобрения на ефективността, сигурността и комфор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анализ на потребителското възприемане, поведението и ползи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1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КТ-базирани системи и услуги за умна градска мобилност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amp;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ови концепции за мобилност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R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адресирани към влиянието върху околната среда и сигурността на мобилността, като същевременно се стимулира икономическия растеж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ординиращи и поддържащи дейност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Включително международно сътрудниче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9075B48-DA72-4811-A136-E716EE63366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517680" y="1290600"/>
            <a:ext cx="7654680" cy="480060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Работна програм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09-2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95240" y="1679400"/>
            <a:ext cx="79534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Конкурс 6 - Цел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6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ндикативен бюджет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7 M€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Начал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Край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4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010 (17: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291BE1CF-B1A4-4177-9677-7B9ECC1D224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A_ht-cartocar"/>
          <p:cNvPicPr/>
          <p:nvPr/>
        </p:nvPicPr>
        <p:blipFill>
          <a:blip r:embed="rId1"/>
          <a:stretch/>
        </p:blipFill>
        <p:spPr>
          <a:xfrm>
            <a:off x="6012000" y="3860640"/>
            <a:ext cx="2273040" cy="2210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Picture2"/>
          <p:cNvPicPr/>
          <p:nvPr/>
        </p:nvPicPr>
        <p:blipFill>
          <a:blip r:embed="rId2"/>
          <a:stretch/>
        </p:blipFill>
        <p:spPr>
          <a:xfrm>
            <a:off x="6102360" y="3137040"/>
            <a:ext cx="1755720" cy="1631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95360" y="1349280"/>
            <a:ext cx="8407440" cy="9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5472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110000"/>
              </a:lnSpc>
              <a:spcBef>
                <a:spcPts val="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Це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подобренията в ефективност, сигурност и комфор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биране на данни за анализ на потребителското приемане, изпълнението и ползите за безопасността на пътя както за автономни системи на борда и системи за сътруднич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следователските теми включва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Широко-мащабни тестови програми на системи, предназначени за пазара преди тяхното разпространение в Европа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алидиране на представянето на сигурни кооперативни систе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84280" y="1325520"/>
            <a:ext cx="81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одобласт:</a:t>
            </a:r>
            <a:r>
              <a:rPr b="1" lang="bg-BG" sz="2000" spc="-1" strike="noStrike">
                <a:solidFill>
                  <a:srgbClr val="ff6600"/>
                </a:solidFill>
                <a:latin typeface="Verdana"/>
              </a:rPr>
              <a:t> Полеви оперативен тест за интегрирани системи за безопасност и системи за сътрудни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300720" y="2276640"/>
            <a:ext cx="2668680" cy="1198440"/>
          </a:xfrm>
          <a:prstGeom prst="cloudCallout">
            <a:avLst>
              <a:gd name="adj1" fmla="val -5027"/>
              <a:gd name="adj2" fmla="val -9039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516720" y="227664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P, STREP and 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24000" y="5013360"/>
            <a:ext cx="5651280" cy="12096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66"/>
              </a:gs>
              <a:gs pos="100000">
                <a:srgbClr val="ff99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50920" y="4941720"/>
            <a:ext cx="57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“…</a:t>
            </a:r>
            <a:r>
              <a:rPr b="0" i="1" lang="bg-BG" sz="1800" spc="-1" strike="noStrike">
                <a:solidFill>
                  <a:srgbClr val="000000"/>
                </a:solidFill>
                <a:latin typeface="Arial Narrow"/>
              </a:rPr>
              <a:t>това е важно средство за тестване на няколко ИКТ системи в реална среда като по този начин се оценява тяхното комбинирано влияние върху поведението на шофьорите и на транспортната система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…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009D9F7B-20F6-421C-9424-CF43952A575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2320" y="385920"/>
            <a:ext cx="73789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еративни тестове на място в 7РП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ценка на ИКТ функции и техния ефект в реален т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2872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07648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32424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81976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093080" y="1341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26920" y="1368360"/>
            <a:ext cx="16243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960640" y="1368360"/>
            <a:ext cx="16146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74000" y="1368360"/>
            <a:ext cx="1243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24000" y="2205000"/>
            <a:ext cx="1481040" cy="36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одготовка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азработва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структу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рамков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етоди 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вежда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тестов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965240" y="3648240"/>
            <a:ext cx="4461120" cy="6476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стове на автоном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КТ системи на превозни средства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011560" y="1368360"/>
            <a:ext cx="16146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060524 volvo_s80"/>
          <p:cNvPicPr/>
          <p:nvPr/>
        </p:nvPicPr>
        <p:blipFill>
          <a:blip r:embed="rId1"/>
          <a:stretch/>
        </p:blipFill>
        <p:spPr>
          <a:xfrm>
            <a:off x="4648320" y="1709640"/>
            <a:ext cx="233676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6"/>
          <p:cNvSpPr/>
          <p:nvPr/>
        </p:nvSpPr>
        <p:spPr>
          <a:xfrm>
            <a:off x="5003640" y="4653000"/>
            <a:ext cx="3807000" cy="64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 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стове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ооперативни ИКТ систе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4859280" y="5661000"/>
            <a:ext cx="2451240" cy="982080"/>
            <a:chOff x="4859280" y="5661000"/>
            <a:chExt cx="2451240" cy="982080"/>
          </a:xfrm>
        </p:grpSpPr>
        <p:grpSp>
          <p:nvGrpSpPr>
            <p:cNvPr id="169" name="Group 18"/>
            <p:cNvGrpSpPr/>
            <p:nvPr/>
          </p:nvGrpSpPr>
          <p:grpSpPr>
            <a:xfrm>
              <a:off x="5394240" y="5661000"/>
              <a:ext cx="476280" cy="340920"/>
              <a:chOff x="5394240" y="5661000"/>
              <a:chExt cx="476280" cy="340920"/>
            </a:xfrm>
          </p:grpSpPr>
          <p:sp>
            <p:nvSpPr>
              <p:cNvPr id="170" name="Rectangle 19"/>
              <p:cNvSpPr/>
              <p:nvPr/>
            </p:nvSpPr>
            <p:spPr>
              <a:xfrm>
                <a:off x="5570280" y="566100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5394240" y="586224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5394240" y="586224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37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38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40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41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42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43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44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55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56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57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58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64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65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66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67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68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69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70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71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76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77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78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79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84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85"/>
              <p:cNvSpPr/>
              <p:nvPr/>
            </p:nvSpPr>
            <p:spPr>
              <a:xfrm>
                <a:off x="5519160" y="578232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>
                <a:off x="5502240" y="586548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>
                <a:off x="5502240" y="586548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1"/>
              <p:cNvSpPr/>
              <p:nvPr/>
            </p:nvSpPr>
            <p:spPr>
              <a:xfrm>
                <a:off x="5542560" y="585540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92"/>
              <p:cNvSpPr/>
              <p:nvPr/>
            </p:nvSpPr>
            <p:spPr>
              <a:xfrm>
                <a:off x="5542560" y="585540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3"/>
              <p:cNvSpPr/>
              <p:nvPr/>
            </p:nvSpPr>
            <p:spPr>
              <a:xfrm>
                <a:off x="5542560" y="585864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94"/>
              <p:cNvSpPr/>
              <p:nvPr/>
            </p:nvSpPr>
            <p:spPr>
              <a:xfrm>
                <a:off x="5542560" y="585864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>
                <a:off x="5397120" y="586548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96"/>
              <p:cNvSpPr/>
              <p:nvPr/>
            </p:nvSpPr>
            <p:spPr>
              <a:xfrm>
                <a:off x="5397120" y="586548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97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98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99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00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01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02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03"/>
              <p:cNvSpPr/>
              <p:nvPr/>
            </p:nvSpPr>
            <p:spPr>
              <a:xfrm>
                <a:off x="5759280" y="578232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04"/>
              <p:cNvSpPr/>
              <p:nvPr/>
            </p:nvSpPr>
            <p:spPr>
              <a:xfrm>
                <a:off x="5759280" y="578232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05"/>
              <p:cNvSpPr/>
              <p:nvPr/>
            </p:nvSpPr>
            <p:spPr>
              <a:xfrm>
                <a:off x="5762520" y="578232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06"/>
              <p:cNvSpPr/>
              <p:nvPr/>
            </p:nvSpPr>
            <p:spPr>
              <a:xfrm>
                <a:off x="5836680" y="579600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07"/>
              <p:cNvSpPr/>
              <p:nvPr/>
            </p:nvSpPr>
            <p:spPr>
              <a:xfrm>
                <a:off x="5840280" y="5806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08"/>
              <p:cNvSpPr/>
              <p:nvPr/>
            </p:nvSpPr>
            <p:spPr>
              <a:xfrm>
                <a:off x="5840280" y="5806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09"/>
              <p:cNvSpPr/>
              <p:nvPr/>
            </p:nvSpPr>
            <p:spPr>
              <a:xfrm>
                <a:off x="5840280" y="580680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10"/>
              <p:cNvSpPr/>
              <p:nvPr/>
            </p:nvSpPr>
            <p:spPr>
              <a:xfrm>
                <a:off x="5840280" y="580680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11"/>
              <p:cNvSpPr/>
              <p:nvPr/>
            </p:nvSpPr>
            <p:spPr>
              <a:xfrm>
                <a:off x="5843520" y="582408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12"/>
              <p:cNvSpPr/>
              <p:nvPr/>
            </p:nvSpPr>
            <p:spPr>
              <a:xfrm>
                <a:off x="5843520" y="582408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13"/>
              <p:cNvSpPr/>
              <p:nvPr/>
            </p:nvSpPr>
            <p:spPr>
              <a:xfrm>
                <a:off x="5843520" y="582408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14"/>
              <p:cNvSpPr/>
              <p:nvPr/>
            </p:nvSpPr>
            <p:spPr>
              <a:xfrm>
                <a:off x="5843520" y="582408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15"/>
              <p:cNvSpPr/>
              <p:nvPr/>
            </p:nvSpPr>
            <p:spPr>
              <a:xfrm>
                <a:off x="5840280" y="584136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16"/>
              <p:cNvSpPr/>
              <p:nvPr/>
            </p:nvSpPr>
            <p:spPr>
              <a:xfrm>
                <a:off x="5840280" y="584136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17"/>
              <p:cNvSpPr/>
              <p:nvPr/>
            </p:nvSpPr>
            <p:spPr>
              <a:xfrm>
                <a:off x="5840280" y="58413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18"/>
              <p:cNvSpPr/>
              <p:nvPr/>
            </p:nvSpPr>
            <p:spPr>
              <a:xfrm>
                <a:off x="5840280" y="58413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19"/>
              <p:cNvSpPr/>
              <p:nvPr/>
            </p:nvSpPr>
            <p:spPr>
              <a:xfrm>
                <a:off x="5853600" y="580680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20"/>
              <p:cNvSpPr/>
              <p:nvPr/>
            </p:nvSpPr>
            <p:spPr>
              <a:xfrm>
                <a:off x="5853600" y="580680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>
                <a:off x="5857200" y="582408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>
                <a:off x="5857200" y="582408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>
                <a:off x="5853600" y="584136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>
                <a:off x="5853600" y="584136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28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29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30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31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32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33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34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35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36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37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38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39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40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41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42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43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44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45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46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47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48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49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50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51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52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53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54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55"/>
              <p:cNvSpPr/>
              <p:nvPr/>
            </p:nvSpPr>
            <p:spPr>
              <a:xfrm>
                <a:off x="5718240" y="572004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56"/>
              <p:cNvSpPr/>
              <p:nvPr/>
            </p:nvSpPr>
            <p:spPr>
              <a:xfrm>
                <a:off x="5718240" y="572004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57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58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59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60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61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62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63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64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65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66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67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68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69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70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71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72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73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74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75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76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77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78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79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180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181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182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183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184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88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89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90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91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92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93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94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95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96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97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98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9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0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01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02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203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04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05"/>
            <p:cNvGrpSpPr/>
            <p:nvPr/>
          </p:nvGrpSpPr>
          <p:grpSpPr>
            <a:xfrm>
              <a:off x="4859280" y="6243480"/>
              <a:ext cx="476280" cy="340920"/>
              <a:chOff x="4859280" y="6243480"/>
              <a:chExt cx="476280" cy="340920"/>
            </a:xfrm>
          </p:grpSpPr>
          <p:sp>
            <p:nvSpPr>
              <p:cNvPr id="357" name="Rectangle 206"/>
              <p:cNvSpPr/>
              <p:nvPr/>
            </p:nvSpPr>
            <p:spPr>
              <a:xfrm>
                <a:off x="5035320" y="624348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07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08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209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210"/>
              <p:cNvSpPr/>
              <p:nvPr/>
            </p:nvSpPr>
            <p:spPr>
              <a:xfrm>
                <a:off x="4859280" y="64447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11"/>
              <p:cNvSpPr/>
              <p:nvPr/>
            </p:nvSpPr>
            <p:spPr>
              <a:xfrm>
                <a:off x="4859280" y="64447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212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213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214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215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216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217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18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219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220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221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222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223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224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25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226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227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228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229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230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231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232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233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234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235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36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37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8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39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40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241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242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43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244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245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246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247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248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49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50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251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252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253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254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255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256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257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258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259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260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261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262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263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264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265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266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267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68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69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70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71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72"/>
              <p:cNvSpPr/>
              <p:nvPr/>
            </p:nvSpPr>
            <p:spPr>
              <a:xfrm>
                <a:off x="4984200" y="636480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273"/>
              <p:cNvSpPr/>
              <p:nvPr/>
            </p:nvSpPr>
            <p:spPr>
              <a:xfrm>
                <a:off x="4967280" y="64479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274"/>
              <p:cNvSpPr/>
              <p:nvPr/>
            </p:nvSpPr>
            <p:spPr>
              <a:xfrm>
                <a:off x="4967280" y="64479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75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276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77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78"/>
              <p:cNvSpPr/>
              <p:nvPr/>
            </p:nvSpPr>
            <p:spPr>
              <a:xfrm>
                <a:off x="5007600" y="64378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79"/>
              <p:cNvSpPr/>
              <p:nvPr/>
            </p:nvSpPr>
            <p:spPr>
              <a:xfrm>
                <a:off x="5007600" y="64378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80"/>
              <p:cNvSpPr/>
              <p:nvPr/>
            </p:nvSpPr>
            <p:spPr>
              <a:xfrm>
                <a:off x="5007600" y="64411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81"/>
              <p:cNvSpPr/>
              <p:nvPr/>
            </p:nvSpPr>
            <p:spPr>
              <a:xfrm>
                <a:off x="5007600" y="64411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82"/>
              <p:cNvSpPr/>
              <p:nvPr/>
            </p:nvSpPr>
            <p:spPr>
              <a:xfrm>
                <a:off x="4862160" y="64479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83"/>
              <p:cNvSpPr/>
              <p:nvPr/>
            </p:nvSpPr>
            <p:spPr>
              <a:xfrm>
                <a:off x="4862160" y="64479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84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85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86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87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88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289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90"/>
              <p:cNvSpPr/>
              <p:nvPr/>
            </p:nvSpPr>
            <p:spPr>
              <a:xfrm>
                <a:off x="5224320" y="63648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291"/>
              <p:cNvSpPr/>
              <p:nvPr/>
            </p:nvSpPr>
            <p:spPr>
              <a:xfrm>
                <a:off x="5224320" y="63648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292"/>
              <p:cNvSpPr/>
              <p:nvPr/>
            </p:nvSpPr>
            <p:spPr>
              <a:xfrm>
                <a:off x="5227560" y="636480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93"/>
              <p:cNvSpPr/>
              <p:nvPr/>
            </p:nvSpPr>
            <p:spPr>
              <a:xfrm>
                <a:off x="5301720" y="637848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294"/>
              <p:cNvSpPr/>
              <p:nvPr/>
            </p:nvSpPr>
            <p:spPr>
              <a:xfrm>
                <a:off x="5305320" y="63892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95"/>
              <p:cNvSpPr/>
              <p:nvPr/>
            </p:nvSpPr>
            <p:spPr>
              <a:xfrm>
                <a:off x="5305320" y="63892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96"/>
              <p:cNvSpPr/>
              <p:nvPr/>
            </p:nvSpPr>
            <p:spPr>
              <a:xfrm>
                <a:off x="5305320" y="63892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97"/>
              <p:cNvSpPr/>
              <p:nvPr/>
            </p:nvSpPr>
            <p:spPr>
              <a:xfrm>
                <a:off x="5305320" y="63892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98"/>
              <p:cNvSpPr/>
              <p:nvPr/>
            </p:nvSpPr>
            <p:spPr>
              <a:xfrm>
                <a:off x="5308560" y="64065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99"/>
              <p:cNvSpPr/>
              <p:nvPr/>
            </p:nvSpPr>
            <p:spPr>
              <a:xfrm>
                <a:off x="5308560" y="64065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00"/>
              <p:cNvSpPr/>
              <p:nvPr/>
            </p:nvSpPr>
            <p:spPr>
              <a:xfrm>
                <a:off x="5308560" y="64065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01"/>
              <p:cNvSpPr/>
              <p:nvPr/>
            </p:nvSpPr>
            <p:spPr>
              <a:xfrm>
                <a:off x="5308560" y="64065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02"/>
              <p:cNvSpPr/>
              <p:nvPr/>
            </p:nvSpPr>
            <p:spPr>
              <a:xfrm>
                <a:off x="5305320" y="64238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03"/>
              <p:cNvSpPr/>
              <p:nvPr/>
            </p:nvSpPr>
            <p:spPr>
              <a:xfrm>
                <a:off x="5305320" y="64238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04"/>
              <p:cNvSpPr/>
              <p:nvPr/>
            </p:nvSpPr>
            <p:spPr>
              <a:xfrm>
                <a:off x="5305320" y="64238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05"/>
              <p:cNvSpPr/>
              <p:nvPr/>
            </p:nvSpPr>
            <p:spPr>
              <a:xfrm>
                <a:off x="5305320" y="64238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06"/>
              <p:cNvSpPr/>
              <p:nvPr/>
            </p:nvSpPr>
            <p:spPr>
              <a:xfrm>
                <a:off x="5318640" y="63892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07"/>
              <p:cNvSpPr/>
              <p:nvPr/>
            </p:nvSpPr>
            <p:spPr>
              <a:xfrm>
                <a:off x="5318640" y="63892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08"/>
              <p:cNvSpPr/>
              <p:nvPr/>
            </p:nvSpPr>
            <p:spPr>
              <a:xfrm>
                <a:off x="5322240" y="64065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09"/>
              <p:cNvSpPr/>
              <p:nvPr/>
            </p:nvSpPr>
            <p:spPr>
              <a:xfrm>
                <a:off x="5322240" y="64065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10"/>
              <p:cNvSpPr/>
              <p:nvPr/>
            </p:nvSpPr>
            <p:spPr>
              <a:xfrm>
                <a:off x="5318640" y="64238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11"/>
              <p:cNvSpPr/>
              <p:nvPr/>
            </p:nvSpPr>
            <p:spPr>
              <a:xfrm>
                <a:off x="5318640" y="64238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12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313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314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315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316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17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18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319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320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321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322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323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24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25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326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327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328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329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330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331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332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333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334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335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336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37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338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39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40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41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42"/>
              <p:cNvSpPr/>
              <p:nvPr/>
            </p:nvSpPr>
            <p:spPr>
              <a:xfrm>
                <a:off x="5183280" y="63025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43"/>
              <p:cNvSpPr/>
              <p:nvPr/>
            </p:nvSpPr>
            <p:spPr>
              <a:xfrm>
                <a:off x="5183280" y="63025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44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45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46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47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348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349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350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351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352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353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354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355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356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357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358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359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360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361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362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363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364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65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366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67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68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69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70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71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72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73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74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75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76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77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78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79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80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81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382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383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384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85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86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387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88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89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90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91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92"/>
            <p:cNvGrpSpPr/>
            <p:nvPr/>
          </p:nvGrpSpPr>
          <p:grpSpPr>
            <a:xfrm>
              <a:off x="6149880" y="6302160"/>
              <a:ext cx="476280" cy="340920"/>
              <a:chOff x="6149880" y="6302160"/>
              <a:chExt cx="476280" cy="340920"/>
            </a:xfrm>
          </p:grpSpPr>
          <p:sp>
            <p:nvSpPr>
              <p:cNvPr id="544" name="Rectangle 393"/>
              <p:cNvSpPr/>
              <p:nvPr/>
            </p:nvSpPr>
            <p:spPr>
              <a:xfrm>
                <a:off x="6325920" y="630216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94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95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96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97"/>
              <p:cNvSpPr/>
              <p:nvPr/>
            </p:nvSpPr>
            <p:spPr>
              <a:xfrm>
                <a:off x="6149880" y="650340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98"/>
              <p:cNvSpPr/>
              <p:nvPr/>
            </p:nvSpPr>
            <p:spPr>
              <a:xfrm>
                <a:off x="6149880" y="650340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99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00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01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02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03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04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5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06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07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08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09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10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11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12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13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14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15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16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17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18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19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20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21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22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23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24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25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26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27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28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29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30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31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32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33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34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35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36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37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38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39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40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41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442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443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444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445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446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447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448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449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450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451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452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453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454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455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456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457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458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459"/>
              <p:cNvSpPr/>
              <p:nvPr/>
            </p:nvSpPr>
            <p:spPr>
              <a:xfrm>
                <a:off x="6274800" y="642348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460"/>
              <p:cNvSpPr/>
              <p:nvPr/>
            </p:nvSpPr>
            <p:spPr>
              <a:xfrm>
                <a:off x="6257880" y="650664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461"/>
              <p:cNvSpPr/>
              <p:nvPr/>
            </p:nvSpPr>
            <p:spPr>
              <a:xfrm>
                <a:off x="6257880" y="650664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462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463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464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465"/>
              <p:cNvSpPr/>
              <p:nvPr/>
            </p:nvSpPr>
            <p:spPr>
              <a:xfrm>
                <a:off x="6298200" y="649656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466"/>
              <p:cNvSpPr/>
              <p:nvPr/>
            </p:nvSpPr>
            <p:spPr>
              <a:xfrm>
                <a:off x="6298200" y="649656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467"/>
              <p:cNvSpPr/>
              <p:nvPr/>
            </p:nvSpPr>
            <p:spPr>
              <a:xfrm>
                <a:off x="6298200" y="649980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468"/>
              <p:cNvSpPr/>
              <p:nvPr/>
            </p:nvSpPr>
            <p:spPr>
              <a:xfrm>
                <a:off x="6298200" y="649980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469"/>
              <p:cNvSpPr/>
              <p:nvPr/>
            </p:nvSpPr>
            <p:spPr>
              <a:xfrm>
                <a:off x="6152760" y="650664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470"/>
              <p:cNvSpPr/>
              <p:nvPr/>
            </p:nvSpPr>
            <p:spPr>
              <a:xfrm>
                <a:off x="6152760" y="650664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471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472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473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474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475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476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477"/>
              <p:cNvSpPr/>
              <p:nvPr/>
            </p:nvSpPr>
            <p:spPr>
              <a:xfrm>
                <a:off x="6514920" y="642348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478"/>
              <p:cNvSpPr/>
              <p:nvPr/>
            </p:nvSpPr>
            <p:spPr>
              <a:xfrm>
                <a:off x="6514920" y="642348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479"/>
              <p:cNvSpPr/>
              <p:nvPr/>
            </p:nvSpPr>
            <p:spPr>
              <a:xfrm>
                <a:off x="6518160" y="642348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480"/>
              <p:cNvSpPr/>
              <p:nvPr/>
            </p:nvSpPr>
            <p:spPr>
              <a:xfrm>
                <a:off x="6592320" y="643716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481"/>
              <p:cNvSpPr/>
              <p:nvPr/>
            </p:nvSpPr>
            <p:spPr>
              <a:xfrm>
                <a:off x="6595920" y="644796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482"/>
              <p:cNvSpPr/>
              <p:nvPr/>
            </p:nvSpPr>
            <p:spPr>
              <a:xfrm>
                <a:off x="6595920" y="644796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483"/>
              <p:cNvSpPr/>
              <p:nvPr/>
            </p:nvSpPr>
            <p:spPr>
              <a:xfrm>
                <a:off x="6595920" y="64479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484"/>
              <p:cNvSpPr/>
              <p:nvPr/>
            </p:nvSpPr>
            <p:spPr>
              <a:xfrm>
                <a:off x="6595920" y="64479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485"/>
              <p:cNvSpPr/>
              <p:nvPr/>
            </p:nvSpPr>
            <p:spPr>
              <a:xfrm>
                <a:off x="6599160" y="64652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486"/>
              <p:cNvSpPr/>
              <p:nvPr/>
            </p:nvSpPr>
            <p:spPr>
              <a:xfrm>
                <a:off x="6599160" y="64652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487"/>
              <p:cNvSpPr/>
              <p:nvPr/>
            </p:nvSpPr>
            <p:spPr>
              <a:xfrm>
                <a:off x="6599160" y="646524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488"/>
              <p:cNvSpPr/>
              <p:nvPr/>
            </p:nvSpPr>
            <p:spPr>
              <a:xfrm>
                <a:off x="6599160" y="646524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489"/>
              <p:cNvSpPr/>
              <p:nvPr/>
            </p:nvSpPr>
            <p:spPr>
              <a:xfrm>
                <a:off x="6595920" y="648252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490"/>
              <p:cNvSpPr/>
              <p:nvPr/>
            </p:nvSpPr>
            <p:spPr>
              <a:xfrm>
                <a:off x="6595920" y="648252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491"/>
              <p:cNvSpPr/>
              <p:nvPr/>
            </p:nvSpPr>
            <p:spPr>
              <a:xfrm>
                <a:off x="6595920" y="648252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492"/>
              <p:cNvSpPr/>
              <p:nvPr/>
            </p:nvSpPr>
            <p:spPr>
              <a:xfrm>
                <a:off x="6595920" y="648252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493"/>
              <p:cNvSpPr/>
              <p:nvPr/>
            </p:nvSpPr>
            <p:spPr>
              <a:xfrm>
                <a:off x="6609240" y="644796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494"/>
              <p:cNvSpPr/>
              <p:nvPr/>
            </p:nvSpPr>
            <p:spPr>
              <a:xfrm>
                <a:off x="6609240" y="644796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495"/>
              <p:cNvSpPr/>
              <p:nvPr/>
            </p:nvSpPr>
            <p:spPr>
              <a:xfrm>
                <a:off x="6612840" y="646524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496"/>
              <p:cNvSpPr/>
              <p:nvPr/>
            </p:nvSpPr>
            <p:spPr>
              <a:xfrm>
                <a:off x="6612840" y="646524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497"/>
              <p:cNvSpPr/>
              <p:nvPr/>
            </p:nvSpPr>
            <p:spPr>
              <a:xfrm>
                <a:off x="6609240" y="648252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498"/>
              <p:cNvSpPr/>
              <p:nvPr/>
            </p:nvSpPr>
            <p:spPr>
              <a:xfrm>
                <a:off x="6609240" y="648252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499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500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501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502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503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504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505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506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507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508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509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510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511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512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513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514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515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516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517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518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519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520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521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522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523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24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25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526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527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528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529"/>
              <p:cNvSpPr/>
              <p:nvPr/>
            </p:nvSpPr>
            <p:spPr>
              <a:xfrm>
                <a:off x="6473880" y="636120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530"/>
              <p:cNvSpPr/>
              <p:nvPr/>
            </p:nvSpPr>
            <p:spPr>
              <a:xfrm>
                <a:off x="6473880" y="636120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531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532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533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534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535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536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37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38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39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40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1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42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43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44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545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546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Freeform 547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548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549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Freeform 550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551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552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553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554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555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556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557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558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559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560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561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562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563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564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565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566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567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568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569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570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571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572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573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574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575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576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577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578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9"/>
            <p:cNvGrpSpPr/>
            <p:nvPr/>
          </p:nvGrpSpPr>
          <p:grpSpPr>
            <a:xfrm>
              <a:off x="6834240" y="5719680"/>
              <a:ext cx="476280" cy="340920"/>
              <a:chOff x="6834240" y="5719680"/>
              <a:chExt cx="476280" cy="340920"/>
            </a:xfrm>
          </p:grpSpPr>
          <p:sp>
            <p:nvSpPr>
              <p:cNvPr id="731" name="Rectangle 580"/>
              <p:cNvSpPr/>
              <p:nvPr/>
            </p:nvSpPr>
            <p:spPr>
              <a:xfrm>
                <a:off x="7010280" y="571968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581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582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583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584"/>
              <p:cNvSpPr/>
              <p:nvPr/>
            </p:nvSpPr>
            <p:spPr>
              <a:xfrm>
                <a:off x="6834240" y="59209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585"/>
              <p:cNvSpPr/>
              <p:nvPr/>
            </p:nvSpPr>
            <p:spPr>
              <a:xfrm>
                <a:off x="6834240" y="59209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586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587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588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589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590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591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592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93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594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595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596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597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598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599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600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601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602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603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604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605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606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607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608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609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610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611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12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613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614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615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616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617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18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619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620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621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622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623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624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625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626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627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628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629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630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631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632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633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634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635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636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637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638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639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640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41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642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643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644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645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646"/>
              <p:cNvSpPr/>
              <p:nvPr/>
            </p:nvSpPr>
            <p:spPr>
              <a:xfrm>
                <a:off x="6959160" y="584100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647"/>
              <p:cNvSpPr/>
              <p:nvPr/>
            </p:nvSpPr>
            <p:spPr>
              <a:xfrm>
                <a:off x="6942240" y="59241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648"/>
              <p:cNvSpPr/>
              <p:nvPr/>
            </p:nvSpPr>
            <p:spPr>
              <a:xfrm>
                <a:off x="6942240" y="59241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649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650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651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652"/>
              <p:cNvSpPr/>
              <p:nvPr/>
            </p:nvSpPr>
            <p:spPr>
              <a:xfrm>
                <a:off x="6982560" y="59140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653"/>
              <p:cNvSpPr/>
              <p:nvPr/>
            </p:nvSpPr>
            <p:spPr>
              <a:xfrm>
                <a:off x="6982560" y="59140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654"/>
              <p:cNvSpPr/>
              <p:nvPr/>
            </p:nvSpPr>
            <p:spPr>
              <a:xfrm>
                <a:off x="6982560" y="59173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655"/>
              <p:cNvSpPr/>
              <p:nvPr/>
            </p:nvSpPr>
            <p:spPr>
              <a:xfrm>
                <a:off x="6982560" y="59173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656"/>
              <p:cNvSpPr/>
              <p:nvPr/>
            </p:nvSpPr>
            <p:spPr>
              <a:xfrm>
                <a:off x="6837120" y="59241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657"/>
              <p:cNvSpPr/>
              <p:nvPr/>
            </p:nvSpPr>
            <p:spPr>
              <a:xfrm>
                <a:off x="6837120" y="59241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658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659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660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661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662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663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664"/>
              <p:cNvSpPr/>
              <p:nvPr/>
            </p:nvSpPr>
            <p:spPr>
              <a:xfrm>
                <a:off x="7199280" y="58410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665"/>
              <p:cNvSpPr/>
              <p:nvPr/>
            </p:nvSpPr>
            <p:spPr>
              <a:xfrm>
                <a:off x="7199280" y="58410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666"/>
              <p:cNvSpPr/>
              <p:nvPr/>
            </p:nvSpPr>
            <p:spPr>
              <a:xfrm>
                <a:off x="7202520" y="584100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667"/>
              <p:cNvSpPr/>
              <p:nvPr/>
            </p:nvSpPr>
            <p:spPr>
              <a:xfrm>
                <a:off x="7276680" y="585468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668"/>
              <p:cNvSpPr/>
              <p:nvPr/>
            </p:nvSpPr>
            <p:spPr>
              <a:xfrm>
                <a:off x="7280280" y="58654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669"/>
              <p:cNvSpPr/>
              <p:nvPr/>
            </p:nvSpPr>
            <p:spPr>
              <a:xfrm>
                <a:off x="7280280" y="58654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670"/>
              <p:cNvSpPr/>
              <p:nvPr/>
            </p:nvSpPr>
            <p:spPr>
              <a:xfrm>
                <a:off x="7280280" y="58654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671"/>
              <p:cNvSpPr/>
              <p:nvPr/>
            </p:nvSpPr>
            <p:spPr>
              <a:xfrm>
                <a:off x="7280280" y="58654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672"/>
              <p:cNvSpPr/>
              <p:nvPr/>
            </p:nvSpPr>
            <p:spPr>
              <a:xfrm>
                <a:off x="7283520" y="58827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673"/>
              <p:cNvSpPr/>
              <p:nvPr/>
            </p:nvSpPr>
            <p:spPr>
              <a:xfrm>
                <a:off x="7283520" y="58827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674"/>
              <p:cNvSpPr/>
              <p:nvPr/>
            </p:nvSpPr>
            <p:spPr>
              <a:xfrm>
                <a:off x="7283520" y="58827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675"/>
              <p:cNvSpPr/>
              <p:nvPr/>
            </p:nvSpPr>
            <p:spPr>
              <a:xfrm>
                <a:off x="7283520" y="58827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676"/>
              <p:cNvSpPr/>
              <p:nvPr/>
            </p:nvSpPr>
            <p:spPr>
              <a:xfrm>
                <a:off x="7280280" y="59000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677"/>
              <p:cNvSpPr/>
              <p:nvPr/>
            </p:nvSpPr>
            <p:spPr>
              <a:xfrm>
                <a:off x="7280280" y="59000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678"/>
              <p:cNvSpPr/>
              <p:nvPr/>
            </p:nvSpPr>
            <p:spPr>
              <a:xfrm>
                <a:off x="7280280" y="59000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679"/>
              <p:cNvSpPr/>
              <p:nvPr/>
            </p:nvSpPr>
            <p:spPr>
              <a:xfrm>
                <a:off x="7280280" y="59000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680"/>
              <p:cNvSpPr/>
              <p:nvPr/>
            </p:nvSpPr>
            <p:spPr>
              <a:xfrm>
                <a:off x="7293600" y="58654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681"/>
              <p:cNvSpPr/>
              <p:nvPr/>
            </p:nvSpPr>
            <p:spPr>
              <a:xfrm>
                <a:off x="7293600" y="58654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682"/>
              <p:cNvSpPr/>
              <p:nvPr/>
            </p:nvSpPr>
            <p:spPr>
              <a:xfrm>
                <a:off x="7297200" y="58827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683"/>
              <p:cNvSpPr/>
              <p:nvPr/>
            </p:nvSpPr>
            <p:spPr>
              <a:xfrm>
                <a:off x="7297200" y="58827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684"/>
              <p:cNvSpPr/>
              <p:nvPr/>
            </p:nvSpPr>
            <p:spPr>
              <a:xfrm>
                <a:off x="7293600" y="59000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685"/>
              <p:cNvSpPr/>
              <p:nvPr/>
            </p:nvSpPr>
            <p:spPr>
              <a:xfrm>
                <a:off x="7293600" y="59000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686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687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688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689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690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691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692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693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694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695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696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697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698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699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700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701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702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703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704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705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706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707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708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709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710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711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712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13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714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715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716"/>
              <p:cNvSpPr/>
              <p:nvPr/>
            </p:nvSpPr>
            <p:spPr>
              <a:xfrm>
                <a:off x="7158240" y="57787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717"/>
              <p:cNvSpPr/>
              <p:nvPr/>
            </p:nvSpPr>
            <p:spPr>
              <a:xfrm>
                <a:off x="7158240" y="57787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718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19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720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721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722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723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724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25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726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727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728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729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730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731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732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733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734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735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736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737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738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739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740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741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742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743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744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745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746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747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748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749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750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751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752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753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754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755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756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757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758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759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760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761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762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763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764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765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766"/>
            <p:cNvGrpSpPr/>
            <p:nvPr/>
          </p:nvGrpSpPr>
          <p:grpSpPr>
            <a:xfrm>
              <a:off x="5395680" y="6256080"/>
              <a:ext cx="568080" cy="158760"/>
              <a:chOff x="5395680" y="6256080"/>
              <a:chExt cx="568080" cy="158760"/>
            </a:xfrm>
          </p:grpSpPr>
          <p:sp>
            <p:nvSpPr>
              <p:cNvPr id="918" name="Freeform 767"/>
              <p:cNvSpPr/>
              <p:nvPr/>
            </p:nvSpPr>
            <p:spPr>
              <a:xfrm>
                <a:off x="5395680" y="627768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768"/>
              <p:cNvSpPr/>
              <p:nvPr/>
            </p:nvSpPr>
            <p:spPr>
              <a:xfrm>
                <a:off x="5634360" y="625608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769"/>
            <p:cNvGrpSpPr/>
            <p:nvPr/>
          </p:nvGrpSpPr>
          <p:grpSpPr>
            <a:xfrm>
              <a:off x="6010200" y="5817960"/>
              <a:ext cx="743040" cy="166680"/>
              <a:chOff x="6010200" y="5817960"/>
              <a:chExt cx="743040" cy="166680"/>
            </a:xfrm>
          </p:grpSpPr>
          <p:sp>
            <p:nvSpPr>
              <p:cNvPr id="921" name="Freeform 770"/>
              <p:cNvSpPr/>
              <p:nvPr/>
            </p:nvSpPr>
            <p:spPr>
              <a:xfrm>
                <a:off x="6010200" y="5840640"/>
                <a:ext cx="483120" cy="14364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71"/>
              <p:cNvSpPr/>
              <p:nvPr/>
            </p:nvSpPr>
            <p:spPr>
              <a:xfrm>
                <a:off x="6322320" y="5817960"/>
                <a:ext cx="430920" cy="16668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772"/>
            <p:cNvGrpSpPr/>
            <p:nvPr/>
          </p:nvGrpSpPr>
          <p:grpSpPr>
            <a:xfrm>
              <a:off x="5737680" y="5974560"/>
              <a:ext cx="579960" cy="373320"/>
              <a:chOff x="5737680" y="5974560"/>
              <a:chExt cx="579960" cy="373320"/>
            </a:xfrm>
          </p:grpSpPr>
          <p:sp>
            <p:nvSpPr>
              <p:cNvPr id="924" name="Freeform 773"/>
              <p:cNvSpPr/>
              <p:nvPr/>
            </p:nvSpPr>
            <p:spPr>
              <a:xfrm rot="1566000">
                <a:off x="5748840" y="604872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774"/>
              <p:cNvSpPr/>
              <p:nvPr/>
            </p:nvSpPr>
            <p:spPr>
              <a:xfrm rot="1566000">
                <a:off x="5969880" y="612432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775"/>
            <p:cNvGrpSpPr/>
            <p:nvPr/>
          </p:nvGrpSpPr>
          <p:grpSpPr>
            <a:xfrm>
              <a:off x="6631560" y="5983920"/>
              <a:ext cx="473400" cy="534600"/>
              <a:chOff x="6631560" y="5983920"/>
              <a:chExt cx="473400" cy="534600"/>
            </a:xfrm>
          </p:grpSpPr>
          <p:sp>
            <p:nvSpPr>
              <p:cNvPr id="927" name="Freeform 776"/>
              <p:cNvSpPr/>
              <p:nvPr/>
            </p:nvSpPr>
            <p:spPr>
              <a:xfrm rot="7831800">
                <a:off x="6747840" y="610020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777"/>
              <p:cNvSpPr/>
              <p:nvPr/>
            </p:nvSpPr>
            <p:spPr>
              <a:xfrm rot="7831800">
                <a:off x="6634080" y="626220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29" name="Picture 778" descr="AIDE"/>
          <p:cNvPicPr/>
          <p:nvPr/>
        </p:nvPicPr>
        <p:blipFill>
          <a:blip r:embed="rId2"/>
          <a:stretch/>
        </p:blipFill>
        <p:spPr>
          <a:xfrm>
            <a:off x="3284640" y="1765440"/>
            <a:ext cx="1122120" cy="1692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779" descr="06C1911_636"/>
          <p:cNvPicPr/>
          <p:nvPr/>
        </p:nvPicPr>
        <p:blipFill>
          <a:blip r:embed="rId3"/>
          <a:stretch/>
        </p:blipFill>
        <p:spPr>
          <a:xfrm>
            <a:off x="6799320" y="2925720"/>
            <a:ext cx="2165400" cy="1542960"/>
          </a:xfrm>
          <a:prstGeom prst="rect">
            <a:avLst/>
          </a:prstGeom>
          <a:ln w="0">
            <a:noFill/>
          </a:ln>
        </p:spPr>
      </p:pic>
      <p:sp>
        <p:nvSpPr>
          <p:cNvPr id="931" name="AutoShape 780"/>
          <p:cNvSpPr/>
          <p:nvPr/>
        </p:nvSpPr>
        <p:spPr>
          <a:xfrm>
            <a:off x="285840" y="109440"/>
            <a:ext cx="1214280" cy="4399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77182103-734A-490D-B83F-CE7E8418CF0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"/>
          <p:cNvSpPr/>
          <p:nvPr/>
        </p:nvSpPr>
        <p:spPr>
          <a:xfrm>
            <a:off x="330120" y="1498680"/>
            <a:ext cx="84391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339480" y="1498680"/>
            <a:ext cx="82422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000" spc="-1" strike="noStrike">
                <a:solidFill>
                  <a:srgbClr val="ff6600"/>
                </a:solidFill>
                <a:latin typeface="Verdana"/>
              </a:rPr>
              <a:t>ИКТ-базирани системи и услуги за интелигентна градска мобилност и нови концеп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11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Це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адресирани към влиянието върху околна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реда и сигурността на мобилността, като същ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ременно се стимулира икономическия растеж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11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следователските теми включват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овативни средства, услуги и методи за логистич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изация на градската сре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не на ИКТ за заместване на мобилност (виртуална мобилност, телеприсъств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, мултимодални градски концепции за моби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6" name="Picture 5" descr="BRU 0064 Rue de Loi"/>
          <p:cNvPicPr/>
          <p:nvPr/>
        </p:nvPicPr>
        <p:blipFill>
          <a:blip r:embed="rId1"/>
          <a:stretch/>
        </p:blipFill>
        <p:spPr>
          <a:xfrm>
            <a:off x="6786720" y="2500200"/>
            <a:ext cx="1977840" cy="177192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6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7"/>
          <p:cNvSpPr/>
          <p:nvPr/>
        </p:nvSpPr>
        <p:spPr>
          <a:xfrm>
            <a:off x="7308720" y="2637000"/>
            <a:ext cx="1511280" cy="863280"/>
          </a:xfrm>
          <a:prstGeom prst="cloudCallout">
            <a:avLst>
              <a:gd name="adj1" fmla="val -77731"/>
              <a:gd name="adj2" fmla="val -7407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7605720" y="285768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Group 9"/>
          <p:cNvGrpSpPr/>
          <p:nvPr/>
        </p:nvGrpSpPr>
        <p:grpSpPr>
          <a:xfrm>
            <a:off x="539640" y="5357880"/>
            <a:ext cx="7308720" cy="916920"/>
            <a:chOff x="539640" y="5357880"/>
            <a:chExt cx="7308720" cy="916920"/>
          </a:xfrm>
        </p:grpSpPr>
        <p:sp>
          <p:nvSpPr>
            <p:cNvPr id="941" name="Rectangle 10"/>
            <p:cNvSpPr/>
            <p:nvPr/>
          </p:nvSpPr>
          <p:spPr>
            <a:xfrm>
              <a:off x="539640" y="5463360"/>
              <a:ext cx="7216560" cy="740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ff66"/>
                </a:gs>
                <a:gs pos="100000">
                  <a:srgbClr val="ff9966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11"/>
            <p:cNvSpPr/>
            <p:nvPr/>
          </p:nvSpPr>
          <p:spPr>
            <a:xfrm>
              <a:off x="564120" y="5357880"/>
              <a:ext cx="72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0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</a:rPr>
                <a:t>“…</a:t>
              </a:r>
              <a:r>
                <a:rPr b="0" i="1" lang="bg-BG" sz="1800" spc="-1" strike="noStrike">
                  <a:solidFill>
                    <a:srgbClr val="000000"/>
                  </a:solidFill>
                  <a:latin typeface="Arial Narrow"/>
                </a:rPr>
                <a:t>Изследванията трябва да бъдат насочени в няколко допълващи се области, за да може да се разработи бъдеща концепция за градска мобилност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</a:rPr>
                <a:t>…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2C0E6ACF-9507-499E-88DB-EDF81E70CD4B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390600" y="1484280"/>
            <a:ext cx="5860800" cy="95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0" y="1439640"/>
            <a:ext cx="59277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Координиращи и подкрепящи дей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рамките на инициативата за интелигентна ко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следователски дневен ре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ространение на резултат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мпании за популяризиране сред потребителит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ценки на социално-икономическото влия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Picture 5" descr="HL meeting Sept04"/>
          <p:cNvPicPr/>
          <p:nvPr/>
        </p:nvPicPr>
        <p:blipFill>
          <a:blip r:embed="rId1"/>
          <a:stretch/>
        </p:blipFill>
        <p:spPr>
          <a:xfrm>
            <a:off x="6443640" y="148428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6" descr=""/>
          <p:cNvPicPr/>
          <p:nvPr/>
        </p:nvPicPr>
        <p:blipFill>
          <a:blip r:embed="rId2"/>
          <a:stretch/>
        </p:blipFill>
        <p:spPr>
          <a:xfrm>
            <a:off x="5929200" y="3789360"/>
            <a:ext cx="2243160" cy="1773360"/>
          </a:xfrm>
          <a:prstGeom prst="rect">
            <a:avLst/>
          </a:prstGeom>
          <a:ln w="0">
            <a:noFill/>
          </a:ln>
        </p:spPr>
      </p:pic>
      <p:sp>
        <p:nvSpPr>
          <p:cNvPr id="949" name="AutoShape 7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8"/>
          <p:cNvSpPr/>
          <p:nvPr/>
        </p:nvSpPr>
        <p:spPr>
          <a:xfrm>
            <a:off x="5940360" y="2924280"/>
            <a:ext cx="1768680" cy="936360"/>
          </a:xfrm>
          <a:prstGeom prst="cloudCallout">
            <a:avLst>
              <a:gd name="adj1" fmla="val -67416"/>
              <a:gd name="adj2" fmla="val -86777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9"/>
          <p:cNvSpPr/>
          <p:nvPr/>
        </p:nvSpPr>
        <p:spPr>
          <a:xfrm>
            <a:off x="6300720" y="306864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pe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37:43Z</dcterms:created>
  <dc:creator>Myriam Coulon Cantuer / Wolfgang Höfs</dc:creator>
  <dc:description/>
  <dc:language>en-US</dc:language>
  <cp:lastModifiedBy>Owner</cp:lastModifiedBy>
  <dcterms:modified xsi:type="dcterms:W3CDTF">2009-11-22T18:24:17Z</dcterms:modified>
  <cp:revision>52</cp:revision>
  <dc:subject/>
  <dc:title>Open Days: Reseach Opportunities in call 6</dc:title>
</cp:coreProperties>
</file>