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1" descr="FP7-cap-RGB"/>
          <p:cNvPicPr/>
          <p:nvPr/>
        </p:nvPicPr>
        <p:blipFill>
          <a:blip r:embed="rId2"/>
          <a:stretch/>
        </p:blipFill>
        <p:spPr>
          <a:xfrm>
            <a:off x="8107200" y="5767560"/>
            <a:ext cx="92880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1" descr="bandeau1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53" descr="bandeau1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3" descr="header-ppt_beige_rose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64"/>
          <p:cNvSpPr/>
          <p:nvPr/>
        </p:nvSpPr>
        <p:spPr>
          <a:xfrm>
            <a:off x="0" y="628344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800" spc="-1" strike="noStrike">
                <a:solidFill>
                  <a:srgbClr val="3333cc"/>
                </a:solidFill>
                <a:latin typeface="Times New Roman"/>
              </a:rPr>
              <a:t>FP7-ICT NCP Information meeting – Brussels, 20-X-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Fabrice QUERTAIN on behalf of Jean-David MALO – Head of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European Commission – DG RTD – Directorate B – Unit B-04 – «Regions of Knowledge and Research Potential – RSFF» – Not legally binding – Page n°</a:t>
            </a:r>
            <a:fld id="{E3C5DC0E-33F3-490E-AB53-EDED4AFAD483}" type="slidenum"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ap_courbe"/>
          <p:cNvPicPr/>
          <p:nvPr/>
        </p:nvPicPr>
        <p:blipFill>
          <a:blip r:embed="rId1"/>
          <a:stretch/>
        </p:blipFill>
        <p:spPr>
          <a:xfrm>
            <a:off x="0" y="203184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843280" y="620640"/>
            <a:ext cx="619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Синергии между </a:t>
            </a:r>
            <a:r>
              <a:rPr b="1" lang="en-GB" sz="3200" spc="-1" strike="noStrike">
                <a:solidFill>
                  <a:srgbClr val="034ea2"/>
                </a:solidFill>
                <a:latin typeface="Tahoma"/>
              </a:rPr>
              <a:t>FP7, CIP </a:t>
            </a: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и СФ в областта на </a:t>
            </a:r>
            <a:r>
              <a:rPr b="1" lang="en-GB" sz="3200" spc="-1" strike="noStrike">
                <a:solidFill>
                  <a:srgbClr val="034ea2"/>
                </a:solidFill>
                <a:latin typeface="Tahoma"/>
              </a:rPr>
              <a:t>R&amp;D </a:t>
            </a: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и иновациит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Практически примери за си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575320" y="4869000"/>
            <a:ext cx="3029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0" y="5686560"/>
            <a:ext cx="9144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ъбраните примери говорят за съществуване на синергии, но е нужна още работ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омотирането на синергии на политическо ниво трябва да бъде обобщено за всички страни-членки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имерите на програмно/проектно ниво могат да дават само иде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итуацията в различните страни-членки/региони е различна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Най-интересните примери ще бъдат публикувани 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R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Европейска седмица на иновативните региони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WIRE),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од Испанското президентство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15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– 1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март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010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, Гранад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bg-BG" sz="2400" spc="-1" strike="noStrike">
                <a:solidFill>
                  <a:srgbClr val="ff3399"/>
                </a:solidFill>
                <a:latin typeface="Tahoma"/>
              </a:rPr>
              <a:t>Как да се използват ефективно структурните фондове за изследвания и иновац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Експертна група по синергии между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FP, CIP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и структурните фондове ще бъде създадена в Грана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684360" y="1916280"/>
            <a:ext cx="80517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За период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2007-13,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основните европейски средства за финансиране на изследванията и иновациите са около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0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Евр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86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Структурни фондове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Евро з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FP7 &amp; 3.6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Евро з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Тези средства се използват добре поотделно, но все повече нараства необходимостта да се стимулира синергията между тях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332000" y="264960"/>
            <a:ext cx="781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34ea2"/>
                </a:solidFill>
                <a:latin typeface="Tahoma"/>
              </a:rPr>
              <a:t>Осн. евр. средства за финансира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34ea2"/>
                </a:solidFill>
                <a:latin typeface="Tahoma"/>
              </a:rPr>
              <a:t>на изследванията и иноваци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0" descr=""/>
          <p:cNvPicPr/>
          <p:nvPr/>
        </p:nvPicPr>
        <p:blipFill>
          <a:blip r:embed="rId1"/>
          <a:stretch/>
        </p:blipFill>
        <p:spPr>
          <a:xfrm>
            <a:off x="1332000" y="1415880"/>
            <a:ext cx="66434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pture5-01-2007-8"/>
          <p:cNvPicPr/>
          <p:nvPr/>
        </p:nvPicPr>
        <p:blipFill>
          <a:blip r:embed="rId1"/>
          <a:stretch/>
        </p:blipFill>
        <p:spPr>
          <a:xfrm>
            <a:off x="5557680" y="3573360"/>
            <a:ext cx="1943280" cy="273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apture5-01-2007-8"/>
          <p:cNvPicPr/>
          <p:nvPr/>
        </p:nvPicPr>
        <p:blipFill>
          <a:blip r:embed="rId2"/>
          <a:stretch/>
        </p:blipFill>
        <p:spPr>
          <a:xfrm>
            <a:off x="7226280" y="2781360"/>
            <a:ext cx="1846440" cy="2598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Към повече си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95280" y="1484280"/>
            <a:ext cx="8340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омюнике на Комисията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3399"/>
                </a:solidFill>
                <a:latin typeface="Tahoma"/>
              </a:rPr>
              <a:t>“COMPETITIVE EUROPEAN REGIONS THROUGH RESEARCH AND INNOVATION: A con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99"/>
                </a:solidFill>
                <a:latin typeface="Tahoma"/>
              </a:rPr>
              <a:t>to more growth and more and better job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COM(2007) 474 final (16.08.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аботен документ на 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BE" sz="2000" spc="-1" strike="noStrike">
                <a:solidFill>
                  <a:srgbClr val="000000"/>
                </a:solidFill>
                <a:latin typeface="Tahoma"/>
              </a:rPr>
              <a:t>SEC(2007) 1045 (16.08.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Заключения в Комюникето</a:t>
            </a:r>
            <a:r>
              <a:rPr b="1" lang="en-GB" sz="3200" spc="-1" strike="noStrike">
                <a:solidFill>
                  <a:srgbClr val="034ea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4360" y="177336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сновната отговорност за промотиране на синергията е у страните-членки и регионит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Независимо от това, ЕК ще действа като фасилитатор чрез различни дейности за по-добро използване на средстват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3399"/>
                </a:solidFill>
                <a:latin typeface="Tahoma"/>
              </a:rPr>
              <a:t>Практическо ръководство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, което да помогне на изследователските институции и организации да иденти-фицират най-подходящия източник на финансиране за тях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3399"/>
                </a:solidFill>
                <a:latin typeface="Tahoma"/>
              </a:rPr>
              <a:t>Подобряване на обмена на информаци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с  нацио-налните/регионални власти, които да знаят кои организации получават грантове по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FP7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IP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Доклад за прогреса на национално и регионално ниво за </a:t>
            </a:r>
            <a:r>
              <a:rPr b="1" lang="bg-BG" sz="2000" spc="-1" strike="noStrike">
                <a:solidFill>
                  <a:srgbClr val="ff3399"/>
                </a:solidFill>
                <a:latin typeface="Tahoma"/>
              </a:rPr>
              <a:t>координирано използване на тези инструменти и примери за добра практ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Практическото ръко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ъставено съвместно от службите в ЕК, отговорни за изследванията и иновациите и общесвено обсъжд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Намира се на страницата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DIS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на шест езика от декември 2008 г. - </a:t>
            </a:r>
            <a:r>
              <a:rPr b="1" i="1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http://cordis.europa.eu/eu-funding-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евежда се и на другите езиц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Ревизиране на ръководството през пролетта на 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Доклад за координирано използване на инструменти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ГД Изследвания и Програмният комитет на ГД Региони търсят пример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Много добри примери събрани, но не от всички страни-членки поради затруднения за идентифицирането им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Разработена е типология на примери за синерги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Докладът се подготвя от ЕК като работен документ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имерите ще бъдат поместени на страница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Типология на примери за си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4360" y="1844640"/>
            <a:ext cx="80517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инергии на политическо ниво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съответните институции организират конференции, семинари и уеб-стран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инергии на програмно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оектно ни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Едновременно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ползване на СФ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FP7 &amp; CIP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в подкрепа на отделни, но взаимно-свързани дейности в изследователския сектор, програми или проек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ползване на финансирането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последователно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Ф следвани от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P7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P7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IP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ледвани от С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Различни източници финансират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различни фаз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от разработване на дадена техн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Owner</cp:lastModifiedBy>
  <cp:lastPrinted>2003-03-26T14:52:49Z</cp:lastPrinted>
  <dcterms:modified xsi:type="dcterms:W3CDTF">2009-11-22T10:58:10Z</dcterms:modified>
  <cp:revision>122</cp:revision>
  <dc:subject/>
  <dc:title>No Slide Title</dc:title>
</cp:coreProperties>
</file>