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792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2ECA-F34C-4236-9607-4EFE872722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46A4-A6D9-4A20-AC32-65F0CF8C32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41920" y="9428040"/>
            <a:ext cx="2939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5B3F0-9732-4009-8AE6-DF25393442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7640" y="747720"/>
            <a:ext cx="4949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77520" y="4714560"/>
            <a:ext cx="54212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EC7E-C3B5-44FA-AE93-AD0AE5D34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55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2ED1-3ED2-4B5C-8C5F-11894A1FF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8320" y="417060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A064-6F2B-4840-B7F7-A9009B1FF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1080" y="198108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6720" y="198108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1080" y="417060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6720" y="4170600"/>
            <a:ext cx="243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F62D-AE6F-4B94-9883-EF4E4C4BFB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558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2C7F-8869-4EAC-A094-2CDF00D760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FE51-014D-4E05-8EE7-9E42365AA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F856-323D-40BF-89CE-835252FE8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30FB-3D8C-40E5-A446-0056F65B1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4865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82F4-EE00-4002-BEEB-F8E9299B7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05ED-BAA5-417D-95EB-57DC375CC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8320" y="417060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4BDD-217C-42B4-8167-6F07F355D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8320" y="1981080"/>
            <a:ext cx="368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558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6086-5D1B-494B-84CC-C87B4165B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5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67280" y="6524280"/>
            <a:ext cx="1143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64BC7C68-E262-4954-9997-F6FF14B71672}" type="slidenum">
              <a:rPr b="1" lang="en-US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6461280"/>
            <a:ext cx="4700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8920" y="6308640"/>
            <a:ext cx="20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Objective 4.1 Call 6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cordis.europa.eu/fp7/ict/telearn-digicult/digicult-projects_en.html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77738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редизвикателство 4. Цифрови библиотеки и съдържание в Шести конкурс от Тема ИКТ на Седма Рамкова програм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Тотка Чернае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МТИТ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рограмен координат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Национален информационен д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4 </a:t>
            </a: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ноември 2009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7632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e) Interdisciplinary research networks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Интердисциплинарни изследователски мрежи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Aft>
                <a:spcPts val="11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инансира се създаването на интердисциплинарни изследователски мрежи, включващи учени от различни технологични области ( напр. компютърно моделиране, представяне и визуализация на знание, обработка и архивиране на информация, социални и когнитивни науки), които работейки съвместно, да осигурят съществен научен напредък в една определена приложна област, напр. </a:t>
            </a:r>
            <a:r>
              <a:rPr b="0" lang="bg-BG" sz="1800" spc="-1" strike="noStrike">
                <a:solidFill>
                  <a:srgbClr val="0000ff"/>
                </a:solidFill>
                <a:latin typeface="Arial"/>
              </a:rPr>
              <a:t>запазване на цифрово съдържан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Aft>
                <a:spcPts val="11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чакваното въздействие е преодоляване на фрагментацията на изследванията в съответната приложна област, концентрация на ресурси и разширяване на изследователската общно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10000"/>
              </a:lnSpc>
              <a:spcAft>
                <a:spcPts val="113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ding scheme: No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7C7A-AC4F-4950-B763-5DB1D3F85F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32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f) Promoting the uptake of EC-funded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research</a:t>
            </a:r>
            <a:br>
              <a:rPr sz="2600"/>
            </a:b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Стимулиране усвояването на изследователските резултати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Ще се финансират координационни и подкрепящи проекти, които трябва д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Улеснят усвояването  и широкото внедряване на иновативни услуги, в областта на запазване на цифровото съдържани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одсилят въздействието на изследователските инициативи и програми на национално нив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Разработят пътни карти за научни изследвания и идентифицират основни бъдещи предизвикател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ъздадат паневропейска мрежа от “ живи” центрове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living memory centres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”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за валидиране и демонстриране на научни резулта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unding scheme: C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AD9D-F254-41E8-B1A0-EFB64A78E2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igital Libraries and Digital Preservation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Цифрови библиотеки и запазване на цифровото съдържание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Бюджет по инструмен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IP: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 min 28 MEUR - max 39 ME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Включв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), b)2)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STREP: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min 17 MEUR - max 28 MEUR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Включв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b)1)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Общо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IPs/STREPs: 56 MEU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(min 50% for IPs, 30% STREP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E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SA: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x 13 ME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Включва 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Общ бюджет </a:t>
            </a:r>
            <a:r>
              <a:rPr b="1" lang="fr-BE" sz="2000" spc="-1" strike="noStrike">
                <a:solidFill>
                  <a:srgbClr val="000000"/>
                </a:solidFill>
                <a:latin typeface="Verdana"/>
              </a:rPr>
              <a:t>69 ME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6315-25D1-4DBF-AD8A-3F5D1391A2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ahoma"/>
              </a:rPr>
              <a:t>Допълнителна информация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3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DigiCult web site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Работна програма, текущи и предишни прое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cordis.europa.eu/fp7/ict/telearn-digicult/digicult-projects_en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За въпроси, консултации по предложенията за проекти:</a:t>
            </a:r>
            <a:br>
              <a:rPr sz="2000"/>
            </a:br>
            <a:r>
              <a:rPr b="0" lang="fr-FR" sz="2400" spc="-1" strike="noStrike" u="sng">
                <a:solidFill>
                  <a:srgbClr val="0066ff"/>
                </a:solidFill>
                <a:uFillTx/>
                <a:latin typeface="Tahoma"/>
              </a:rPr>
              <a:t>infso-digicult@ec.europa.e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9917-412B-449F-8609-71B5318E0E3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Предизвикателство 4. Цифрови библиотеки и съдържание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GITAL LIBRARIES AND CONT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Финансират се научни изследвания в областта на създаването, разпространението и използването на знания и цифрово съдържа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ъдържа три цел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Verdana"/>
              </a:rPr>
              <a:t>Цифрови библиотеки и запазване на цифрово съдър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Digital libraries and digital preserva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онкурс 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Технологично подпомагано учене ( конкурс 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chnology-enhanced lear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нтелигентно управление на информацията (конкурс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lligent Information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7470-B070-4C69-89FA-2E2D58CC09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134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ICT-2009.4.1</a:t>
            </a: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 Цифрови библиотеки и запазване на цифрово съдържание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Изследователски тем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305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Посочени са 7 изследователски те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Скалируеми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alable</a:t>
            </a: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) системи и услуги за запазване на цифрово съдър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Усъвършенствани сценарии за запазване на цифрово съдържание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Иновативни решения за съставяне на цифрови библиоте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Адаптивни културни прак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Интердисциплинарни изследователски мреж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1250"/>
              </a:spcBef>
              <a:buClr>
                <a:srgbClr val="000000"/>
              </a:buClr>
              <a:buFont typeface="Verdan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Verdana"/>
              </a:rPr>
              <a:t>Усвояване/ внедряване на изследователски резулта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7914-9498-432F-9CB8-880D9AAD25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Verdana"/>
              </a:rPr>
              <a:t>Защо се появяват тези теми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За да се стимулира създаването на големи цифрови библиотеки, надхвърлящи /надграждащи възможностите на/ съществуващите библиотеки и инфраструктур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а се подкрепят научните общности, използващи цифрови библиотеки и да се добие по-добро разбиране на тези общности и на това как те взаимодействат с цифровите библиоте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а се оползотвори по-добре културното цифрово съдържание във всички възможни формати, вкл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а се улесни преходът към по-адаптивно и персонализирано използване на цифровото съдържание на основата на нови сценарии, фокусирани върху потребите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Verdana"/>
              </a:rPr>
              <a:t>В политически контекст това отговаря на изследователските приоритети относно цифровите библиотеки в инициативата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i2010</a:t>
            </a:r>
            <a:r>
              <a:rPr b="1" lang="bg-BG" sz="20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DD21-E5FF-4101-8A99-B056D29B17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152280"/>
            <a:ext cx="813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r"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alable systems and services fo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eserving digital content</a:t>
            </a:r>
            <a:br>
              <a:rPr sz="2400"/>
            </a:br>
            <a:r>
              <a:rPr b="1" lang="bg-BG" sz="2400" spc="-1" strike="noStrike">
                <a:solidFill>
                  <a:srgbClr val="ff0000"/>
                </a:solidFill>
                <a:latin typeface="Verdana"/>
              </a:rPr>
              <a:t>Скалируеми системи и услуги за запазване на цифрово съдържание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Фокусът на изследванията  тук е върху разработването на</a:t>
            </a:r>
            <a:r>
              <a:rPr b="1" lang="bg-BG" sz="2000" spc="-1" strike="noStrike">
                <a:solidFill>
                  <a:srgbClr val="0000ff"/>
                </a:solidFill>
                <a:latin typeface="Verdana"/>
              </a:rPr>
              <a:t> скалируеми системи и услуги,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оито боравят с (управляват) целия работен поток за запазване на цифрово съдържание за различни </a:t>
            </a:r>
            <a:r>
              <a:rPr b="1" lang="bg-BG" sz="2000" spc="-1" strike="noStrike">
                <a:solidFill>
                  <a:srgbClr val="0000ff"/>
                </a:solidFill>
                <a:latin typeface="Verdana"/>
              </a:rPr>
              <a:t>типове цифрови ресурси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, като гарантират дългосрочно техния интегритет и автентичност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свен това проектите трябва да демонстрират  </a:t>
            </a:r>
            <a:r>
              <a:rPr b="1" lang="bg-BG" sz="2000" spc="-1" strike="noStrike">
                <a:solidFill>
                  <a:srgbClr val="0000ff"/>
                </a:solidFill>
                <a:latin typeface="Verdana"/>
              </a:rPr>
              <a:t>осъществимостта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asibility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 тези системи и услуги и да оценят тяхното използване от различни организации в големи (мащабни) експериментални платформи </a:t>
            </a:r>
            <a:r>
              <a:rPr b="1" lang="en-GB" sz="2000" spc="-1" strike="noStrike">
                <a:solidFill>
                  <a:srgbClr val="0000ff"/>
                </a:solidFill>
                <a:latin typeface="Verdana"/>
              </a:rPr>
              <a:t>testb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пр. за научни бизнес, финансови, публични  и мултимедийни и аудиовизуални записи/ресурси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Инструмент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ding scheme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47F3-4E23-4DFB-9336-674495312D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8640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)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vanced preservation scenarios</a:t>
            </a:r>
            <a:br>
              <a:rPr sz="2400"/>
            </a:br>
            <a:r>
              <a:rPr b="1" lang="bg-BG" sz="2400" spc="-1" strike="noStrike">
                <a:solidFill>
                  <a:srgbClr val="ff0000"/>
                </a:solidFill>
                <a:latin typeface="Verdana"/>
              </a:rPr>
              <a:t>Усъвършенствани сценарии за запазване на цифрово съдържание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Ще се финансира разработването на методи, модели и инструменти за управление на цифрова памет. Фокусът трябва да е върху проблеми по запазването на цифрово съдържание, които не могат да бъдат решени чрез настоящите такива. Очакваните резултати от проектирате с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1/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Методи и инструменти за запазване на комплексни обекти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напр. множество вложени структури, разпределени и взаимно свързани ресурси и онтологии, преходна информация и мимолетни дан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струмент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R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2/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Интелигентни системи за куриране и запазване на цифрово съдържание,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които са способни да учат, разсъждават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 действат автономно на базата на интегрирането на инструменти и и методи подпомагащи процеса на вземане на сложни решения като оценка, селекция и управление на разнообразни колекции от цифрови ресурси. Системите трябва да осигуряват възможност за повторно използване на представяното съдържание и вложеното в него семантично знание. Задължителен компонент от изследователската работа е разработването на сценарии за верифика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Инструмент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3A27-B3C3-43F3-B403-113984AA6B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Запазване на цифрово съдържание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Verdana"/>
              </a:rPr>
              <a:t>Очаквано въздейств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ff"/>
                </a:solidFill>
                <a:latin typeface="Verdana"/>
              </a:rPr>
              <a:t>Укрепване капацитета на организациите да запазват цифрово съдържание по по-ефективни, ефикасни и евтини начи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ff"/>
                </a:solidFill>
                <a:latin typeface="Verdana"/>
              </a:rPr>
              <a:t>Защитаване интегритета и автентичността на това съдър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ff"/>
                </a:solidFill>
                <a:latin typeface="Verdana"/>
              </a:rPr>
              <a:t>Значително намаляване на загубите от незаменима информ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ff"/>
                </a:solidFill>
                <a:latin typeface="Verdana"/>
              </a:rPr>
              <a:t>Нови възможности за нейното повторно използване, включително създаване (продуциране) на ново зн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7F93-05F7-48D1-B5AD-9A792532B3E3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7632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) Assembly of multimedia digital libraries </a:t>
            </a:r>
            <a:r>
              <a:rPr b="1" lang="bg-BG" sz="2400" spc="-1" strike="noStrike">
                <a:solidFill>
                  <a:srgbClr val="ff0000"/>
                </a:solidFill>
                <a:latin typeface="Verdana"/>
              </a:rPr>
              <a:t>Съставяне  на цифрови библиотеки</a:t>
            </a: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74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Разработване на иновативни решения за съставяне на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мултимедийни цифрови библиотеки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за колаборативно (съвместно) използване в определени контексти и общности, които водят до усъвършенстване на изучаванет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 разбирането и натрупването на опит в областта на цифровото културно съдържа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Това включва също работа върху агрегирането на крос-медийни ресурси на различни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институционални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цифрови библиотеки и хранилищ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Изследователската работа трябва да е насочена върху аспекти като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скалируемост, оперативна съвместимост, разпределени архитектури и инструменти за агрегиране на съдържание и семантично търсе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Дейностите по валидиране на резултатите от изследванията трябва да са  адресирани към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изследователите на културно съдържание и професионалната общност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, но трябва да са отворени и към </a:t>
            </a:r>
            <a:r>
              <a:rPr b="0" lang="bg-BG" sz="1800" spc="-1" strike="noStrike">
                <a:solidFill>
                  <a:srgbClr val="0000ff"/>
                </a:solidFill>
                <a:latin typeface="Verdana"/>
              </a:rPr>
              <a:t>широката публика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ding scheme: I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A711-7DA7-4DB5-83A7-DCCB708D58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763272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) Adaptive cultural experiences</a:t>
            </a: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Verdana"/>
              </a:rPr>
              <a:t>Адаптивни културни практики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Aft>
                <a:spcPts val="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Изследвания в областта на адаптивни културни практики: проучване потенциала на ИКТ за създаване на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персонализирани представи (идеи)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за различни форми на изразяване на културно съдържание, които отразяват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индивидуални тенденции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за описване на съдържание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ative tendencies)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т.е. адаптират се към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 предпочитанията на потребителя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в зависимост от неговата подготовка, познавателен подход, контекст на  неговия интерес ( целта на неговото “посещение” на цифровата библиоте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5000"/>
              </a:lnSpc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Aft>
                <a:spcPts val="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Тези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персонализирани представи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трябва да предлагат смислено  упътване в интерпретацията на  културно съдържание (творби на културата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5000"/>
              </a:lnSpc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Aft>
                <a:spcPts val="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Очакваното въздействие е постигане на значителен напредък в осигуряването на </a:t>
            </a:r>
            <a:r>
              <a:rPr b="0" lang="bg-BG" sz="1600" spc="-1" strike="noStrike">
                <a:solidFill>
                  <a:srgbClr val="0000ff"/>
                </a:solidFill>
                <a:latin typeface="Verdana"/>
              </a:rPr>
              <a:t>персонализиран достъп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до културно и научно съдържание и по-ефикасното му използван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15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15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unding scheme: STRE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74BD-9609-4803-BB56-5CC04439F4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anuela Speiser</dc:creator>
  <dc:description/>
  <dc:language>en-US</dc:language>
  <cp:lastModifiedBy>tchernaeva</cp:lastModifiedBy>
  <dcterms:modified xsi:type="dcterms:W3CDTF">2009-11-24T12:43:07Z</dcterms:modified>
  <cp:revision>296</cp:revision>
  <dc:subject/>
  <dc:title>Kick-off meeting LiWA </dc:title>
</cp:coreProperties>
</file>