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FF3F6-597C-4D56-86C2-C70AFF685839}" type="slidenum"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201680" y="717480"/>
            <a:ext cx="4494240" cy="337032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28800" y="4375080"/>
            <a:ext cx="5037120" cy="40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PEN FOR ONLY 1 ACTION LINE, 1 TOP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201680" y="717480"/>
            <a:ext cx="4494240" cy="337032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28800" y="4375080"/>
            <a:ext cx="5037120" cy="40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PEN FOR ONLY 1 ACTION LINE, 1 TOP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201680" y="717480"/>
            <a:ext cx="4494240" cy="337032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28800" y="4375080"/>
            <a:ext cx="5037120" cy="40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pdated 3/10/2006 – added “over period” to second point; changed basic research budget to 1 billion from 1.5 b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pdated 6/10/2006 after review by P. Amor – replaced second point to exclude value and changed “doubles over period” to “increased significantl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Updated per Lars Aggerbeck 10/10/2006 – added sub-point to first ar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Action lin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F422-1B81-4D73-93BC-B24982666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13C7-708E-4088-B60F-D0D06CD78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C5C8-059E-4A0D-925C-29FE654A6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15A8-C634-4298-AEB5-24A5230D1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A5659-2B81-4CFC-8BC8-90DAC5F0F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C74F6-6CD8-41C8-882D-3CC522914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F30AF-CC8B-4FFD-8391-7EE134EA8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7AF73-E4E0-4ECD-9C4E-C0C8FC38F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E67C3-9E03-4ECD-82A6-DDF105C15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B2DE1-A5AB-4CA1-8B86-EDC2078EC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E12ED-E50B-4CED-A466-49FF289C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7B19-27B7-467D-A511-2D565476E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ECCD9-1AA7-4DC9-9956-78F49FD2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4F216-A78C-426B-94E4-1E9058AF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7B6F8-D086-4CC9-8781-FDF188812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2268E-DB98-4D8A-B43D-A3BCCD8E1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A8DC1-F3C0-40EF-8246-6B72BB8CF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B6B3-A01A-4BCC-9610-D337E2710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D467-6CF7-471B-97A9-C1E59F6D9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AB59-4411-4A1C-BABB-EE25EF0D6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E414-517A-441A-BD98-1C308336C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6590-A0C4-421C-98C7-81412420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4BD4-593B-47A0-95F4-D12F7811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26E1-3109-4D47-A197-F64A7958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681CB-ED44-49F5-9DF6-BBC10F628471}" type="slidenum">
              <a:rPr b="0" lang="bg-BG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07140-07E9-40FA-BB45-72D0303B80DC}" type="slidenum">
              <a:rPr b="0" lang="bg-BG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cordis.europa.eu/fp7" TargetMode="External"/><Relationship Id="rId2" Type="http://schemas.openxmlformats.org/officeDocument/2006/relationships/hyperlink" Target="http://cordis.europa.eu/fp7" TargetMode="External"/><Relationship Id="rId3" Type="http://schemas.openxmlformats.org/officeDocument/2006/relationships/hyperlink" Target="http://cordis.europa.eu/fp7" TargetMode="External"/><Relationship Id="rId4" Type="http://schemas.openxmlformats.org/officeDocument/2006/relationships/hyperlink" Target="http://cordis.europa.eu/fp7" TargetMode="External"/><Relationship Id="rId5" Type="http://schemas.openxmlformats.org/officeDocument/2006/relationships/hyperlink" Target="http://cordis.europa.eu/fp7" TargetMode="External"/><Relationship Id="rId6" Type="http://schemas.openxmlformats.org/officeDocument/2006/relationships/hyperlink" Target="http://cordis.europa.eu/fp7" TargetMode="External"/><Relationship Id="rId7" Type="http://schemas.openxmlformats.org/officeDocument/2006/relationships/hyperlink" Target="http://cordis.europa.eu/fp7" TargetMode="External"/><Relationship Id="rId8" Type="http://schemas.openxmlformats.org/officeDocument/2006/relationships/hyperlink" Target="http://cordis.europa.eu/fp7/dc/index.cfm?fuseaction=UserSite.CapacitiesDetailsCallPage&amp;call_id=271" TargetMode="External"/><Relationship Id="rId9" Type="http://schemas.openxmlformats.org/officeDocument/2006/relationships/hyperlink" Target="http://cordis.europa.eu/fp7/partners_en.html" TargetMode="External"/><Relationship Id="rId10" Type="http://schemas.openxmlformats.org/officeDocument/2006/relationships/hyperlink" Target="http://cordis.europa.eu/fp7/partners_en.html" TargetMode="External"/><Relationship Id="rId11" Type="http://schemas.openxmlformats.org/officeDocument/2006/relationships/hyperlink" Target="http://www.nsfb.net/" TargetMode="External"/><Relationship Id="rId12" Type="http://schemas.openxmlformats.org/officeDocument/2006/relationships/hyperlink" Target="http://7fp.mon.bg/" TargetMode="External"/><Relationship Id="rId1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mailto:kaneva@daits.government.bg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900000" y="3499920"/>
            <a:ext cx="763272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imes New Roman"/>
              </a:rPr>
              <a:t>ЕЛИ КАНЕВ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Times New Roman"/>
              </a:rPr>
              <a:t>МИНИСТЕРСТВО НА ТРАНСПОРТА, ИНФОРМАЦИОННИТЕ ТЕХНОЛОГИИ И СЪОБЩЕНИЯ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imes New Roman"/>
              </a:rPr>
              <a:t>Национален делегат в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S P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-360" y="333000"/>
            <a:ext cx="889308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bg-BG" sz="3200" spc="-1" strike="noStrike">
                <a:solidFill>
                  <a:srgbClr val="ccecff"/>
                </a:solidFill>
                <a:latin typeface="Times New Roman"/>
              </a:rPr>
              <a:t>ОТВОРЕНИ КОНКУРСИ </a:t>
            </a:r>
            <a:br>
              <a:rPr sz="3200"/>
            </a:br>
            <a:r>
              <a:rPr b="0" lang="bg-BG" sz="3200" spc="-1" strike="noStrike">
                <a:solidFill>
                  <a:srgbClr val="ccecff"/>
                </a:solidFill>
                <a:latin typeface="Times New Roman"/>
              </a:rPr>
              <a:t> “НАУКА В ОБЩЕСТВОТО” (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S</a:t>
            </a:r>
            <a:r>
              <a:rPr b="0" lang="bg-BG" sz="3200" spc="-1" strike="noStrike">
                <a:solidFill>
                  <a:srgbClr val="ccecff"/>
                </a:solidFill>
                <a:latin typeface="Times New Roman"/>
              </a:rPr>
              <a:t>)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P 7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-352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50920" y="549360"/>
            <a:ext cx="86421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7451640" y="5589720"/>
            <a:ext cx="1552680" cy="1095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8" name=""/>
          <p:cNvGraphicFramePr/>
          <p:nvPr/>
        </p:nvGraphicFramePr>
        <p:xfrm>
          <a:off x="250920" y="404640"/>
          <a:ext cx="8713800" cy="6448680"/>
        </p:xfrm>
        <a:graphic>
          <a:graphicData uri="http://schemas.openxmlformats.org/drawingml/2006/table">
            <a:tbl>
              <a:tblPr/>
              <a:tblGrid>
                <a:gridCol w="2905200"/>
                <a:gridCol w="2903400"/>
                <a:gridCol w="2905200"/>
              </a:tblGrid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ЙНОСТ/ ОБЛАС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ЕМ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инансови схем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2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TION LINE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r>
                        <a:rPr b="1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:Укрепване на потенциала, разширяване на хоризонтит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6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Дейност 5.2.</a:t>
                      </a:r>
                      <a:r>
                        <a:rPr b="1" lang="en-US" sz="18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2: </a:t>
                      </a:r>
                      <a:r>
                        <a:rPr b="1" lang="bg-BG" sz="18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Младите хора и науката</a:t>
                      </a:r>
                      <a:r>
                        <a:rPr b="1" lang="bg-BG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(EUR 8.25 million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ласт 5.2.2.1 Подкрепа на формалното и неформалното научно образование в училищата, както и в научните центрове и музеит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ема SiS-2010-2.2.1-1.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йности по координация и подкрепа за иновативни методи в научното образование: обучение на учител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SA (Supporting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ласт 5.2.2.3 Изследователски и координационни действия, свързани с нови методи в научното образование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ема  SiS-2010-2.2.3-1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учни учебни планове и техните цели: балансиране на нуждите между обучение за бъдещи учени и по-широки социални  нужд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ъвместни проекти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лки или средни по размер фокусирани проекти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-352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50920" y="549360"/>
            <a:ext cx="86421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7451640" y="5589720"/>
            <a:ext cx="1552680" cy="1095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2" name=""/>
          <p:cNvGraphicFramePr/>
          <p:nvPr/>
        </p:nvGraphicFramePr>
        <p:xfrm>
          <a:off x="250920" y="404640"/>
          <a:ext cx="8713800" cy="3559320"/>
        </p:xfrm>
        <a:graphic>
          <a:graphicData uri="http://schemas.openxmlformats.org/drawingml/2006/table">
            <a:tbl>
              <a:tblPr/>
              <a:tblGrid>
                <a:gridCol w="2905200"/>
                <a:gridCol w="2903400"/>
                <a:gridCol w="290520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ЙНОСТ/ОБЛАС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Е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ИНАНСОВИ СХЕ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ACTION LINE </a:t>
                      </a:r>
                      <a:r>
                        <a:rPr b="1" lang="en-US" sz="24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3</a:t>
                      </a:r>
                      <a:r>
                        <a:rPr b="1" lang="bg-BG" sz="24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:</a:t>
                      </a:r>
                      <a:r>
                        <a:rPr b="1" lang="en-US" sz="24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 </a:t>
                      </a:r>
                      <a:r>
                        <a:rPr b="1" lang="bg-BG" sz="24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Комуникацията между Науката и обществото (индикативен бюджет 2.5 млн. евро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ласт 5.3.0.3 – Насърчаване на европейското измерение при организиране на  научните събития, насочени към общественост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ема SiS-2010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0.3-1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уката и изкуството: експериментален подхо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SA (дейности по подкрепа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0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395280" y="836640"/>
          <a:ext cx="8229600" cy="4859280"/>
        </p:xfrm>
        <a:graphic>
          <a:graphicData uri="http://schemas.openxmlformats.org/drawingml/2006/table">
            <a:tbl>
              <a:tblPr/>
              <a:tblGrid>
                <a:gridCol w="3816360"/>
                <a:gridCol w="441324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инансови схем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инимални изиск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ъвместни проек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малки или средни по размер научни проекти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й-малко 3 независими ЮЛ, създадени в 3 различни  MS или AC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ъвместни изследователски проекти за специфични дейности за сътрудничество, насочени към международно сътрудничество с партньорски страни извън Е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й-малко 4 независими ЮЛ. От тях 2 трябва да са създадени в 2 различни MS или AC. Останалите 2 трябва да са създадени в различни партньорски страни извън Е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йности по координация и подкрепа (дейности по подкрепа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й-малко 1 независимо ЮЛ, създадено в MS или AC (допълнителни изисквания – в документацията за конкурса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Оценките на предложенията за проекти се очаква да бъдат през април 2010 г., 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подписване на първото споразумение за грант – юли 201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7451640" y="5589720"/>
            <a:ext cx="1552680" cy="109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4400" spc="-1" strike="noStrike">
                <a:solidFill>
                  <a:srgbClr val="ff0066"/>
                </a:solidFill>
                <a:latin typeface="Arial"/>
              </a:rPr>
              <a:t>Call FP7-S</a:t>
            </a:r>
            <a:r>
              <a:rPr b="0" i="1" lang="en-US" sz="4400" spc="-1" strike="noStrike">
                <a:solidFill>
                  <a:srgbClr val="ff0066"/>
                </a:solidFill>
                <a:latin typeface="Arial"/>
              </a:rPr>
              <a:t>iS</a:t>
            </a:r>
            <a:r>
              <a:rPr b="0" i="1" lang="bg-BG" sz="4400" spc="-1" strike="noStrike">
                <a:solidFill>
                  <a:srgbClr val="ff0066"/>
                </a:solidFill>
                <a:latin typeface="Arial"/>
              </a:rPr>
              <a:t>-2010-</a:t>
            </a:r>
            <a:r>
              <a:rPr b="0" i="1" lang="en-US" sz="4400" spc="-1" strike="noStrike">
                <a:solidFill>
                  <a:srgbClr val="ff0066"/>
                </a:solidFill>
                <a:latin typeface="Arial"/>
              </a:rPr>
              <a:t>UNIV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all identifier: FP7-SCIENCE-IN-SOCIETY-2010-UNI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Дата на публикуване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 30 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юли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Крайна дата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*: 2 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декември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009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7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Индикативен бюджет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 2.50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 млн. евр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The Director General responsible may delay this deadline by up to two month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7451640" y="5589720"/>
            <a:ext cx="1552680" cy="109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-352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50920" y="549360"/>
            <a:ext cx="86421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179280" y="836640"/>
          <a:ext cx="8713800" cy="4463640"/>
        </p:xfrm>
        <a:graphic>
          <a:graphicData uri="http://schemas.openxmlformats.org/drawingml/2006/table">
            <a:tbl>
              <a:tblPr/>
              <a:tblGrid>
                <a:gridCol w="2905200"/>
                <a:gridCol w="2903400"/>
                <a:gridCol w="2905200"/>
              </a:tblGrid>
              <a:tr h="4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ЙНОСТ/ОБЛАС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ЕМ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инансови схем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95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TION LINE 1: По-динамично управление на връзката между науката и обществото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1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Дейност 5.1.4 Развиващата се роля на университетит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индикативен бюджет 2.5 млн. евро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38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ема SiS-2010-1.4-2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олята на университетите в процеса към развитие на общество, базирано на знания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SA (дейности по подкрепа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0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395280" y="836640"/>
          <a:ext cx="8229600" cy="5545080"/>
        </p:xfrm>
        <a:graphic>
          <a:graphicData uri="http://schemas.openxmlformats.org/drawingml/2006/table">
            <a:tbl>
              <a:tblPr/>
              <a:tblGrid>
                <a:gridCol w="2376360"/>
                <a:gridCol w="5853240"/>
              </a:tblGrid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инансова схе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инимални изиск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2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йности по координация и подкреп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Дейности по подкрепа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й-малко 1 ЮЛ, създадено в страна-членка или А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bg-BG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пълнителни критерии за избираемос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й-малко 3 независими ЮЛ, създадени в 3 различни страни-членки  или АС. Максималната продължителност на проекта трябва да бъде 2 години, максималното искане за финансова подкрепа – 600 000 евро за проект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Оценките на предложенията за проекти се очакват февруари 2010 г., 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подписване на първото споразумение за грант – юни 201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7451640" y="5589720"/>
            <a:ext cx="1552680" cy="109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4400" spc="-1" strike="noStrike">
                <a:solidFill>
                  <a:srgbClr val="ff0066"/>
                </a:solidFill>
                <a:latin typeface="Arial"/>
              </a:rPr>
              <a:t>Call FP7-S</a:t>
            </a:r>
            <a:r>
              <a:rPr b="0" i="1" lang="en-US" sz="4400" spc="-1" strike="noStrike">
                <a:solidFill>
                  <a:srgbClr val="ff0066"/>
                </a:solidFill>
                <a:latin typeface="Arial"/>
              </a:rPr>
              <a:t>iS</a:t>
            </a:r>
            <a:r>
              <a:rPr b="0" i="1" lang="bg-BG" sz="4400" spc="-1" strike="noStrike">
                <a:solidFill>
                  <a:srgbClr val="ff0066"/>
                </a:solidFill>
                <a:latin typeface="Arial"/>
              </a:rPr>
              <a:t>-2010-</a:t>
            </a:r>
            <a:r>
              <a:rPr b="0" i="1" lang="en-US" sz="4400" spc="-1" strike="noStrike">
                <a:solidFill>
                  <a:srgbClr val="ff0066"/>
                </a:solidFill>
                <a:latin typeface="Arial"/>
              </a:rPr>
              <a:t>CARE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all identifier: FP7-SCIENCE-IN-SOCIETY-2010-CARE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Дата на публикуване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 30 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юли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20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Крайна дата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*: 21 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януари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010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7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Индикативен бюджет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 4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 млн. евр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The Director General responsible may delay this deadline by up to two month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7451640" y="5589720"/>
            <a:ext cx="1552680" cy="109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8360" y="-352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50920" y="549360"/>
            <a:ext cx="86421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7451640" y="5589720"/>
            <a:ext cx="1552680" cy="1095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5" name=""/>
          <p:cNvGraphicFramePr/>
          <p:nvPr/>
        </p:nvGraphicFramePr>
        <p:xfrm>
          <a:off x="179280" y="981000"/>
          <a:ext cx="8713800" cy="3589560"/>
        </p:xfrm>
        <a:graphic>
          <a:graphicData uri="http://schemas.openxmlformats.org/drawingml/2006/table">
            <a:tbl>
              <a:tblPr/>
              <a:tblGrid>
                <a:gridCol w="2905200"/>
                <a:gridCol w="2903400"/>
                <a:gridCol w="29052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ЙНОСТ/ОБЛАС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Е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инансови схем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TION LINE 2: Укрепване на потенциала, разширяване на хоризонтит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Дейност 5.2.2 Младите хора и науката (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ндикативен бюджет 4 млн. евро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87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ема 5.2.2.2 Засилване връзките между научното образование и научните кариер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SA (дейности по подкрепа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Програма “Капацитети”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3068280"/>
            <a:ext cx="822960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грамата е насочена към повишаване на научния и иновативен капацитет в цяла Европ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7451640" y="5589720"/>
            <a:ext cx="1552680" cy="109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0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395280" y="836640"/>
          <a:ext cx="8229600" cy="5544720"/>
        </p:xfrm>
        <a:graphic>
          <a:graphicData uri="http://schemas.openxmlformats.org/drawingml/2006/table">
            <a:tbl>
              <a:tblPr/>
              <a:tblGrid>
                <a:gridCol w="2376360"/>
                <a:gridCol w="5853240"/>
              </a:tblGrid>
              <a:tr h="121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инансова схе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инимални изиск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2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йности по координация и подкреп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дейности по подкрепа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й-малко 1 независимо ЮЛ, създадено в MS или A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bg-BG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пълнителни критерии за избираемос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bg-BG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инималният брой на участниците – 3 независими ЮЛ, създадени в 3 различни страни-членки </a:t>
                      </a:r>
                      <a:r>
                        <a:rPr b="0" lang="bg-BG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или А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7591320" y="5762520"/>
            <a:ext cx="1552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Оценките на предложенията за проекти се очакват април 2010 г., 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подписване на първото споразумение за грант – юли 201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7451640" y="5589720"/>
            <a:ext cx="1552680" cy="109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ccecff"/>
                </a:solidFill>
                <a:latin typeface="Arial"/>
              </a:rPr>
              <a:t>Конкурси, времеви график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-36360" y="1052640"/>
          <a:ext cx="8929440" cy="4105080"/>
        </p:xfrm>
        <a:graphic>
          <a:graphicData uri="http://schemas.openxmlformats.org/drawingml/2006/table">
            <a:tbl>
              <a:tblPr/>
              <a:tblGrid>
                <a:gridCol w="1728720"/>
                <a:gridCol w="1508040"/>
                <a:gridCol w="1371600"/>
                <a:gridCol w="1371600"/>
                <a:gridCol w="1508040"/>
                <a:gridCol w="1441440"/>
              </a:tblGrid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l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bli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adl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alu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goti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udg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bg-BG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P7-S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S</a:t>
                      </a:r>
                      <a:r>
                        <a:rPr b="0" i="1" lang="bg-BG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2010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.07.200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1.01.20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4.20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7.20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9.75 MEU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bg-BG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P7-S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S</a:t>
                      </a:r>
                      <a:r>
                        <a:rPr b="0" i="1" lang="bg-BG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2010-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NI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.07.200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2.12.200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2.20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6.20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5 MEU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bg-BG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P7-S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</a:t>
                      </a:r>
                      <a:r>
                        <a:rPr b="0" i="1" lang="bg-BG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2010-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RE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.07.200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.01.20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4.20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7.20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 MEU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bg-BG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ll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bg-BG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P7-S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</a:t>
                      </a:r>
                      <a:r>
                        <a:rPr b="0" i="1" lang="bg-BG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2010-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C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.07.200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.04.20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6.20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7.20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0 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 u="sng">
                <a:solidFill>
                  <a:srgbClr val="99ff99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bg-BG" sz="2800" spc="-1" strike="noStrike" u="sng">
                <a:solidFill>
                  <a:srgbClr val="99ff99"/>
                </a:solidFill>
                <a:uFillTx/>
                <a:latin typeface="Times New Roman"/>
                <a:hlinkClick r:id="rId2"/>
              </a:rPr>
              <a:t>cordis</a:t>
            </a:r>
            <a:r>
              <a:rPr b="0" lang="bg-BG" sz="2800" spc="-1" strike="noStrike" u="sng">
                <a:solidFill>
                  <a:srgbClr val="99ff99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bg-BG" sz="2800" spc="-1" strike="noStrike" u="sng">
                <a:solidFill>
                  <a:srgbClr val="99ff99"/>
                </a:solidFill>
                <a:uFillTx/>
                <a:latin typeface="Times New Roman"/>
                <a:hlinkClick r:id="rId4"/>
              </a:rPr>
              <a:t>europa</a:t>
            </a:r>
            <a:r>
              <a:rPr b="0" lang="bg-BG" sz="2800" spc="-1" strike="noStrike" u="sng">
                <a:solidFill>
                  <a:srgbClr val="99ff99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bg-BG" sz="2800" spc="-1" strike="noStrike" u="sng">
                <a:solidFill>
                  <a:srgbClr val="99ff99"/>
                </a:solidFill>
                <a:uFillTx/>
                <a:latin typeface="Times New Roman"/>
                <a:hlinkClick r:id="rId6"/>
              </a:rPr>
              <a:t>eu</a:t>
            </a:r>
            <a:r>
              <a:rPr b="0" lang="bg-BG" sz="2800" spc="-1" strike="noStrike" u="sng">
                <a:solidFill>
                  <a:srgbClr val="99ff99"/>
                </a:solidFill>
                <a:uFillTx/>
                <a:latin typeface="Times New Roman"/>
                <a:hlinkClick r:id="rId7"/>
              </a:rPr>
              <a:t>/fp7</a:t>
            </a:r>
            <a:r>
              <a:rPr b="0" lang="en-US" sz="2800" spc="-1" strike="noStrike">
                <a:solidFill>
                  <a:srgbClr val="99ff99"/>
                </a:solidFill>
                <a:latin typeface="Times New Roman"/>
              </a:rPr>
              <a:t>/home.html</a:t>
            </a:r>
            <a:r>
              <a:rPr b="0" lang="bg-BG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General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 u="sng">
                <a:solidFill>
                  <a:srgbClr val="99ff99"/>
                </a:solidFill>
                <a:uFillTx/>
                <a:latin typeface="Arial"/>
                <a:hlinkClick r:id="rId8"/>
              </a:rPr>
              <a:t>http://cordis.europa.eu/fp7/dc/index.cfm?fuseaction=UserSite.CapacitiesDetailsCallPage&amp;call_id=27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Information Package for Science in Society (Call Fiche, Working Programme, 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The Guides for Applican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 u="sng">
                <a:solidFill>
                  <a:srgbClr val="99ff99"/>
                </a:solidFill>
                <a:uFillTx/>
                <a:latin typeface="Times New Roman"/>
                <a:hlinkClick r:id="rId9"/>
              </a:rPr>
              <a:t>http</a:t>
            </a:r>
            <a:r>
              <a:rPr b="0" lang="bg-BG" sz="2400" spc="-1" strike="noStrike" u="sng">
                <a:solidFill>
                  <a:srgbClr val="99ff99"/>
                </a:solidFill>
                <a:uFillTx/>
                <a:latin typeface="Times New Roman"/>
                <a:hlinkClick r:id="rId10"/>
              </a:rPr>
              <a:t>://cordis.europa.eu/fp7/partners_en.html</a:t>
            </a:r>
            <a:r>
              <a:rPr b="0" lang="bg-BG" sz="2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tner 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99"/>
                </a:solidFill>
                <a:uFillTx/>
                <a:latin typeface="Times New Roman"/>
                <a:hlinkClick r:id="rId11"/>
              </a:rPr>
              <a:t>www.nsfb.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 u="sng">
                <a:solidFill>
                  <a:srgbClr val="99ff99"/>
                </a:solidFill>
                <a:uFillTx/>
                <a:latin typeface="Times New Roman"/>
                <a:hlinkClick r:id="rId12"/>
              </a:rPr>
              <a:t>http://7fp.mon.bg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ffff"/>
                </a:solidFill>
                <a:latin typeface="Times New Roman"/>
              </a:rPr>
              <a:t>Благодаря за вниманиет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bg-BG" sz="3200" spc="-1" strike="noStrike">
                <a:solidFill>
                  <a:srgbClr val="ffffff"/>
                </a:solidFill>
                <a:latin typeface="Times New Roman"/>
              </a:rPr>
              <a:t>ли Кане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l</a:t>
            </a:r>
            <a:r>
              <a:rPr b="0" lang="bg-BG" sz="3200" spc="-1" strike="noStrike">
                <a:solidFill>
                  <a:srgbClr val="ffffff"/>
                </a:solidFill>
                <a:latin typeface="Times New Roman"/>
              </a:rPr>
              <a:t>. 949 231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-mail: 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Times New Roman"/>
                <a:hlinkClick r:id="rId1"/>
              </a:rPr>
              <a:t>kaneva@daits.government.b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ccecff"/>
                </a:solidFill>
                <a:latin typeface="Arial"/>
              </a:rPr>
              <a:t>Капацитет  – капацитет за научни изследван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нфраструктури за научни изследва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учни изследвания в полза на МСП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егиони на знанието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тенциал за научни изследва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Науката в обществото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дкрепа за съгласувано (кохерентно) развитие на изследователските политик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пецифични дейности по международно сътрудничеств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ccecff"/>
                </a:solidFill>
                <a:latin typeface="Arial"/>
              </a:rPr>
              <a:t>Индикативен бюджет за тема “Наука в обществото” 2010 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WP</a:t>
            </a:r>
            <a:r>
              <a:rPr b="0" lang="bg-BG" sz="3200" spc="-1" strike="noStrike">
                <a:solidFill>
                  <a:srgbClr val="ccecff"/>
                </a:solidFill>
                <a:latin typeface="Arial"/>
              </a:rPr>
              <a:t> (в млн. евро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468360" y="1773360"/>
          <a:ext cx="8229600" cy="3332160"/>
        </p:xfrm>
        <a:graphic>
          <a:graphicData uri="http://schemas.openxmlformats.org/drawingml/2006/table">
            <a:tbl>
              <a:tblPr/>
              <a:tblGrid>
                <a:gridCol w="5194080"/>
                <a:gridCol w="303552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bg-BG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ll FP7-S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</a:t>
                      </a:r>
                      <a:r>
                        <a:rPr b="0" i="1" lang="bg-BG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2010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.7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bg-BG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ll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bg-BG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P7-S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</a:t>
                      </a:r>
                      <a:r>
                        <a:rPr b="0" i="1" lang="bg-BG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2010-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I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bg-BG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ll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bg-BG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P7-S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</a:t>
                      </a:r>
                      <a:r>
                        <a:rPr b="0" i="1" lang="bg-BG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2010-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C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bg-BG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ll FP7-S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</a:t>
                      </a:r>
                      <a:r>
                        <a:rPr b="0" i="1" lang="bg-BG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2010-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RE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r>
                        <a:rPr b="1" i="1" lang="bg-BG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5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324000" y="1341360"/>
          <a:ext cx="8820000" cy="4059360"/>
        </p:xfrm>
        <a:graphic>
          <a:graphicData uri="http://schemas.openxmlformats.org/drawingml/2006/table">
            <a:tbl>
              <a:tblPr/>
              <a:tblGrid>
                <a:gridCol w="2808000"/>
                <a:gridCol w="3456000"/>
                <a:gridCol w="2556000"/>
              </a:tblGrid>
              <a:tr h="142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ублични организации, средни училища и Университети, научни организации и МС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сички останали организ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зследователски дейности и дейности за технологично развит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r>
                        <a:rPr b="0" lang="bg-BG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монстрационни дейнос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r>
                        <a:rPr b="0" lang="bg-BG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r>
                        <a:rPr b="0" lang="bg-BG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йности за координация и подкреп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0" name=""/>
          <p:cNvSpPr/>
          <p:nvPr/>
        </p:nvSpPr>
        <p:spPr>
          <a:xfrm>
            <a:off x="250920" y="26028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Максимално финансиране (% от допустимите разходи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4400" spc="-1" strike="noStrike">
                <a:solidFill>
                  <a:srgbClr val="ff0066"/>
                </a:solidFill>
                <a:latin typeface="Arial"/>
              </a:rPr>
              <a:t>Call FP7-S</a:t>
            </a:r>
            <a:r>
              <a:rPr b="0" i="1" lang="en-US" sz="4400" spc="-1" strike="noStrike">
                <a:solidFill>
                  <a:srgbClr val="ff0066"/>
                </a:solidFill>
                <a:latin typeface="Arial"/>
              </a:rPr>
              <a:t>iS</a:t>
            </a:r>
            <a:r>
              <a:rPr b="0" i="1" lang="bg-BG" sz="4400" spc="-1" strike="noStrike">
                <a:solidFill>
                  <a:srgbClr val="ff0066"/>
                </a:solidFill>
                <a:latin typeface="Arial"/>
              </a:rPr>
              <a:t>-2010-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all identifier: FP7-SCIENCE-IN-SOCIETY-2010-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Публикуван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30 юли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200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Краен срок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*: 21 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януари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2010 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7.00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 ч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Индикативен бюджет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: 39.75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 млн. евр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7451640" y="5589720"/>
            <a:ext cx="1552680" cy="109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-352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50920" y="549360"/>
            <a:ext cx="86421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250920" y="404640"/>
          <a:ext cx="8713800" cy="5976720"/>
        </p:xfrm>
        <a:graphic>
          <a:graphicData uri="http://schemas.openxmlformats.org/drawingml/2006/table">
            <a:tbl>
              <a:tblPr/>
              <a:tblGrid>
                <a:gridCol w="2894040"/>
                <a:gridCol w="2892240"/>
                <a:gridCol w="216000"/>
                <a:gridCol w="2711520"/>
              </a:tblGrid>
              <a:tr h="53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йност/ Облас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ем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инансови схем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06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Дейност 1: По-динамично управление на взаимодействието между науката и обществото</a:t>
                      </a:r>
                      <a:r>
                        <a:rPr b="1" lang="en-US" sz="14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771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ема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iS-2010 1.0-1 Дейности по мобилизация и взаимно обучение (индикативен бюджет 16.5 млн. евро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SA (Supporting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ласт 5.1.1 По-добро разбиране на мястото на науката и технологиите в обществото (индикативен бюджет 3 млн. евро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2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ласт 5.1.1.1 Връзки между наука, демокрация и зако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ема SiS-2010-1.1.1-1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bg-BG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олята на етиката в политиката и законодателството  на ЕС: ЕС като световен играч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ъвместни изследователски проекти (малки или средни по размер фокусирани изследователски проекти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33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ема  SiS-2010- 1.1.1-2 Ролята на етиката в политиката на ЕС: Развитие на политиката на Е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-352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50920" y="549360"/>
            <a:ext cx="86421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7451640" y="5589720"/>
            <a:ext cx="1552680" cy="1095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0" name=""/>
          <p:cNvGraphicFramePr/>
          <p:nvPr/>
        </p:nvGraphicFramePr>
        <p:xfrm>
          <a:off x="250920" y="549360"/>
          <a:ext cx="8713800" cy="3865320"/>
        </p:xfrm>
        <a:graphic>
          <a:graphicData uri="http://schemas.openxmlformats.org/drawingml/2006/table">
            <a:tbl>
              <a:tblPr/>
              <a:tblGrid>
                <a:gridCol w="2905200"/>
                <a:gridCol w="2903400"/>
                <a:gridCol w="182520"/>
                <a:gridCol w="27226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йност/Облас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ем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инансови схем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Дейност  5.1.3 Укрепване и подобряване на системата на Европейската наука (индикативен бюджет 3 млн. евро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ласт  5.1.3.3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ема SIS-2010-1.3.3-1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ценка на това как научните резултати на ниво отделни изследователи се оценяват и измерват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ъвместни изследователски проекти (малки или средни по размер фокусирани изследователски проекти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360" y="-352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0920" y="549360"/>
            <a:ext cx="86421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7451640" y="5589720"/>
            <a:ext cx="1552680" cy="1095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4" name=""/>
          <p:cNvGraphicFramePr/>
          <p:nvPr/>
        </p:nvGraphicFramePr>
        <p:xfrm>
          <a:off x="250920" y="404640"/>
          <a:ext cx="8713800" cy="5656320"/>
        </p:xfrm>
        <a:graphic>
          <a:graphicData uri="http://schemas.openxmlformats.org/drawingml/2006/table">
            <a:tbl>
              <a:tblPr/>
              <a:tblGrid>
                <a:gridCol w="2905200"/>
                <a:gridCol w="3287520"/>
                <a:gridCol w="25210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йност/ Облас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ем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инансови схем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TION LINE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r>
                        <a:rPr b="1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: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крепване на потенциала, разширяване на хоризонтит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Дейност 5.2.1 Пол и научни изследва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ласт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.2.1.1. </a:t>
                      </a: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крепване на ролята на жените в научните изследвания и вземането на научни реш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iS-2010-2.1.1-1 Осъществяване на структурни промени в научните организации/университети (бюджет 4.5 млн. евро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SA (Supporting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rea 5.2.1.3. </a:t>
                      </a: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еобладаващ пол в научните политики и програми на Общностт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iS-2010-2.1.3-1 </a:t>
                      </a: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Жените в науката: Евро-Средиземноморско сътрудничество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бюджет 2 млн. евро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ъвместни изследователски проекти за специфични дейности за сътрудничеств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08:17:35Z</dcterms:created>
  <dc:creator>kaneva</dc:creator>
  <dc:description/>
  <dc:language>en-US</dc:language>
  <cp:lastModifiedBy>miro</cp:lastModifiedBy>
  <dcterms:modified xsi:type="dcterms:W3CDTF">2009-11-24T05:23:26Z</dcterms:modified>
  <cp:revision>4</cp:revision>
  <dc:subject/>
  <dc:title> ОТВОРЕНИ КОНКУРСИ  “СОЦИАЛНО-ИКОНОМИЧЕСКИ И ХУМАНИТАРНИ НАУКИ” (SSH) “НАУКА В ОБЩЕСТВОТО” (SiS) FP 7</dc:title>
</cp:coreProperties>
</file>