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7F6B-3A0D-46BD-B42D-5D5F1A67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F229-5038-4CB2-8AA8-C364B642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1E40-2609-4DAB-81EE-9D16845D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93A5-30E6-40B1-AF77-A1F337B6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6EDC-1662-4AB7-B2D8-1CB1D026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D293-6033-4E94-9E53-5CDF4B35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78FA-4BA8-4A43-A1E4-B0DB6681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64DF-4DE5-4EA1-A957-DA74DCB8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B407-F585-4DE3-AB1B-A26587A1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AB18-FEB3-45B7-8A1D-B9491F43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06B3-8792-4661-B599-76132B59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131B-7AF5-4728-8B15-C77F0376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C740-8EF5-4AAD-A508-A1C8B9CA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4C43-4872-449B-B835-523081B5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1221-7077-422E-A31C-430F8A73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DDBF-7DA9-4C64-9BF7-3C450D7F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3F47-8E4F-4E62-BC34-56DE1995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44A8-2B4C-4B64-9B1C-549A97AC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31C9-40D4-4D42-ADD6-32F4FCD6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C17-F63B-4394-9388-0B7113A4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7277-7D74-4F35-A764-98696C54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5FA8-8B98-48C3-A90C-A35C8539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84B3-DF1F-4509-8668-E39B3CEF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9561-A825-4E46-8E35-099CBCE5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C78B-011E-4C6A-AABF-16800CC7B92F}" type="slidenum"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7985-4E07-466C-86E6-E2F312B7E30E}" type="slidenum"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91856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Информационен ден по Седма Рамкова Програма на ЕС</a:t>
            </a:r>
            <a:br>
              <a:rPr sz="2400"/>
            </a:b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24 ноември  2009 г.</a:t>
            </a:r>
            <a:r>
              <a:rPr b="0" i="1" lang="en-US" sz="4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980640"/>
            <a:ext cx="8569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09:00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Регистрация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09:30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Открив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Times New Roman"/>
              </a:rPr>
              <a:t>Г-н Първан Русинов, заместник министър на транспорта, информационните технологии и съобщения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Times New Roman"/>
              </a:rPr>
              <a:t>Д-р инж. Румен Трифонов, Директор КЦИКУ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</a:rPr>
              <a:t>Шеста конкурсна сесия по тема ИКТ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09:35 – 09:50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Преглед на тематиката на шести конкур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bg-BG" sz="1200" spc="-1" strike="noStrike">
                <a:solidFill>
                  <a:srgbClr val="000000"/>
                </a:solidFill>
                <a:latin typeface="Times New Roman"/>
              </a:rPr>
              <a:t>Г-жа Тотка Чернаева, Член на Програмния комитет на ИКТ/7Р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09:50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0:00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Предизвикателство 2: Когнитивни системи и робо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bg-BG" sz="1200" spc="-1" strike="noStrike">
                <a:solidFill>
                  <a:srgbClr val="000000"/>
                </a:solidFill>
                <a:latin typeface="Times New Roman"/>
              </a:rPr>
              <a:t>Г-жа Тотка Чернаева, Член на Програмния комитет на ИКТ/7Р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10:00 – 10:20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извикателство 4: Цифрови библиотеки и  съдърж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bg-BG" sz="1200" spc="-1" strike="noStrike">
                <a:solidFill>
                  <a:srgbClr val="000000"/>
                </a:solidFill>
                <a:latin typeface="Times New Roman"/>
              </a:rPr>
              <a:t>Г-жа Тотка Чернаева, Член на Програмния комитет на ИКТ/7Р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0:2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 – 10:40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Кафе пау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10:40 – 11:0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Предизвикателство 5:  Устойчиво и персонализирано здравеопазв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bg-BG" sz="1200" spc="-1" strike="noStrike">
                <a:solidFill>
                  <a:srgbClr val="000000"/>
                </a:solidFill>
                <a:latin typeface="Times New Roman"/>
              </a:rPr>
              <a:t>Г-жа Мариета Попова, НКЛ по ИКТ/7Р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11:00 – 11:20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Предизвикателство 6: ИКТ за мобилност, устойчива околна среда и енергийна ефективн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bg-BG" sz="1200" spc="-1" strike="noStrike">
                <a:solidFill>
                  <a:srgbClr val="000000"/>
                </a:solidFill>
                <a:latin typeface="Times New Roman"/>
              </a:rPr>
              <a:t>Г-жа Мариета Попова, НКЛ по ИКТ/7Р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11:20 – 11:40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Бъдещи и нововъзникващи технологии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bg-BG" sz="1200" spc="-1" strike="noStrike">
                <a:solidFill>
                  <a:srgbClr val="000000"/>
                </a:solidFill>
                <a:latin typeface="Times New Roman"/>
              </a:rPr>
              <a:t>Г-жа Тотка Чернаева, Член на Програмния комитет на ИКТ/7Р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11:40 – 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:0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Хоризонтални действия в 7РП. Синергии между 7РП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P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и структурните фонд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bg-BG" sz="1200" spc="-1" strike="noStrike">
                <a:solidFill>
                  <a:srgbClr val="000000"/>
                </a:solidFill>
                <a:latin typeface="Times New Roman"/>
              </a:rPr>
              <a:t>Г-жа Мариета Попова, НКЛ по ИКТ/7РП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12:00 – 12:20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Въпроси и отгов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и „Наука в обществото” и „Социално-икономически и хуманитарни науки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12:20 – 12:40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Отворени конкурси по тема „Наука в обществото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bg-BG" sz="1200" spc="-1" strike="noStrike">
                <a:solidFill>
                  <a:srgbClr val="000000"/>
                </a:solidFill>
                <a:latin typeface="Times New Roman"/>
              </a:rPr>
              <a:t>Г-жа Ели Канева, Член на програмния комитет на „Наука в обществото”/7РП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12:40 – 12:50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Отворени конкурси по тема „Социално-икономически и хуманитарни науки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bg-BG" sz="1200" spc="-1" strike="noStrike">
                <a:solidFill>
                  <a:srgbClr val="000000"/>
                </a:solidFill>
                <a:latin typeface="Times New Roman"/>
              </a:rPr>
              <a:t>Г-жа Ели Канева, НКЛ по СИХН/7Р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12:50 – 13:00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Въпроси и отгов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0:05:30Z</dcterms:created>
  <dc:creator>kaneva</dc:creator>
  <dc:description/>
  <dc:language>en-US</dc:language>
  <cp:lastModifiedBy>kaneva</cp:lastModifiedBy>
  <dcterms:modified xsi:type="dcterms:W3CDTF">2009-11-23T10:07:40Z</dcterms:modified>
  <cp:revision>2</cp:revision>
  <dc:subject/>
  <dc:title>Информационен ден по Седма Рамкова Програма на ЕС 24 ноември  2009 г. </dc:title>
</cp:coreProperties>
</file>