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1162-381B-449B-B2AC-C5BB6552BAA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D7A1-427B-49A6-9C8B-E8A1A0A1CB4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3236-D1B2-42BD-A5D5-BE9E36DCB8E9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8800" y="4375080"/>
            <a:ext cx="50371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dated 3/10/2006 – added “over period” to second point; changed basic research budget to 1 billion from 1.5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dated 6/10/2006 after review by P. Amor – replaced second point to exclude value and changed “doubles over period” to “increased significant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per Lars Aggerbeck 10/10/2006 – added sub-point to first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9411-79F1-447D-BAA6-3E74EE88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A103-D542-483D-BE29-B1CB458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1452-26EB-42B2-950C-A1A4513B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A8CA-0E84-4406-AECF-9D31BE0B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0A6B-81A3-4B15-8CAF-CF56D9E0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3D7F-E933-4908-99DF-D7E12307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FACE-9390-4ACF-A23B-6DA7AF22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944D-23FF-47DD-A851-4E6BB093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B406-80E8-47F7-B06E-93E5F3D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27D6-22B5-462B-B4DD-DEC59CC6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DFF7-1B4A-4C02-8FD4-375C013A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42EB-30DC-4C8A-99E4-2C31E6E2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0879-1084-48E2-9BFE-8F12715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BC3C-7DB1-41A6-8774-A66A8FCE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7584-F310-4C03-BBB0-80953946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5CE3-408D-4180-A50A-FB8044DF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082-EB6C-4ADB-9EC6-8480A0D1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4B94-53D5-4DD1-B714-EC9D5B01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E529-5FB8-4058-BD7A-07B913CB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7856-F56C-427F-93E3-8C56E524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DA85-8263-4675-A7EE-E097914E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981C-05E1-4301-9C81-A1CA78F8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5E7F-1CCD-4090-BA3E-6893A58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4A71-6870-4505-9B3A-C7F5F0C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9CEA-566E-4680-AC07-5C698EAAB928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3CBA-2397-4B76-91FE-1AD07EF7A747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et4society.eu/public/pss" TargetMode="External"/><Relationship Id="rId2" Type="http://schemas.openxmlformats.org/officeDocument/2006/relationships/hyperlink" Target="http://www.net4society.eu/public/pss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00000" y="386064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ЕЛИ КАНЕ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МИНИСТЕРСТВО НА ТРАНСПОРТА, ИНФОРМАЦИОННИТЕ ТЕХНОЛОГИИ И СЪОБЩЕНИЯ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Национално контактно лице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90756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g-BG" sz="3200" spc="-1" strike="noStrike">
                <a:solidFill>
                  <a:srgbClr val="e5e5ff"/>
                </a:solidFill>
                <a:latin typeface="Times New Roman"/>
              </a:rPr>
              <a:t>ОТВОРЕНИ КОНКУРСИ </a:t>
            </a:r>
            <a:br>
              <a:rPr sz="3200"/>
            </a:br>
            <a:r>
              <a:rPr b="1" lang="bg-BG" sz="3200" spc="-1" strike="noStrike">
                <a:solidFill>
                  <a:srgbClr val="e5e5ff"/>
                </a:solidFill>
                <a:latin typeface="Times New Roman"/>
              </a:rPr>
              <a:t>“СОЦИАЛНО-ИКОНОМИЧЕСКИ И ХУМАНИТАРНИ НАУКИ” (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SSH)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FP 7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30200" y="476280"/>
          <a:ext cx="8713800" cy="5691240"/>
        </p:xfrm>
        <a:graphic>
          <a:graphicData uri="http://schemas.openxmlformats.org/drawingml/2006/table">
            <a:tbl>
              <a:tblPr/>
              <a:tblGrid>
                <a:gridCol w="4608360"/>
                <a:gridCol w="410544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 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8.3: </a:t>
                      </a:r>
                      <a:r>
                        <a:rPr b="1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Основни  тенденции в общественото развитие и техните последиц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 8 млн. евр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3.2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ни тенденции и начини на жив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3.2-1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Пристрастявания и начин на живот в съвременните европейски об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8.4. </a:t>
                      </a: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Европа в света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 8 млн. евр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4.1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аимодействия и взаимни зависимости между световните  региони и последиците от т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4.1-1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Европа пред предизвикателствата на  многополюсния свя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8.5: </a:t>
                      </a: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Гражданите в Европейския съюз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 8 млн. евр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5.1. 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ажданско участие и гражданско съзнание в 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5.1-1.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Демокрация и сенките на тоталитаризма и популизма: Европейският оп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5280" y="1125360"/>
          <a:ext cx="8229600" cy="4319640"/>
        </p:xfrm>
        <a:graphic>
          <a:graphicData uri="http://schemas.openxmlformats.org/drawingml/2006/table">
            <a:tbl>
              <a:tblPr/>
              <a:tblGrid>
                <a:gridCol w="3816360"/>
                <a:gridCol w="4413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ансови сх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ални изиск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 проекти (мащабни интегрирани проект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й-малко 7 партньора от минимум 7 държав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ум 7 независими юридически лица, всяко от които е създадено 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S 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л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AC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не е възможно 2 ЮЛ от една и съща държав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Минималното искане за финансиране от ЕС за </a:t>
            </a:r>
            <a:r>
              <a:rPr b="0" i="1" lang="bg-BG" sz="2000" spc="-1" strike="noStrike">
                <a:solidFill>
                  <a:srgbClr val="ffffff"/>
                </a:solidFill>
                <a:latin typeface="Times New Roman"/>
              </a:rPr>
              <a:t>Съвместните изследователски  проекти (мащабни интегрирани проекти) е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 500 000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 евр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B: </a:t>
            </a:r>
            <a:r>
              <a:rPr b="0" i="1" lang="bg-BG" sz="2800" spc="-1" strike="noStrike">
                <a:solidFill>
                  <a:srgbClr val="ffffff"/>
                </a:solidFill>
                <a:latin typeface="Garamond"/>
              </a:rPr>
              <a:t>Предложения извън този финансов лимит ще се считат за неизбираеми, неподходящ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Едностепенна процедура за оценка на предложенията за проек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Оценка на предложенията – май 2010, подписване на първото споразумение за грант – ноември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Garamond"/>
              </a:rPr>
              <a:t>Call FP7-SSH-2010-</a:t>
            </a:r>
            <a:r>
              <a:rPr b="1" i="1" lang="en-US" sz="4400" spc="-1" strike="noStrike">
                <a:solidFill>
                  <a:srgbClr val="ff0066"/>
                </a:solidFill>
                <a:latin typeface="Garamond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Call identifier: FP7-SSH-2010-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Публикуван на 30 юли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Крайна дат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: 2 февруари 2010 в 17.00 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Индикативен бюджет:</a:t>
            </a:r>
            <a:r>
              <a:rPr b="0" i="1" lang="bg-BG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18.9 млн. евр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3 дейности, 5 области, 6 те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30200" y="189000"/>
          <a:ext cx="8713800" cy="4413240"/>
        </p:xfrm>
        <a:graphic>
          <a:graphicData uri="http://schemas.openxmlformats.org/drawingml/2006/table">
            <a:tbl>
              <a:tblPr/>
              <a:tblGrid>
                <a:gridCol w="4590720"/>
                <a:gridCol w="216000"/>
                <a:gridCol w="39070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 / 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8.1:</a:t>
                      </a: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Растеж, заетост и конкурентоспособност в общество, базирано на знанието: Европейското състояние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Бюджет 5.4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1.1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менящата се роля на знанието в икономик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1.1-1. Обусловени от търсенето политики за научни изследвания и иновации за растеж, благосъстояние и благополуч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1.3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силване на обвързаността  и координация на политиките в Европа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1.3-1 Публичният сектор на бъдеще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0200" y="189000"/>
          <a:ext cx="8713800" cy="5132160"/>
        </p:xfrm>
        <a:graphic>
          <a:graphicData uri="http://schemas.openxmlformats.org/drawingml/2006/table">
            <a:tbl>
              <a:tblPr/>
              <a:tblGrid>
                <a:gridCol w="4608360"/>
                <a:gridCol w="410544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 / 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9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 8.2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Комбиниране на икономически и  социални цели и цели в областта на  околната среда в Европейски план: пътища за постигане на устойчиво развитие</a:t>
                      </a:r>
                      <a:r>
                        <a:rPr b="1" lang="bg-BG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бюджет 8.1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2.1 Траектории на социално-икономическо разви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2.1-2  Местни системи за социално развитие, благоприятстващи социалното сближав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2.2. Регионално, териториално и социално сближав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2.2-1  Регионите в ЕС и тяхното  взаимодействия със съседните регио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404640"/>
          <a:ext cx="8424720" cy="4656240"/>
        </p:xfrm>
        <a:graphic>
          <a:graphicData uri="http://schemas.openxmlformats.org/drawingml/2006/table">
            <a:tbl>
              <a:tblPr/>
              <a:tblGrid>
                <a:gridCol w="4535280"/>
                <a:gridCol w="38894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Дейност 8.5: Гражданите в ЕС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бюджет 5.4 млн. евр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2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5.2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нообразие и сходства в Европ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5.2-1 Европейски идентичности: Възприемане на  Европа и ЕС от вътре и от въ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5.2-2. Ново интерпретиране на културното наследство на Европа – към библиотеки и музеи на 21 ве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620640"/>
          <a:ext cx="8229600" cy="4552920"/>
        </p:xfrm>
        <a:graphic>
          <a:graphicData uri="http://schemas.openxmlformats.org/drawingml/2006/table">
            <a:tbl>
              <a:tblPr/>
              <a:tblGrid>
                <a:gridCol w="4248000"/>
                <a:gridCol w="3981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ансови схе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ални изисква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</a:t>
                      </a: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алки или средни по размер фокусирани научни проекти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област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1.1, 8.1.3,8.2.2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5.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3 независими ЮЛ, създадени в 3 различни MS или A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учни изследвания в полза на специфични групи – граждански орган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8.2.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3 независими ЮЛ, създадени в 3 различни MS или A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е 1 от ЮЛ – гражданска организация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Максималното искане за финансиране от ЕС – 2.7 млн. евр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B: </a:t>
            </a:r>
            <a:r>
              <a:rPr b="0" i="1" lang="bg-BG" sz="2800" spc="-1" strike="noStrike">
                <a:solidFill>
                  <a:srgbClr val="ffffff"/>
                </a:solidFill>
                <a:latin typeface="Garamond"/>
              </a:rPr>
              <a:t>Предложения за проекти с финансово искане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&gt; </a:t>
            </a:r>
            <a:r>
              <a:rPr b="0" i="1" lang="bg-BG" sz="2800" spc="-1" strike="noStrike">
                <a:solidFill>
                  <a:srgbClr val="ffffff"/>
                </a:solidFill>
                <a:latin typeface="Garamond"/>
              </a:rPr>
              <a:t>2.7 млн. евро ще се считат за неизбираеми, неподходящ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Едностепенна процедура за оценка на предложенията за проек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Оценка на предложенията – май 2010, подписване на първото споразумение за грант – ноември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Garamond"/>
              </a:rPr>
              <a:t>Call FP7-SSH-2010-</a:t>
            </a:r>
            <a:r>
              <a:rPr b="1" i="1" lang="en-US" sz="4400" spc="-1" strike="noStrike">
                <a:solidFill>
                  <a:srgbClr val="ff0066"/>
                </a:solidFill>
                <a:latin typeface="Garamond"/>
              </a:rPr>
              <a:t>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Call identifier: FP7-SSH-2010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Публикуван - 30 юли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Крайна дат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: 2 февруари 2010 в 17.00 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Индикативен бюджет:</a:t>
            </a:r>
            <a:r>
              <a:rPr b="0" i="1" lang="bg-BG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.1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 млн. евр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1 дейност, 2 области, 3 те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39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5e5ff"/>
                </a:solidFill>
                <a:latin typeface="Times New Roman"/>
              </a:rPr>
              <a:t>Програма “Сътрудничество”</a:t>
            </a: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 – </a:t>
            </a:r>
            <a:r>
              <a:rPr b="1" lang="bg-BG" sz="2400" spc="-1" strike="noStrike">
                <a:solidFill>
                  <a:srgbClr val="e5e5ff"/>
                </a:solidFill>
                <a:latin typeface="Times New Roman"/>
              </a:rPr>
              <a:t>Съвместни изследван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Програмата подкрепя транс-национално сътрудничество в десет тематични област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Здрав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Храни, селско стопанство и биотехн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Информационни и комуникационни техн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Нан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науки, технологии, материали и нови производствени техн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Енергети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Околна сред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промени в клима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включително аеронавти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cc00"/>
                </a:solidFill>
                <a:latin typeface="Times New Roman"/>
              </a:rPr>
              <a:t>Социално-икономически и хуманитарни нау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Сигурнос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Космос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ЕВРАТОМ</a:t>
            </a: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ядрен синтез, ядрено разпадане и радиационна защи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30200" y="189000"/>
          <a:ext cx="8713800" cy="5021280"/>
        </p:xfrm>
        <a:graphic>
          <a:graphicData uri="http://schemas.openxmlformats.org/drawingml/2006/table">
            <a:tbl>
              <a:tblPr/>
              <a:tblGrid>
                <a:gridCol w="3997440"/>
                <a:gridCol w="4716360"/>
              </a:tblGrid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 на кон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Дейност 8.4. Европа в с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4.1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аимодействия и взаимни зависимости между световните  региони и последиците от тях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4.1-2 Общи предизвикателства за Латинска Америка и Карибските стра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4.1-3 Разбиране на тенденциите и процесите на урбанизацията в съвременен Кит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4.2. Конфликти, мир и човешки п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4.2-1. Култури на управление и разрешаване на конфликтите в Европа и Инд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260280"/>
          <a:ext cx="8497800" cy="10525320"/>
        </p:xfrm>
        <a:graphic>
          <a:graphicData uri="http://schemas.openxmlformats.org/drawingml/2006/table">
            <a:tbl>
              <a:tblPr/>
              <a:tblGrid>
                <a:gridCol w="2089080"/>
                <a:gridCol w="6408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ансови сх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ални изиск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за специфични дейности за сътрудничество, насочени към международно сътрудничество с партньорски страни извън 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тема 'SSH.2010.4.1-2  - минимум 7 независими ЮЛ, от които 2 от 2 различни MS или AC. Останалите 5 трябва да са създадени  в Латинска Америка и Карибските страни. (От тези 5 – поне 1 ЮЛ в Аржентина, 1 – в Бразилия, 1 – в Чили и 1 – в Мексик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тема 'SSH.2010.4.1-3 – най-малко 4 независими ЮЛ, от които 2 трябва да са създадени в 2 различни MS или AC. Останалите 2 – в Кита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тема 'SSH.2010.4.2-1. най-малко 4 независими ЮЛ, от които 2 трябва да са създадени в 2 различни MS или AC. Останалите 2 – в Индия или Индия и друга страна партньор за международно сътрудничеств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Максималното искане за финансиране от ЕС – 2.7 млн. евр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B: </a:t>
            </a:r>
            <a:r>
              <a:rPr b="0" i="1" lang="bg-BG" sz="3200" spc="-1" strike="noStrike">
                <a:solidFill>
                  <a:srgbClr val="ffffff"/>
                </a:solidFill>
                <a:latin typeface="Garamond"/>
              </a:rPr>
              <a:t>Предложения за проекти с финансово искане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&gt; </a:t>
            </a:r>
            <a:r>
              <a:rPr b="0" i="1" lang="bg-BG" sz="3200" spc="-1" strike="noStrike">
                <a:solidFill>
                  <a:srgbClr val="ffffff"/>
                </a:solidFill>
                <a:latin typeface="Garamond"/>
              </a:rPr>
              <a:t>2.7 млн. евро ще се считат за неизбираеми, неподходящ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Едностепенна процедура за оценка на предложенията за проек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Оценка на предложенията – май 2010, подписване на първото споразумение за грант – ноември 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66"/>
                </a:solidFill>
                <a:latin typeface="Garamond"/>
              </a:rPr>
              <a:t>Call FP7-SSH-2010-</a:t>
            </a:r>
            <a:r>
              <a:rPr b="1" i="1" lang="en-US" sz="4400" spc="-1" strike="noStrike">
                <a:solidFill>
                  <a:srgbClr val="ff0066"/>
                </a:solidFill>
                <a:latin typeface="Garamond"/>
              </a:rPr>
              <a:t>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Call identifier: FP7-SSH-2010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Публикуван – 30 юли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Крайна дат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 декемвр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9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 в 17.00 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Индикативен бюджет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3.6 млн. евр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30200" y="189000"/>
          <a:ext cx="8713800" cy="5688000"/>
        </p:xfrm>
        <a:graphic>
          <a:graphicData uri="http://schemas.openxmlformats.org/drawingml/2006/table">
            <a:tbl>
              <a:tblPr/>
              <a:tblGrid>
                <a:gridCol w="4608360"/>
                <a:gridCol w="4105440"/>
              </a:tblGrid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и на кон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 8.2: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Комбиниране на икономически и  социални цели и цели в областта на  околната среда в Европейски план: пътища за постигане на устойчиво разви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2.1. Траектории на социално-икономическо разви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2.1-4 Социална платформа за устойчиви стилове на живот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- EUR 1.5 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Дейност 8.8. Хоризонталн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8-1 Мобилизиране на мрежата от NCPs за специфични цели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- EUR 1.8 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 2010. 8-2 Подкрепа на подготовката на проект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RANET/ ERANET Plus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юджет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EUR 300 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4360" y="2060640"/>
          <a:ext cx="7848360" cy="2900160"/>
        </p:xfrm>
        <a:graphic>
          <a:graphicData uri="http://schemas.openxmlformats.org/drawingml/2006/table">
            <a:tbl>
              <a:tblPr/>
              <a:tblGrid>
                <a:gridCol w="2747880"/>
                <a:gridCol w="5100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ансова сх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мални изиск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и за координация и подкрепа (дейности за подкреп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нимум 1 Ю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91320" y="5762520"/>
            <a:ext cx="1552680" cy="10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Сам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CPs 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могат да участват в тема SSH.2010.8-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В тем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H 2010. 8-2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 могат да участват само организации, избираеми з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NET/ERANET Plus 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проек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Едностепенна процедура за оценка на предложенията за проек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Оценка на предложенията – януари 2010, подписване на първото споразумение за грант – юли 201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Конкурс “Океанът утре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Garamond"/>
              </a:rPr>
              <a:t>Call identifier: </a:t>
            </a:r>
            <a:r>
              <a:rPr b="0" lang="bg-BG" sz="2400" spc="-1" strike="noStrike">
                <a:solidFill>
                  <a:srgbClr val="ffffff"/>
                </a:solidFill>
                <a:latin typeface="Garamond"/>
              </a:rPr>
              <a:t>FP7-OCEAN-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Garamond"/>
              </a:rPr>
              <a:t>Публикуван : </a:t>
            </a:r>
            <a:r>
              <a:rPr b="0" lang="bg-BG" sz="2400" spc="-1" strike="noStrike">
                <a:solidFill>
                  <a:srgbClr val="ffffff"/>
                </a:solidFill>
                <a:latin typeface="Garamond"/>
              </a:rPr>
              <a:t>30 юли 20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Garamond"/>
              </a:rPr>
              <a:t>Крайна дата: </a:t>
            </a:r>
            <a:r>
              <a:rPr b="0" lang="bg-BG" sz="2400" spc="-1" strike="noStrike">
                <a:solidFill>
                  <a:srgbClr val="ffffff"/>
                </a:solidFill>
                <a:latin typeface="Garamond"/>
              </a:rPr>
              <a:t>14 януари 2010, 17.00 ч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Garamond"/>
              </a:rPr>
              <a:t>Индикативен бюджет </a:t>
            </a:r>
            <a:r>
              <a:rPr b="0" lang="bg-BG" sz="2400" spc="-1" strike="noStrike">
                <a:solidFill>
                  <a:srgbClr val="ffffff"/>
                </a:solidFill>
                <a:latin typeface="Garamond"/>
              </a:rPr>
              <a:t>34 млн. евро от бюджет 2010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9 млн. евро за тема “Храни,  рибовъдство, аграрни науки и биотехнологии”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6 млн. евро за тема “Енергия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10.5 млн. евро за тема “Околна среда” (включително климатични промен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7.5 млн. евро за тема “Транспорт” (включително аеронавтика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aramond"/>
              </a:rPr>
              <a:t>1 млн. евро за тема “Социално-икономически и хуманитарни науки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ми на конку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EAN.2010-1- Количествено измерване на въздействието на климатичните промени върху икономическите сектори в  Арктика (индикативен бюджет 11 млн. евр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EAN.2010-2 Вектори на промени в морската флора и фауна, въздействие върху икономическите сектори (индикативен бюджет 12.5 млн. евр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EAN.2010-3 подводно съхраняване на въглероден диоксид и морската околна среда (индикативен бюджет 10.5 млн. евр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инансова схе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ъвместни изследователски  проекти (мащабни интегрирани проекти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инимални изисквания - Най-малко 3 независими ЮЛ, създадени в 3 различни MS или 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 всяка една от темите ще бъде финансиран максимум по 1 проек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ътрудничество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Общата програмна цел е устойчивото развитие на Европейската икономика, базирана на знаниет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e5e5ff"/>
                </a:solidFill>
                <a:latin typeface="Garamond"/>
              </a:rPr>
              <a:t>Конкурси, времеви график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36360" y="1052640"/>
          <a:ext cx="8929440" cy="3768480"/>
        </p:xfrm>
        <a:graphic>
          <a:graphicData uri="http://schemas.openxmlformats.org/drawingml/2006/table">
            <a:tbl>
              <a:tblPr/>
              <a:tblGrid>
                <a:gridCol w="1944360"/>
                <a:gridCol w="1292400"/>
                <a:gridCol w="1371600"/>
                <a:gridCol w="1371600"/>
                <a:gridCol w="1371600"/>
                <a:gridCol w="15778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b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ad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goti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SH-2010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02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.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SH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02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.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.9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SH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02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.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1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SH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12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.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6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EAN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01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 MEU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 MEUR – SSH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Търсене на партньор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bg-BG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www.net4society.eu/public/p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Garamond"/>
              </a:rPr>
              <a:t>Templates: 2 вида - партньори и координа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Garamond"/>
              </a:rPr>
              <a:t>Попълване – НКЛ – проверка – всички НКЛ – публикуване на сай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НК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Garamond"/>
              </a:rPr>
              <a:t>http://cordis.europa.eu/partners-service/home_en.ht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http://cordis.europa.eu/fp7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/home.html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eneral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http://cordis.europa.eu/fp7/dc/index.cfm?fuseaction=UserSite.CooperationDetailsCallPage&amp;call_id=25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Information Package for SSH (Call Fiche, Working Programme, 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The Guides for Applica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http://cordis.europa.eu/fp7/partners_en.html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ner sear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nsfb.n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Times New Roman"/>
              </a:rPr>
              <a:t>http://7fp.mon.bg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Благодаря за внимание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ли Кан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. 949 23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mail: kaneva@daits.government.b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341360"/>
          <a:ext cx="8820000" cy="5110200"/>
        </p:xfrm>
        <a:graphic>
          <a:graphicData uri="http://schemas.openxmlformats.org/drawingml/2006/table">
            <a:tbl>
              <a:tblPr/>
              <a:tblGrid>
                <a:gridCol w="2808000"/>
                <a:gridCol w="3456000"/>
                <a:gridCol w="2556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блични организации, средни училища и Университети, научни организации и МС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ички останали орга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следователски дейности и дейности за технологично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монстрационн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за координация и подкре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правление, одит и друг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0920" y="26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Garamond"/>
              </a:rPr>
              <a:t>Максимално финансиране (% от допустимите разход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отворени конкурса, различни финансови схе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e5e5ff"/>
                </a:solidFill>
                <a:latin typeface="Garamond"/>
              </a:rPr>
              <a:t>Индикативен бюджет за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SH</a:t>
            </a:r>
            <a:br>
              <a:rPr sz="3200"/>
            </a:br>
            <a:r>
              <a:rPr b="1" lang="bg-BG" sz="3200" spc="-1" strike="noStrike">
                <a:solidFill>
                  <a:srgbClr val="e5e5ff"/>
                </a:solidFill>
                <a:latin typeface="Garamond"/>
              </a:rPr>
              <a:t> 2010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P</a:t>
            </a:r>
            <a:r>
              <a:rPr b="1" lang="bg-BG" sz="3200" spc="-1" strike="noStrike">
                <a:solidFill>
                  <a:srgbClr val="e5e5ff"/>
                </a:solidFill>
                <a:latin typeface="Garamond"/>
              </a:rPr>
              <a:t> (в млн. евро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484280"/>
          <a:ext cx="8229600" cy="4498920"/>
        </p:xfrm>
        <a:graphic>
          <a:graphicData uri="http://schemas.openxmlformats.org/drawingml/2006/table">
            <a:tbl>
              <a:tblPr/>
              <a:tblGrid>
                <a:gridCol w="5194080"/>
                <a:gridCol w="30355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 FP7-SSH-2010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i="1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P7-SSH-2010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i="1" lang="bg-BG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P7-SSH-2010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l FP7-SSH-2010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и дей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руги дей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щ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6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0066"/>
                </a:solidFill>
                <a:latin typeface="Garamond"/>
              </a:rPr>
              <a:t>Call FP7-SSH-2010-1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Дата на публикуване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30 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юли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2009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Крайна дата</a:t>
            </a: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2 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февруари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2010 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7.00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 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Индикативен бюджет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40 млн. евр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Garamond"/>
              </a:rPr>
              <a:t>5 дейности, 5 области, 5 те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i="1" lang="bg-BG" sz="2800" spc="-1" strike="noStrike">
                <a:solidFill>
                  <a:srgbClr val="ffffff"/>
                </a:solidFill>
                <a:latin typeface="Garamond"/>
              </a:rPr>
              <a:t>Генералният директор може да отложи крайната дата с 2 месеца (до април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404640"/>
          <a:ext cx="8424720" cy="4803840"/>
        </p:xfrm>
        <a:graphic>
          <a:graphicData uri="http://schemas.openxmlformats.org/drawingml/2006/table">
            <a:tbl>
              <a:tblPr/>
              <a:tblGrid>
                <a:gridCol w="5040000"/>
                <a:gridCol w="33847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 8.1: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Растеж, заетост и конкурентоспособност в общество, базирано на знанието: Европейското състояние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Бюджет 8 млн. евр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1.2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уктурни промени в Европейската икономика и общество, базирани на знанието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1.2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мяна на ролята на финансовата система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 да служи по-добре за целите на икономиката, социалната сфера и опазването на околната сред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л на Областт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Развитие и подобрение на разбирането за социално-икономическите, демографски, пространствени и секторни динамики, които укрепват структурните промени в Европа и ролята на промените за растежа, заетостта и конкурентоспособност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404640"/>
          <a:ext cx="8424720" cy="5139000"/>
        </p:xfrm>
        <a:graphic>
          <a:graphicData uri="http://schemas.openxmlformats.org/drawingml/2006/table">
            <a:tbl>
              <a:tblPr/>
              <a:tblGrid>
                <a:gridCol w="5040000"/>
                <a:gridCol w="33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йност/Об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Дейност 8.2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Комбиниране на икономически и  социални цели и цели в областта на  околната среда в Европейски план: пътища за постигане на устойчиво развитие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Бюджет 8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8.2.1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ектории 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но-икономическото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SH.2010.2.1-1 Създаване и адаптиране на работните места в Европа в контекста на социо-екологическия преход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л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да се разбере как Европейски и други траектории на социално-икономическото развитие  успяват в комбинирането на целите, при какви условия се случва това и какви са техните възможности да посрещат нови предизвикателства и да си извадят поуки от прилагането на политиките. Също така да се изследват някои фундаментални проблеми, свързани с разбирането на това как се комбинират целите и как това въздейства върху европейските стратегии за устойчиво развитие, включително на ниво Европейски съю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Информационен ден, 24 ноември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09:44:06Z</dcterms:created>
  <dc:creator>Eli Kaneva</dc:creator>
  <dc:description/>
  <dc:language>en-US</dc:language>
  <cp:lastModifiedBy>miro</cp:lastModifiedBy>
  <dcterms:modified xsi:type="dcterms:W3CDTF">2009-11-24T05:23:29Z</dcterms:modified>
  <cp:revision>108</cp:revision>
  <dc:subject/>
  <dc:title>Какво е новото?</dc:title>
</cp:coreProperties>
</file>