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AC7E5-1939-479A-AD85-69B8319AB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4B21C-B90D-4CAC-A902-4BE7D63E0C5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223E7-F74B-43A6-B697-A57BB46FD15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43640-2B42-4EE6-9ECD-5C1A1E16080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92ED3-8533-4929-836D-D44F5510C44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23CD2-BF65-4422-9C8E-357D6242181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22094-C93B-40BB-9068-3465B91185A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F7B4E-1548-42D7-B48E-4B8709C15BF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FED30-5397-4E15-A40E-022C107C0A4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2FC23-CC7F-45FB-AD88-BC5274C3B35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1ADBE-440A-4216-9D39-FAC54C692DC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B62DF3-E7D3-4C7D-9185-D7ABFF00A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251C-CF08-45AD-815F-EDBB7EEFAFD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F770A8-02D9-48F0-AA81-0EAF0BE1D5B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4A24BD-6C2E-426A-BCBE-18E0E588D89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31DE52-B99C-4CEC-94F9-A56A11C3CA9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7E6CF9-4EC0-4870-A2DF-CB683E48840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53FFF3-CF3E-40BA-A19D-5B0A1277A7E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987589-B078-4193-8C15-BBEADE44FB2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184327-7FE9-47BD-B297-8D6682C7249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05FF22-8442-41B2-954A-A7424469F80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0177F8-B333-461A-99DA-A34A585B213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4D6DB2-4759-48F2-A16E-2BA5453FC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4B6B3-BEDC-44E0-AC4B-545870067D8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85B6DC-1942-4065-9049-4CF931D068B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68AC48-06CD-4986-9DE9-182F855490B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BBD498-F66C-4E8D-AF66-D8D15EACC0F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8282EE-6CA8-49C1-95E9-B96F887D919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E7C647-B293-4CFD-A2A1-5279856E4FF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58AD8D-E3A6-4D4C-BB51-C540918BF33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DF333D-8E87-41AA-BC43-124D610A2DD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C375FC-FE8A-48A0-94D4-FF4E518A6C3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7ADC2E-DE59-4F37-B113-93265BF27FE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213270-6184-4128-B32C-9BA35F92C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D9F83-8057-417A-8B5B-5710AB3F458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CC20F1-B2FB-4E9D-88F9-3459FD1FAEF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B779E1-C550-407D-8A7C-9451393919F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3D7DE1-6131-46B3-B6B3-5A6DEB91747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D6786-5164-469C-8260-2E6CB9D0626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7075B-B6FB-44E4-85F4-47FB4C49F41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1C330-5271-4144-AB91-B985B987D82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6768A-D081-4145-97B4-01EC7C49B75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E3344-970A-493C-A04F-0FF19EE4EE4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0D5BF-A44C-4C21-8517-8C414C85194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5156F-BF05-40AA-85A4-1D75B2D09C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B07C4-8B0D-454E-B613-C5DDCCC9B53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98D3F-031E-4A44-9EF9-47A549FF754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7764C-A64E-4679-A422-5785E846219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2A183-F422-49BD-B4BB-D3107215886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E84CF-D200-4F60-9040-075F1FC84F0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514DF-94EC-4A17-8FD9-2CA492BCB0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45F49-65C6-4237-96C5-12D404358D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F44E1-B216-4099-B52F-288F85CE09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255E2-8027-42D9-9AD2-247428E802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F3008-AEDC-4ECC-91DD-697195F5BF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3EDDF-247B-4CA7-B129-863DF73474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ECCB5-26DD-491B-B2A7-A291DFCBA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07376-7F3F-480E-8557-FC88CEF94C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5C51B-F56E-415C-AFD0-29EE30827E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4122F-9ED6-4520-925C-6F08F3E6E7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6BDF6-1C0D-47E3-9F73-AB9D1D4F36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49139-973B-4210-B5CE-A682863CC6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C2DA-4596-41AD-A82A-73C1D8F055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2669-B14C-4F9C-83FB-EACFD8CDFF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DA73-9C43-435C-871C-CDCB794D58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7190-30F2-433F-9460-5814D38EC5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2D61-DF6E-4C8C-B7D1-973E0296B4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39ED-2DC4-4878-8B02-433FD5E963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2930-5D5E-4C3C-9E78-CAC3F279AB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38B9-60B4-413A-BD52-14BA4C20EF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9F03-8157-41AE-8C8D-F4F0D33EAD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F033-E24B-4EA9-8580-F7AD69EFE6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3D10-F6C9-469E-9F2B-B34780B457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1D61-CF7E-444B-9EAF-E71D6EC614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EF5A-5655-40EF-8141-E1D14B33C0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86770-B6FC-44F5-9C7B-958AB6B1E5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7BC7F-4D7C-4BF1-8521-3C4DD0EF5A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6E2C6-9B28-43C4-BD52-15A3E4689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16FC5-E461-4CC5-8BCB-8B545190A3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C3EC8-A7C4-4A44-BF14-181291A1B0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8FEB7-1E49-432D-9EE8-F27E662975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D9EAC-C4CB-43D2-984A-982CD309AF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DF114-3B52-4CC0-9B95-4852B252D0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B5A71-BBBE-4778-8D88-662C684630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C64FF-ED33-4A31-AC06-0CCD2C4010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FFC7C-C454-4C89-8C16-C6DBED6520D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2B32D-A734-4DA4-813B-E4762F26C8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72ED5-8AED-43E6-81D3-398AC20B1B3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478546-643D-481D-9C0D-8A4C89CCC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495D9-B344-47C0-A592-3C1606B53E0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5DF76A-2AEB-4985-96F4-3DF708E126A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C25C13-D49C-46AC-A206-62B4959A56D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EF0DA0-3874-4CF2-AE6C-498E4AB64FA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68B894-09CC-4E84-9454-80FCF9C7E7F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4F5C0A-3C8D-45D4-AF38-C6FC9D7181D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AE3403-D1F5-4237-8FB8-D66710037CC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B01480-BC68-457A-8DE6-61046AEE48B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698298-8445-4992-8D79-D99FD0D6671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379B26-6BC1-46A3-9AAC-7B9BF79A263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DDE128-594F-44AE-9027-8D8C5179D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22CD-ED10-4170-A7DA-96D2FF749CE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85B45D-673D-4B04-B52C-609E34FC76E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DBDAA-B422-468E-92D6-779A0E413FD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88BCE-6D23-44B9-8AE9-26ECAAAC255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D397E-ACC8-4EE3-8400-3D9C71F30AC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1C649-208D-4411-9CED-0350E7EE9E1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69BD6-EEA5-4263-B7D7-73D4BB02367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D5F3F-1C80-4812-A4FA-C9E946C751F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A1AEF-119F-469C-873F-2E567AEAD10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830B0-A5DD-4AD4-A6B6-CDA957EA688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A38F6-258D-4AE4-B993-75BB21613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1192-1F7E-4352-BB87-9376465D8E2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1296C-DF7D-4FA1-A4AB-91FC46DC968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65B9E-CF57-4FCB-BB4B-DD3EF2AB424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E2DF0-A40B-4F96-9C3B-49B490D17AA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7AC96-1D0C-4037-9C0A-76E595B2402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608726-BFEB-4B46-8914-D97FCD1FA25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B2DDD-B3DA-400B-ADA5-9A6309B25C5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6AFE44-7761-4E78-A6CF-69EA2ACA5F8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2B3B1-EA4F-4F46-89B7-D6E27C08E41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5504C-D769-4AC4-9F09-CAC91F2BE92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A10305-5598-4BE3-BD08-EF030FF2E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8095D-B683-45FE-9932-DA0B9910A69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74A64-6B28-4EED-A08D-A636265D4D4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3D15E0-CD86-48A0-89FB-0BBD5340169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DF8777-726F-4267-8FD0-DFAF3AB36B1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7FA39-03A0-4C71-8BB0-3BCEAB50051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0E5642-41E2-454C-99FA-F172A82E563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049F83-F70A-40CC-BE8E-B2301848942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1F6A89-826A-4578-9F44-8B8B2C0EFF0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46C7CB-D9E6-41CA-BECD-00A727859A3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7DB4BA-A168-494E-AF3C-AC5CB4D24FA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4B0927-12E1-445A-99E5-A68B674B7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51BD3-5302-4EBA-AE7C-348E773DC39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11C243-5746-4419-A4EF-58D4A2AA285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33A47A-F0D6-4BDE-8950-C5674733F23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97266A-E652-4AEF-96FA-4788C6340A2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2CF37A-4A0A-4B90-A72D-7113DEDB610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9FAD8A-CA65-47E3-B8E0-05CAA4E0595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9755F2-5EA3-4155-AC2E-3D1F333993A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A0D6CB-741D-4242-B038-24C6ACF45F7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70F77-DC8A-48B8-85C0-DD13B8F85FD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8C2E6-FC95-4256-BF87-BDE06077D3D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DEFC6-076E-4316-B9F7-F04D2EFB7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14880" indent="-2214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7235CE70-C7A5-4EC5-AE22-A1235C4B4147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19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20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74F28267-D090-4BB2-9904-B2CA7801F417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2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4AB305EB-20B5-4AE7-A23B-8BD0B48A3F96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23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4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32BDD797-76F9-4931-86DD-73C8F5D35926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9BBA6822-66F9-44A9-AB1B-CD7EFD00B8DC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7DDA8D6A-BE88-4EB3-AA40-D136235AA325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045E843E-6050-4FDC-8037-74045E5B49A0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9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52E53C39-C127-4BB6-B41D-1286ED16353D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3055F742-4640-4701-84F5-4CA2A305233A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3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4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F4B85437-6805-452B-B11D-A3AF7B3FB25F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15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6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1E79ABEF-E2E3-44A8-BFE8-998081551AEB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17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18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5BB5AEA3-8F32-45FC-9A66-ACFC8F2FB70F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4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F753EE04-3702-4AAF-AD63-49313F61A5B9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5480" y="533160"/>
            <a:ext cx="8358120" cy="26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Verdana"/>
              </a:rPr>
              <a:t>Хоризонтални действия в 7РП. Синергии между 7РП,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1" lang="bg-BG" sz="3600" spc="-1" strike="noStrike">
                <a:solidFill>
                  <a:srgbClr val="000000"/>
                </a:solidFill>
                <a:latin typeface="Verdana"/>
              </a:rPr>
              <a:t> и структурните фондов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85800" y="3068280"/>
            <a:ext cx="763128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Мариета Поп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НКЛ по ИКТ/7РП</a:t>
            </a:r>
            <a:r>
              <a:rPr b="1" lang="en-GB" sz="2000" spc="-1" strike="noStrike">
                <a:solidFill>
                  <a:srgbClr val="808080"/>
                </a:solidFill>
                <a:latin typeface="Verdana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1041480" y="90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2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EE1686C7-A15E-4682-9C5D-1B7F829EF463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Хоризонтални дейности – международно сътрудничеств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57120" y="1699920"/>
            <a:ext cx="856944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Verdana"/>
              </a:rPr>
              <a:t>а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)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Verdana"/>
              </a:rPr>
              <a:t>Подкрепа на ИКТ изследователски резултати в развиващи се икономи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Засилване на дифузията и използване на място на ИКТ изследователските резулта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Тестване на решения съобразени с местните изискван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ИКТ за обществени услуги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напр. е-правителство, е-здравеопазване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…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Приложения, свързани с бизнеса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напр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e-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търгов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банкиране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Решения в подкрепа на устойчиви цели за развитие, особено за околната сре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Изграждане на мрежи между технологични разработчици с местни потребите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Verdana"/>
              </a:rPr>
              <a:t>Целеви страни/региони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096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Страни – кандидат-членки, Средиземно море и други развиващи се стра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Verdana"/>
              </a:rPr>
              <a:t>Call 6;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Verdana"/>
              </a:rPr>
              <a:t>Small or medium-scale focused research projects (STREP)/ SICA, 5 M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2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5310EAB2-E271-4123-A765-C56BF2556448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08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Хоризонтални дейности – международно сътрудничество </a:t>
            </a:r>
            <a:br>
              <a:rPr sz="2400"/>
            </a:br>
            <a:r>
              <a:rPr b="0" lang="bg-BG" sz="1600" spc="-1" strike="noStrike">
                <a:solidFill>
                  <a:srgbClr val="ff3300"/>
                </a:solidFill>
                <a:latin typeface="Verdana"/>
              </a:rPr>
              <a:t>Общо финансиране</a:t>
            </a:r>
            <a:r>
              <a:rPr b="0" lang="en-GB" sz="1600" spc="-1" strike="noStrike">
                <a:solidFill>
                  <a:srgbClr val="ff3300"/>
                </a:solidFill>
                <a:latin typeface="Verdana"/>
              </a:rPr>
              <a:t>: 12M€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b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) </a:t>
            </a:r>
            <a:r>
              <a:rPr b="0" lang="bg-BG" sz="2000" spc="-1" strike="noStrike" u="sng">
                <a:solidFill>
                  <a:srgbClr val="000000"/>
                </a:solidFill>
                <a:uFillTx/>
                <a:latin typeface="Verdana"/>
              </a:rPr>
              <a:t>Подкрепа на диалога за политиката на информационното общество и укрепване на международното сътрудни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Събития, анализ на ИКТ политики и изследователски приоритети в трети стра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Синергии с дейности, стартирали по други програми и от страните-член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Verdana"/>
              </a:rPr>
              <a:t>Целеви страни/регион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Ази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особено страните от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SEAN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и Индия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Латинска Америка и Афр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GB" sz="2000" spc="-1" strike="noStrike">
                <a:solidFill>
                  <a:srgbClr val="ff3300"/>
                </a:solidFill>
                <a:latin typeface="Verdana"/>
              </a:rPr>
              <a:t>3M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Големите индустриални стран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особено, но не изключително за САЩ, Канада, Австралия, Япония, Нова зеланди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GB" sz="2000" spc="-1" strike="noStrike">
                <a:solidFill>
                  <a:srgbClr val="ff3300"/>
                </a:solidFill>
                <a:latin typeface="Verdana"/>
              </a:rPr>
              <a:t>1M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ff3300"/>
                </a:solidFill>
                <a:uFillTx/>
                <a:latin typeface="Verdana"/>
              </a:rPr>
              <a:t>Конкурс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Verdana"/>
              </a:rPr>
              <a:t> 4; SA</a:t>
            </a:r>
            <a:r>
              <a:rPr b="0" lang="bg-BG" sz="1800" spc="-1" strike="noStrike" u="sng">
                <a:solidFill>
                  <a:srgbClr val="ff3300"/>
                </a:solidFill>
                <a:uFillTx/>
                <a:latin typeface="Verdana"/>
              </a:rPr>
              <a:t>,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Verdana"/>
              </a:rPr>
              <a:t> 4 M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2"/>
          <p:cNvSpPr/>
          <p:nvPr/>
        </p:nvSpPr>
        <p:spPr>
          <a:xfrm>
            <a:off x="655308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D386883F-C5D1-4228-88F5-E0588EB4C5CE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38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Хоризонтални дейности – международно сътрудничеств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24000" y="1499760"/>
            <a:ext cx="8820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c) </a:t>
            </a:r>
            <a:r>
              <a:rPr b="0" lang="bg-BG" sz="2000" spc="-1" strike="noStrike" u="sng">
                <a:solidFill>
                  <a:srgbClr val="000000"/>
                </a:solidFill>
                <a:uFillTx/>
                <a:latin typeface="Verdana"/>
              </a:rPr>
              <a:t>Идентифициране на стратегически  партньори и разработване на целите и приоритетите на международния пазар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Разширяване на Европейските технологични и иновационни пътни карти към ключови партньори в трети стран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bg-BG" sz="2000" spc="-1" strike="noStrike" u="sng">
                <a:solidFill>
                  <a:srgbClr val="000000"/>
                </a:solidFill>
                <a:uFillTx/>
                <a:latin typeface="Verdana"/>
              </a:rPr>
              <a:t>особено за области от Бъдещ интернет и ИКТ компоненти и сист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Идентифициране на центрове за компетентнос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Семинар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Обмен на добри практ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Сравнителни изследв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Verdana"/>
              </a:rPr>
              <a:t>Целеви страни/регион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Бързо развиващи се икономик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Латинска Аме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ff3300"/>
                </a:solidFill>
                <a:uFillTx/>
                <a:latin typeface="Verdana"/>
              </a:rPr>
              <a:t>Конкурс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Verdana"/>
              </a:rPr>
              <a:t> 4; SA</a:t>
            </a:r>
            <a:r>
              <a:rPr b="0" lang="bg-BG" sz="1800" spc="-1" strike="noStrike" u="sng">
                <a:solidFill>
                  <a:srgbClr val="ff3300"/>
                </a:solidFill>
                <a:uFillTx/>
                <a:latin typeface="Verdana"/>
              </a:rPr>
              <a:t>,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Verdana"/>
              </a:rPr>
              <a:t> </a:t>
            </a:r>
            <a:r>
              <a:rPr b="0" lang="bg-BG" sz="1800" spc="-1" strike="noStrike" u="sng">
                <a:solidFill>
                  <a:srgbClr val="ff3300"/>
                </a:solidFill>
                <a:uFillTx/>
                <a:latin typeface="Verdana"/>
              </a:rPr>
              <a:t>3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Verdana"/>
              </a:rPr>
              <a:t> M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8:26:31Z</dcterms:created>
  <dc:creator>Michael Arentoft</dc:creator>
  <dc:description/>
  <dc:language>en-US</dc:language>
  <cp:lastModifiedBy>Owner</cp:lastModifiedBy>
  <dcterms:modified xsi:type="dcterms:W3CDTF">2009-11-22T18:30:49Z</dcterms:modified>
  <cp:revision>325</cp:revision>
  <dc:subject/>
  <dc:title>FP7 ICT WP 2007</dc:title>
</cp:coreProperties>
</file>