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7B4-ED3E-4ADD-A5C2-E361791B83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3E5F-4B38-4E6A-A6A3-6B308313E7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0AC6-B7EC-4B64-8D98-9F4C5B87A6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00D1-91B9-419D-BB04-22DB009A69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7428-619A-494F-A4F9-368FFBD322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5D0F-65AD-4490-BF9E-E25D0DFFC8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A0A2-96EE-49F3-AB9B-EAAA1DA91D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7964-5B73-407E-A6E7-A18936D67C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C9D5-00A2-4B6C-A46F-3A3BE95B9E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039C-01E5-4B66-B660-2CA0508591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D5B-F30F-4227-9EF9-C201FA0B0D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75E3-B5D5-43AA-A0F9-5D80E9614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8A52-23DE-4C2E-84DD-534CF0F4B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A50D-1E12-4B97-85D9-D6E89717E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772F-4C7A-4A77-AC4E-4C7FA11FAB0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B40C4-15CD-4092-B9F5-EE9D0B5038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B434A-BD28-4D5E-9255-5A41DEA0D18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FCBA-CA9E-440C-B94A-D27804C1757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3D01-5692-4552-9572-14F084012E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FC705-E71F-4D1C-B4F7-08ACA7FCC7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13FD3-3083-4483-B0B9-7F2A187331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E5D85-554C-4A81-805A-CB52952EC7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B803E-2D6F-4112-812B-1E12CE9073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E28F4-84E8-499C-ADD5-B90EBEC0BE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2C91A-FF5F-4783-80AB-7AC3026F5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6A7A-4676-40CF-A0E1-9F81ADE88C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E938B-65BB-4196-B596-E497EC956B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E4FCF-3F3A-4C3C-BB35-DF26C913378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B1E02-E7E0-4880-A3F0-2EA0B3DE79A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F1978-240F-4E30-B11E-9367471D9D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F879FA-88C0-45BA-A295-4AE28120187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E214E-313D-419D-8899-5768BA5F20B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E2ED4-6AEC-4330-8BC5-C9BF11D3D9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6E091-CBBF-4346-B59D-858D51AA808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4B984-C98A-4109-BAF9-ADBB116E1F4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BFA3E-44B8-4838-9478-04F6D60AF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1EB9-802C-4E41-BF46-712AE1E8A22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B6B8C-B3E1-4AB5-8326-9C38F8DACD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177436-5F99-468E-B820-6D959E54F2B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19976-62BE-4B16-B288-98B93D7C34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FD13D9-6FCF-4F66-9CEC-096717F79B2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6AE76E-5581-4A20-9C7A-E2D94AB8E33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8A1E8-D6BE-4B33-8FD9-F024732BD5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990ECF-3EE6-42EA-9D58-4CB52E3F6E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7C2863-E1DE-49ED-BB26-95FCC8CC01F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00EAAC-C47B-44BD-9A29-D1CEC813A3D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E700B8-0AB7-4CFE-8477-090AB148F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DB7F1-1F6C-4BB8-9178-724BC5BEAD3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33BA8A-05AA-4465-9B24-A3A4F8607F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2D86B0-8432-40FF-8FE4-CFEBC959A3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5C8F38-2481-4ECF-91F8-C90FE66E3D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C77B4-D1A5-41E8-9C87-04262555DA7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8483F-78B2-44EB-8D8D-7618553544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8278C-D029-4875-9054-F15B82CB06E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B534-D0FB-439E-B179-47C51F4221B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62E04-A39E-4195-B432-CFBB8E8E5FB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86445-8A54-4FC2-9C1B-6A4C41B058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CEDC8-A4E9-4843-97B2-17BF3CBF3B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C6A14-F4F4-43EE-9F05-14BD3AA9777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13935-B8EC-4D65-A194-ECE52141DF4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C15CD-03F5-474B-87E9-DA72C44988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4AA0-9992-416E-A3D7-09F872F3DD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B6AD6-8B81-42BC-9C65-DE73430E699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50150-22FF-4AE9-A76F-54C0DC8586F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35504B-D395-4872-AB21-749A9146335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EAB420-982B-4970-9999-0615FD080C7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6FF14D-A6CC-4547-B148-EB8DFA770F7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36114-00B8-4C1A-AD24-AFEFEEEA9C3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217632-28E9-4C7F-9F6B-7153222AB8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59AD5-8C49-4D71-A13A-6AF813B31A1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CFAF70-12A8-4E99-871F-FC6FBF3AD57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DCC3F0-BD53-4AEC-A6BA-485E9D03BD2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A989B1-937A-488F-9867-78502E4EB8E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56716A-F9D1-42CF-AD57-C75B78C7EB1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73F36-480A-4433-8912-04397B21CF4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4A5379-EDF7-4B29-BFE0-FDD4B3AC05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87B52E-5846-4EC2-B4E8-047896D68E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087FC-C8EB-45B7-934E-738C5FF767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CDD9C-66BB-41C1-B2E2-021E33F489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F4069-5E24-43EB-BE28-1991F622D5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D95E7-A16F-49F1-88DC-FCC5075941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F2E7-23D0-4339-B4EA-63509DC0C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19B19-CD34-491C-841B-685F1E5AA7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9C1B9-02C6-426C-90C8-69A7535A9D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B7554-04B8-4CE1-A477-B793C05D87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9449A-A12B-47A5-8409-A6BA6D667A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68BC8-90AA-4B9E-80C5-FF1809A4C0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B7D8-2DC0-4356-B0BD-244EE9C1AD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8795-8267-4B2F-BED5-74231BBE2D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E441-ED8D-4DC5-9B47-20ADA0D5E9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ECDD-D88D-429A-815D-B21D1C801A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B0D1-5284-4DE5-9657-8530BBA5B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F020-F306-45C7-A1B1-C123DB4B43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48BC-3092-4AF7-801F-5CD6ACE787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61D4-07DC-49C6-B590-AF5D8F9E5A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F64C-71B6-4D00-AA19-0ECB5C5D20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4B51-53EC-40D6-89BB-98457084C7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996E-0A9B-4E63-87CB-0BEF9399C3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2311-04A5-472D-A5A4-21F0B99148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856B-03CA-4642-AD20-E218D527CF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DC03C-6517-4903-ACCE-3BBDACDA82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F056E-63A6-4754-8AD4-4894F40BD4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6C0E6-5FE9-4F3C-A353-82F1CD4EA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2606-362B-43B4-B163-F3D65FBB86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37B8A-3F8F-4024-B7A0-8990C2AC72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F75A6-8CE3-4A7B-8F96-2CFBF3C201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297E1-2A6E-4E37-944E-082629B5AE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3221D-5C3A-4B46-8EA4-0A9E1FC34B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B4E25-01ED-4120-A948-7FBA64722C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95FDA-AEF7-4F3B-AA67-31CB75100E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C6264-EF91-42A0-98A2-3493515681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409B4-F2E2-4A02-BAEC-3631DC6A3F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F9718-A808-475F-8582-EFC8210029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AA020-0FB4-469A-B8FD-118D2FB3C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EB5E-3E13-404C-A759-6F84A1681B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1AA45-7FF4-43DF-B118-6ADAA3F5F90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5A1864-A120-442E-BE53-64BCC387A4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46B3A-1D3E-4561-B245-63934D2013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EAD5F-EC18-4EC2-ACF1-D3848617AB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20348-7D49-46AF-8E50-512973CC3F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E640A-6A0F-4331-8316-AD15081388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E3FF4-B59B-488E-8267-4F22D2D045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77FF8-9C48-4C3E-B388-28F3E75BFB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D53A0-EC5C-462F-BA6E-278BB25DC26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EE87C-12EC-495C-B026-53178FE45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76CC0-F030-4253-BBE1-C39DBB7D845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94103-BB69-4873-BE7A-1EFCD09569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D05D-D6C6-4CB0-9C76-400F9694A3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FCB0-37AC-4DD9-966E-CF4049A8FE2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CFE7-8C4B-414C-A216-E1EC1011E1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5ADB-75B1-4EE4-A863-55AD4B329D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218A-DAA8-43D8-94EC-31F29AAACCF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BB55-69AA-4FE9-8E94-F93EF698B9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8B43-D321-49C2-AC2A-48E3C0299A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44B7-03E1-46EB-978B-3F86B7316AB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AF9E-B755-40EB-B1B7-060B39053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BB99-74D5-423D-A982-A5977E1FB3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D9E5-4F18-4038-9339-159D507B02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4C96-357E-4B4E-B613-861B211BA00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D590-DB91-4BA0-ABBD-1ED692295E4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74FD7-5E40-4A2C-A473-F514A79B37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AEB5F-088E-4409-993C-0B5CB9DA1C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E98F0-9558-4AA3-B9F2-B30F98874DF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4C2C9-B475-4595-96AF-7BD67E62FB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CB83D-C8BB-43F5-951A-1206897176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907C1-2B34-457C-A8E3-5F2DFC2C4DA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8203C-A648-49EE-A77E-C2EFABB01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1E30-7DC4-4E73-B4E3-E9AA4558A8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E0969-EB08-4114-BDAF-093B3F7C91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1352F-5C28-446D-B534-3DF25BD139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E3158-FA66-4B8C-90B6-3243B9C17C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283EA-C1C2-4351-9D58-3B3B4D4446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08BE0-D2A9-4016-9364-ABE5092D71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14FD4-0D10-426E-9428-C2F84CBEB80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B2002-4D87-4C63-89C1-800D03CD74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748047-AA88-45F3-A14D-6686097DA3E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5A7AA-FC0D-4FE8-89E2-359DC598E8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07086A-D270-4AEC-B0A2-860E7B7E3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AA3D-094A-47B4-AD74-73B01BD510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A77249-4271-4329-A116-02A2A577BE2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1A08C-55EC-430E-8F44-39D75CC85F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904B4-A170-4535-A45A-DD3EB85064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E5ED9-C45E-4C9E-8C05-12055A7EA82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1BAC1-6C88-44B5-AEAA-B6DD12F0D0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38006B-1343-46CF-AAC2-7AC8E5E11A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A088C5-7E68-49C1-B0B3-952B9F35220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6F93-A366-4493-B385-A33010DBB4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587AA-2BC7-4455-89AB-5CE01495C5B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C3624-EAFE-4CB2-BAF9-314F21F7B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C29E2286-052F-471D-B6AA-8E41434CBCAC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1CBDB95C-4586-4AD7-8518-25987F88DC1D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F70DC88-1D83-4722-87E4-12C15E0C9E87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F9576E7E-9F3C-4F19-9D56-0BB33577C82A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7F981EA7-4213-41CC-BF28-689DC4135B4E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112648B9-DD35-4EB4-9053-642FB4D5BB15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8CD18A30-850C-4AF2-BA16-68BBD413481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40C259F3-7B7D-4BF9-94E0-0714ECDBEAEB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F27B1261-AE18-4E9B-B674-6C5365D1AA53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EAD790D0-8C85-451F-9C26-1EECD740CCCF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3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6F3BAA09-5F75-4188-A25B-519524D57F79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5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9B9522E3-68FE-4838-86A2-5D59E1E4D099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FP7-gen-RGB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072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4112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3B27DE51-E9F8-4474-9727-C877B9E69847}" type="slidenum">
              <a:rPr b="1" lang="fr-FR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c.europa.eu/information_society/ehealth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rophysiome.org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jpeg"/><Relationship Id="rId14" Type="http://schemas.openxmlformats.org/officeDocument/2006/relationships/hyperlink" Target="http://hamam-project.org/cms/website.php" TargetMode="External"/><Relationship Id="rId15" Type="http://schemas.openxmlformats.org/officeDocument/2006/relationships/image" Target="../media/image23.png"/><Relationship Id="rId16" Type="http://schemas.openxmlformats.org/officeDocument/2006/relationships/hyperlink" Target="http://www.euheart.eu/" TargetMode="External"/><Relationship Id="rId17" Type="http://schemas.openxmlformats.org/officeDocument/2006/relationships/hyperlink" Target="http://www.euheart.eu/" TargetMode="External"/><Relationship Id="rId18" Type="http://schemas.openxmlformats.org/officeDocument/2006/relationships/image" Target="../media/image24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85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12360" y="4581360"/>
            <a:ext cx="770436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Verdana"/>
              </a:rPr>
              <a:t>Мариета Попо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Verdana"/>
              </a:rPr>
              <a:t>НКЛ ИКТ/7РП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Конкурс 6</a:t>
            </a:r>
            <a:br>
              <a:rPr sz="2800"/>
            </a:b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Стратегическа це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5.3: </a:t>
            </a:r>
            <a:br>
              <a:rPr sz="2800"/>
            </a:br>
            <a:br>
              <a:rPr sz="16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Виртуален физиологичен човек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”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1341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5.3 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  Конкурс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195560"/>
            <a:ext cx="885816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ИКТ средства, услуги и инфраструктури за биомедицинските изследователи в подкрепа на поне 2 от 3 дей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1. Обмен на данни и зн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2. Съвместна разработка и обмен на модели/симулатор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3. Създаване на среда за сътрудни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За проекти от 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P/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Бюджет : 61 млн 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Минимум 30% з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P;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повече от  50% з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P –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поне един от 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и един от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46040" y="-6480"/>
            <a:ext cx="713448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5.3 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  Конкурс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34440" y="999720"/>
            <a:ext cx="82537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c)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Оценка на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VPH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проекти за оптимално използване и принос къ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Споделени средства/инфра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Клинични постиж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Пазарен потенц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1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струмент/бюджет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SA 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максимално финансиране от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1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1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d)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Наблюдение на постиженията в по-широки мащаби, вкл. биоинформатика, медицинска информатика и невро-информати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Засилване на комуникацията между проекти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Разпространение и обу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Надграждане на съответните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No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1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струммент/бюджет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CSA 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максимално финансиране от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1M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0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52208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Контактни лиц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84945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G Information Society and Medi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it “ICT for Health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information_society/ehealth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irtual Physiological Human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Joël Bacquet (joel.bacquet@ec.europa.e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Karin Johansson (karin.johansson1@ec.europa.e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malia Vlad (amalia-irina.vlad@ec.europa.e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Стратегически изследователски насоки в Предизвикателство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7640" y="1872720"/>
            <a:ext cx="7885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Общо</a:t>
            </a: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 € 340 M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за </a:t>
            </a: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години</a:t>
            </a: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 (2007-201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Персонализиране на здравеопазванет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Лични здравни систе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72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7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€ 63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Безопасност на пациента – избягване на медицински грешки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30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7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€ 30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Предсказваща медицин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Виртуален физиологичен човек (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Virtual Physiological Human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VPH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Моделиране/симулация на човешката физиология и заболяван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72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7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€ 5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09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€ 63 M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2010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268360" y="1916280"/>
            <a:ext cx="655164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Виртуалният физиологичен човек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е методологична и технологична рамка, която след като бъде създадена, ще позволи изследванията на човешкото тяло като единна комплексна систем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Един от първите 12 проекта в 6РП -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VPH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 изследователска пътна карта, разработена по проект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EP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200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europhysiome.org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2700360" y="5013360"/>
            <a:ext cx="561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Персонализирани здравни реш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Ранна диагностик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предсказваща медици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Разбиране на заболяванията чрез няколко биологични нива (за първи пъ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4"/>
          <p:cNvGrpSpPr/>
          <p:nvPr/>
        </p:nvGrpSpPr>
        <p:grpSpPr>
          <a:xfrm>
            <a:off x="0" y="1773360"/>
            <a:ext cx="2761920" cy="4322160"/>
            <a:chOff x="0" y="1773360"/>
            <a:chExt cx="2761920" cy="4322160"/>
          </a:xfrm>
        </p:grpSpPr>
        <p:pic>
          <p:nvPicPr>
            <p:cNvPr id="548" name="Picture 5" descr="fg058_1_1"/>
            <p:cNvPicPr/>
            <p:nvPr/>
          </p:nvPicPr>
          <p:blipFill>
            <a:blip r:embed="rId2"/>
            <a:srcRect l="13964" t="0" r="13964" b="0"/>
            <a:stretch/>
          </p:blipFill>
          <p:spPr>
            <a:xfrm>
              <a:off x="1149840" y="1773360"/>
              <a:ext cx="1612080" cy="35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6" descr="circulationgeneral"/>
            <p:cNvPicPr/>
            <p:nvPr/>
          </p:nvPicPr>
          <p:blipFill>
            <a:blip r:embed="rId3"/>
            <a:stretch/>
          </p:blipFill>
          <p:spPr>
            <a:xfrm>
              <a:off x="842760" y="2178360"/>
              <a:ext cx="1652400" cy="35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7" descr="Digest3"/>
            <p:cNvPicPr/>
            <p:nvPr/>
          </p:nvPicPr>
          <p:blipFill>
            <a:blip r:embed="rId4"/>
            <a:stretch/>
          </p:blipFill>
          <p:spPr>
            <a:xfrm>
              <a:off x="394920" y="2583720"/>
              <a:ext cx="1524240" cy="26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8" descr="JK324"/>
            <p:cNvPicPr/>
            <p:nvPr/>
          </p:nvPicPr>
          <p:blipFill>
            <a:blip r:embed="rId5"/>
            <a:stretch/>
          </p:blipFill>
          <p:spPr>
            <a:xfrm>
              <a:off x="0" y="3056400"/>
              <a:ext cx="1404360" cy="303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Rectangle 9"/>
          <p:cNvSpPr/>
          <p:nvPr/>
        </p:nvSpPr>
        <p:spPr>
          <a:xfrm>
            <a:off x="1042920" y="10519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На базата на международния проект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hysi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-181080" y="620640"/>
            <a:ext cx="93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Концепция за виртуален физиологичен ч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2700360" y="1700280"/>
            <a:ext cx="609120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Компютърна рамка за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-silico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модел(и) на човешката физиология на различни нива и етапи и средства за симулиране и визуализация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Специфичен модел на пациент, използвайки данни като например биосигнали и образи (вкл. Молекулярни изображе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зползвани технологии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Биомедицинско моделиране, техники за симулация и визуализация; изображения;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ata mining,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семантична интеграция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банки от данни;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HealthGrid (</a:t>
            </a: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фраструктура и средств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468360" y="62064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от ИКТ преспект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healthgrid"/>
          <p:cNvPicPr/>
          <p:nvPr/>
        </p:nvPicPr>
        <p:blipFill>
          <a:blip r:embed="rId1"/>
          <a:stretch/>
        </p:blipFill>
        <p:spPr>
          <a:xfrm>
            <a:off x="0" y="2205000"/>
            <a:ext cx="320184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7236000" y="2133720"/>
            <a:ext cx="1728720" cy="39592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9"/>
          <p:cNvSpPr/>
          <p:nvPr/>
        </p:nvSpPr>
        <p:spPr>
          <a:xfrm rot="6731400">
            <a:off x="6356880" y="1788120"/>
            <a:ext cx="1109880" cy="1511280"/>
          </a:xfrm>
          <a:custGeom>
            <a:avLst/>
            <a:gdLst>
              <a:gd name="textAreaLeft" fmla="*/ 0 w 1109880"/>
              <a:gd name="textAreaRight" fmla="*/ 1110240 w 110988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426" h="765">
                <a:moveTo>
                  <a:pt x="0" y="0"/>
                </a:moveTo>
                <a:cubicBezTo>
                  <a:pt x="89" y="16"/>
                  <a:pt x="361" y="45"/>
                  <a:pt x="534" y="98"/>
                </a:cubicBezTo>
                <a:cubicBezTo>
                  <a:pt x="707" y="151"/>
                  <a:pt x="910" y="235"/>
                  <a:pt x="1039" y="316"/>
                </a:cubicBezTo>
                <a:cubicBezTo>
                  <a:pt x="1168" y="397"/>
                  <a:pt x="1241" y="508"/>
                  <a:pt x="1306" y="583"/>
                </a:cubicBezTo>
                <a:cubicBezTo>
                  <a:pt x="1371" y="658"/>
                  <a:pt x="1401" y="727"/>
                  <a:pt x="1426" y="765"/>
                </a:cubicBezTo>
              </a:path>
            </a:pathLst>
          </a:custGeom>
          <a:noFill/>
          <a:ln w="22860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2"/>
          <p:cNvSpPr/>
          <p:nvPr/>
        </p:nvSpPr>
        <p:spPr>
          <a:xfrm>
            <a:off x="1979640" y="1557360"/>
            <a:ext cx="4680000" cy="71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76360" y="151920"/>
            <a:ext cx="61214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: 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схематична карт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08000" y="2276640"/>
            <a:ext cx="1962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Знан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За биологични и физиоло-гични пътеки, процеси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7" descr="j0235319"/>
          <p:cNvPicPr/>
          <p:nvPr/>
        </p:nvPicPr>
        <p:blipFill>
          <a:blip r:embed="rId1"/>
          <a:stretch/>
        </p:blipFill>
        <p:spPr>
          <a:xfrm>
            <a:off x="7380360" y="2781360"/>
            <a:ext cx="1409760" cy="14396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 rot="6731400">
            <a:off x="6285240" y="4596120"/>
            <a:ext cx="1109880" cy="1511640"/>
          </a:xfrm>
          <a:custGeom>
            <a:avLst/>
            <a:gdLst>
              <a:gd name="textAreaLeft" fmla="*/ 0 w 1109880"/>
              <a:gd name="textAreaRight" fmla="*/ 1110240 w 1109880"/>
              <a:gd name="textAreaTop" fmla="*/ 0 h 1511640"/>
              <a:gd name="textAreaBottom" fmla="*/ 1512000 h 1511640"/>
            </a:gdLst>
            <a:ahLst/>
            <a:rect l="textAreaLeft" t="textAreaTop" r="textAreaRight" b="textAreaBottom"/>
            <a:pathLst>
              <a:path w="1426" h="765">
                <a:moveTo>
                  <a:pt x="0" y="0"/>
                </a:moveTo>
                <a:cubicBezTo>
                  <a:pt x="89" y="16"/>
                  <a:pt x="361" y="45"/>
                  <a:pt x="534" y="98"/>
                </a:cubicBezTo>
                <a:cubicBezTo>
                  <a:pt x="707" y="151"/>
                  <a:pt x="910" y="235"/>
                  <a:pt x="1039" y="316"/>
                </a:cubicBezTo>
                <a:cubicBezTo>
                  <a:pt x="1168" y="397"/>
                  <a:pt x="1241" y="508"/>
                  <a:pt x="1306" y="583"/>
                </a:cubicBezTo>
                <a:cubicBezTo>
                  <a:pt x="1371" y="658"/>
                  <a:pt x="1401" y="727"/>
                  <a:pt x="1426" y="765"/>
                </a:cubicBezTo>
              </a:path>
            </a:pathLst>
          </a:custGeom>
          <a:noFill/>
          <a:ln w="22860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4920" y="2276640"/>
            <a:ext cx="2016000" cy="1657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2195640" y="2276640"/>
            <a:ext cx="1584360" cy="36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2268360" y="166356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Компютърни ресур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2340000" y="3500280"/>
            <a:ext cx="12240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Verdana"/>
              </a:rPr>
              <a:t>Достъп до дан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Verdana"/>
              </a:rPr>
              <a:t>Обработка на дан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AutoShape 13"/>
          <p:cNvCxnSpPr>
            <a:stCxn id="569" idx="3"/>
          </p:cNvCxnSpPr>
          <p:nvPr/>
        </p:nvCxnSpPr>
        <p:spPr>
          <a:xfrm flipH="1">
            <a:off x="5317560" y="4076640"/>
            <a:ext cx="1154520" cy="2402640"/>
          </a:xfrm>
          <a:prstGeom prst="bentConnector4">
            <a:avLst>
              <a:gd name="adj1" fmla="val -124204"/>
              <a:gd name="adj2" fmla="val 158084"/>
            </a:avLst>
          </a:prstGeom>
          <a:ln w="0">
            <a:noFill/>
          </a:ln>
        </p:spPr>
      </p:cxnSp>
      <p:grpSp>
        <p:nvGrpSpPr>
          <p:cNvPr id="570" name="Group 14"/>
          <p:cNvGrpSpPr/>
          <p:nvPr/>
        </p:nvGrpSpPr>
        <p:grpSpPr>
          <a:xfrm>
            <a:off x="3780000" y="2276640"/>
            <a:ext cx="2663640" cy="3600360"/>
            <a:chOff x="3780000" y="2276640"/>
            <a:chExt cx="2663640" cy="3600360"/>
          </a:xfrm>
        </p:grpSpPr>
        <p:sp>
          <p:nvSpPr>
            <p:cNvPr id="569" name="Rectangle 15"/>
            <p:cNvSpPr/>
            <p:nvPr/>
          </p:nvSpPr>
          <p:spPr>
            <a:xfrm>
              <a:off x="3780000" y="2276640"/>
              <a:ext cx="2663640" cy="360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4387320" y="2327400"/>
              <a:ext cx="153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000000"/>
                  </a:solidFill>
                  <a:latin typeface="Verdana"/>
                </a:rPr>
                <a:t>Моделиран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259160" y="4941720"/>
              <a:ext cx="1733040" cy="863640"/>
            </a:xfrm>
            <a:prstGeom prst="ellipse">
              <a:avLst/>
            </a:prstGeom>
            <a:noFill/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8"/>
            <p:cNvSpPr/>
            <p:nvPr/>
          </p:nvSpPr>
          <p:spPr>
            <a:xfrm>
              <a:off x="3922560" y="2782800"/>
              <a:ext cx="230472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buClr>
                  <a:srgbClr val="000000"/>
                </a:buClr>
                <a:buFont typeface="Arial"/>
                <a:buChar char=" 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Създаване и/или усъвършенстване на различни времеви и пространствени разрез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19"/>
            <p:cNvSpPr/>
            <p:nvPr/>
          </p:nvSpPr>
          <p:spPr>
            <a:xfrm>
              <a:off x="4330440" y="4076640"/>
              <a:ext cx="1582560" cy="64764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20"/>
            <p:cNvSpPr/>
            <p:nvPr/>
          </p:nvSpPr>
          <p:spPr>
            <a:xfrm>
              <a:off x="4402080" y="4116240"/>
              <a:ext cx="14774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buClr>
                  <a:srgbClr val="000000"/>
                </a:buClr>
                <a:buFont typeface="Arial"/>
                <a:buChar char=" 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bg-BG" sz="1600" spc="-1" strike="noStrike">
                  <a:solidFill>
                    <a:srgbClr val="000000"/>
                  </a:solidFill>
                  <a:latin typeface="Arial"/>
                </a:rPr>
                <a:t>Интегриране на моделит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21"/>
            <p:cNvSpPr/>
            <p:nvPr/>
          </p:nvSpPr>
          <p:spPr>
            <a:xfrm>
              <a:off x="3851280" y="2708280"/>
              <a:ext cx="2520360" cy="1081080"/>
            </a:xfrm>
            <a:prstGeom prst="ellipse">
              <a:avLst/>
            </a:prstGeom>
            <a:noFill/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2"/>
            <p:cNvSpPr/>
            <p:nvPr/>
          </p:nvSpPr>
          <p:spPr>
            <a:xfrm>
              <a:off x="5148000" y="3787920"/>
              <a:ext cx="0" cy="28872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3"/>
            <p:cNvSpPr/>
            <p:nvPr/>
          </p:nvSpPr>
          <p:spPr>
            <a:xfrm>
              <a:off x="5148000" y="4726080"/>
              <a:ext cx="0" cy="21564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4"/>
            <p:cNvSpPr/>
            <p:nvPr/>
          </p:nvSpPr>
          <p:spPr>
            <a:xfrm>
              <a:off x="4546440" y="5033880"/>
              <a:ext cx="122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buClr>
                  <a:srgbClr val="000000"/>
                </a:buClr>
                <a:buFont typeface="Arial"/>
                <a:buChar char=" 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Верифи-кация на моделит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0" name="AutoShape 25"/>
            <p:cNvCxnSpPr>
              <a:stCxn id="572" idx="7"/>
            </p:cNvCxnSpPr>
            <p:nvPr/>
          </p:nvCxnSpPr>
          <p:spPr>
            <a:xfrm flipH="1" flipV="1" rot="5400000">
              <a:off x="5207760" y="4030200"/>
              <a:ext cx="1550160" cy="489240"/>
            </a:xfrm>
            <a:prstGeom prst="bentConnector3">
              <a:avLst>
                <a:gd name="adj1" fmla="val -603"/>
              </a:avLst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</p:cxnSp>
      </p:grpSp>
      <p:sp>
        <p:nvSpPr>
          <p:cNvPr id="581" name="Text Box 26"/>
          <p:cNvSpPr/>
          <p:nvPr/>
        </p:nvSpPr>
        <p:spPr>
          <a:xfrm>
            <a:off x="7236000" y="2421000"/>
            <a:ext cx="172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дравни служ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ол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7"/>
          <p:cNvSpPr/>
          <p:nvPr/>
        </p:nvSpPr>
        <p:spPr>
          <a:xfrm>
            <a:off x="108000" y="4148280"/>
            <a:ext cx="1962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ff"/>
                </a:solidFill>
                <a:latin typeface="Verdana"/>
              </a:rPr>
              <a:t>Паци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Специфични дан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изобра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клинич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8"/>
          <p:cNvSpPr/>
          <p:nvPr/>
        </p:nvSpPr>
        <p:spPr>
          <a:xfrm>
            <a:off x="34920" y="4149720"/>
            <a:ext cx="2016000" cy="1800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29"/>
          <p:cNvSpPr/>
          <p:nvPr/>
        </p:nvSpPr>
        <p:spPr>
          <a:xfrm rot="20246400">
            <a:off x="1763640" y="2781360"/>
            <a:ext cx="936720" cy="647640"/>
          </a:xfrm>
          <a:custGeom>
            <a:avLst/>
            <a:gdLst>
              <a:gd name="textAreaLeft" fmla="*/ 0 w 936720"/>
              <a:gd name="textAreaRight" fmla="*/ 937080 w 936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426" h="765">
                <a:moveTo>
                  <a:pt x="0" y="0"/>
                </a:moveTo>
                <a:cubicBezTo>
                  <a:pt x="89" y="16"/>
                  <a:pt x="361" y="45"/>
                  <a:pt x="534" y="98"/>
                </a:cubicBezTo>
                <a:cubicBezTo>
                  <a:pt x="707" y="151"/>
                  <a:pt x="910" y="235"/>
                  <a:pt x="1039" y="316"/>
                </a:cubicBezTo>
                <a:cubicBezTo>
                  <a:pt x="1168" y="397"/>
                  <a:pt x="1241" y="508"/>
                  <a:pt x="1306" y="583"/>
                </a:cubicBezTo>
                <a:cubicBezTo>
                  <a:pt x="1371" y="658"/>
                  <a:pt x="1401" y="727"/>
                  <a:pt x="1426" y="765"/>
                </a:cubicBezTo>
              </a:path>
            </a:pathLst>
          </a:custGeom>
          <a:noFill/>
          <a:ln w="228600">
            <a:solidFill>
              <a:srgbClr val="0099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0"/>
          <p:cNvSpPr/>
          <p:nvPr/>
        </p:nvSpPr>
        <p:spPr>
          <a:xfrm>
            <a:off x="2202840" y="22766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на данни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31"/>
          <p:cNvSpPr/>
          <p:nvPr/>
        </p:nvSpPr>
        <p:spPr>
          <a:xfrm>
            <a:off x="3203640" y="4005360"/>
            <a:ext cx="1152360" cy="0"/>
          </a:xfrm>
          <a:prstGeom prst="line">
            <a:avLst/>
          </a:prstGeom>
          <a:ln w="228600">
            <a:solidFill>
              <a:srgbClr val="009999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32"/>
          <p:cNvSpPr/>
          <p:nvPr/>
        </p:nvSpPr>
        <p:spPr>
          <a:xfrm rot="8469000">
            <a:off x="1763280" y="4954320"/>
            <a:ext cx="936720" cy="593640"/>
          </a:xfrm>
          <a:custGeom>
            <a:avLst/>
            <a:gdLst>
              <a:gd name="textAreaLeft" fmla="*/ 0 w 936720"/>
              <a:gd name="textAreaRight" fmla="*/ 937080 w 9367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426" h="765">
                <a:moveTo>
                  <a:pt x="0" y="0"/>
                </a:moveTo>
                <a:cubicBezTo>
                  <a:pt x="89" y="16"/>
                  <a:pt x="361" y="45"/>
                  <a:pt x="534" y="98"/>
                </a:cubicBezTo>
                <a:cubicBezTo>
                  <a:pt x="707" y="151"/>
                  <a:pt x="910" y="235"/>
                  <a:pt x="1039" y="316"/>
                </a:cubicBezTo>
                <a:cubicBezTo>
                  <a:pt x="1168" y="397"/>
                  <a:pt x="1241" y="508"/>
                  <a:pt x="1306" y="583"/>
                </a:cubicBezTo>
                <a:cubicBezTo>
                  <a:pt x="1371" y="658"/>
                  <a:pt x="1401" y="727"/>
                  <a:pt x="1426" y="765"/>
                </a:cubicBezTo>
              </a:path>
            </a:pathLst>
          </a:custGeom>
          <a:noFill/>
          <a:ln w="228600">
            <a:solidFill>
              <a:srgbClr val="009999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4"/>
          <p:cNvSpPr/>
          <p:nvPr/>
        </p:nvSpPr>
        <p:spPr>
          <a:xfrm>
            <a:off x="0" y="595008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Предсказва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Ранна диагности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5"/>
          <p:cNvSpPr/>
          <p:nvPr/>
        </p:nvSpPr>
        <p:spPr>
          <a:xfrm>
            <a:off x="7020000" y="16621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6516720" y="2276640"/>
            <a:ext cx="647640" cy="36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Клинично валиди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7164360" y="4653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38"/>
          <p:cNvSpPr/>
          <p:nvPr/>
        </p:nvSpPr>
        <p:spPr>
          <a:xfrm>
            <a:off x="7236000" y="407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10"/>
          <p:cNvGrpSpPr/>
          <p:nvPr/>
        </p:nvGrpSpPr>
        <p:grpSpPr>
          <a:xfrm>
            <a:off x="0" y="0"/>
            <a:ext cx="9144000" cy="1220760"/>
            <a:chOff x="0" y="0"/>
            <a:chExt cx="9144000" cy="1220760"/>
          </a:xfrm>
        </p:grpSpPr>
        <p:sp>
          <p:nvSpPr>
            <p:cNvPr id="594" name="Rectangle 10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Picture 5" descr="logo"/>
            <p:cNvPicPr/>
            <p:nvPr/>
          </p:nvPicPr>
          <p:blipFill>
            <a:blip r:embed="rId1"/>
            <a:stretch/>
          </p:blipFill>
          <p:spPr>
            <a:xfrm>
              <a:off x="7086600" y="0"/>
              <a:ext cx="2057400" cy="12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0920" y="380520"/>
            <a:ext cx="6913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Резултати от първия конкурс з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PH: 15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5500800" y="2286000"/>
            <a:ext cx="1214280" cy="2890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3"/>
          <a:stretch/>
        </p:blipFill>
        <p:spPr>
          <a:xfrm>
            <a:off x="2571840" y="2214720"/>
            <a:ext cx="1285920" cy="303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Radical Stratos best"/>
          <p:cNvPicPr/>
          <p:nvPr/>
        </p:nvPicPr>
        <p:blipFill>
          <a:blip r:embed="rId4"/>
          <a:stretch/>
        </p:blipFill>
        <p:spPr>
          <a:xfrm>
            <a:off x="4071960" y="5715000"/>
            <a:ext cx="892080" cy="6429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5"/>
          <a:stretch/>
        </p:blipFill>
        <p:spPr>
          <a:xfrm>
            <a:off x="1857240" y="2857680"/>
            <a:ext cx="1355760" cy="382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6"/>
          <a:stretch/>
        </p:blipFill>
        <p:spPr>
          <a:xfrm>
            <a:off x="2071800" y="5143680"/>
            <a:ext cx="1143000" cy="542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"/>
          <p:cNvPicPr/>
          <p:nvPr/>
        </p:nvPicPr>
        <p:blipFill>
          <a:blip r:embed="rId7"/>
          <a:stretch/>
        </p:blipFill>
        <p:spPr>
          <a:xfrm>
            <a:off x="1643040" y="3571920"/>
            <a:ext cx="1285920" cy="6444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"/>
          <p:cNvPicPr/>
          <p:nvPr/>
        </p:nvPicPr>
        <p:blipFill>
          <a:blip r:embed="rId8"/>
          <a:stretch/>
        </p:blipFill>
        <p:spPr>
          <a:xfrm>
            <a:off x="4071960" y="1857240"/>
            <a:ext cx="1071720" cy="525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"/>
          <p:cNvPicPr/>
          <p:nvPr/>
        </p:nvPicPr>
        <p:blipFill>
          <a:blip r:embed="rId9"/>
          <a:stretch/>
        </p:blipFill>
        <p:spPr>
          <a:xfrm>
            <a:off x="5357880" y="5500800"/>
            <a:ext cx="785880" cy="5983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1" descr="Imppactlogo_stein"/>
          <p:cNvPicPr/>
          <p:nvPr/>
        </p:nvPicPr>
        <p:blipFill>
          <a:blip r:embed="rId10"/>
          <a:stretch/>
        </p:blipFill>
        <p:spPr>
          <a:xfrm>
            <a:off x="6215040" y="5214960"/>
            <a:ext cx="819000" cy="3142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"/>
          <p:cNvPicPr/>
          <p:nvPr/>
        </p:nvPicPr>
        <p:blipFill>
          <a:blip r:embed="rId11"/>
          <a:stretch/>
        </p:blipFill>
        <p:spPr>
          <a:xfrm>
            <a:off x="6500880" y="4500720"/>
            <a:ext cx="1143000" cy="336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"/>
          <p:cNvPicPr/>
          <p:nvPr/>
        </p:nvPicPr>
        <p:blipFill>
          <a:blip r:embed="rId12"/>
          <a:stretch/>
        </p:blipFill>
        <p:spPr>
          <a:xfrm>
            <a:off x="2786040" y="5643720"/>
            <a:ext cx="8748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7" descr="vphop_logo_text256"/>
          <p:cNvPicPr/>
          <p:nvPr/>
        </p:nvPicPr>
        <p:blipFill>
          <a:blip r:embed="rId13"/>
          <a:stretch/>
        </p:blipFill>
        <p:spPr>
          <a:xfrm>
            <a:off x="6572160" y="3214800"/>
            <a:ext cx="606600" cy="10713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http://hamam-project.org/html/img/hamam_logo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000840" y="2786040"/>
            <a:ext cx="880920" cy="42876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22"/>
          <p:cNvSpPr/>
          <p:nvPr/>
        </p:nvSpPr>
        <p:spPr>
          <a:xfrm>
            <a:off x="0" y="6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Osaka"/>
                <a:hlinkClick r:id="rId16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Osak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23" descr="http://www.vph-noe.eu/images/stories/euheart.pn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000160" y="4500720"/>
            <a:ext cx="714600" cy="6966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logo"/>
          <p:cNvPicPr/>
          <p:nvPr/>
        </p:nvPicPr>
        <p:blipFill>
          <a:blip r:embed="rId19"/>
          <a:stretch/>
        </p:blipFill>
        <p:spPr>
          <a:xfrm>
            <a:off x="3605040" y="3214800"/>
            <a:ext cx="2167200" cy="12859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34"/>
          <p:cNvSpPr/>
          <p:nvPr/>
        </p:nvSpPr>
        <p:spPr>
          <a:xfrm>
            <a:off x="4000680" y="450072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Networking No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35"/>
          <p:cNvSpPr/>
          <p:nvPr/>
        </p:nvSpPr>
        <p:spPr>
          <a:xfrm>
            <a:off x="7072200" y="3500280"/>
            <a:ext cx="107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Osteoporo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36"/>
          <p:cNvSpPr/>
          <p:nvPr/>
        </p:nvSpPr>
        <p:spPr>
          <a:xfrm>
            <a:off x="6000840" y="5643720"/>
            <a:ext cx="1500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Alzheimer's/ BM &amp; diagnosis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37"/>
          <p:cNvSpPr/>
          <p:nvPr/>
        </p:nvSpPr>
        <p:spPr>
          <a:xfrm>
            <a:off x="1571760" y="578628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Heart /CV disease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38"/>
          <p:cNvSpPr/>
          <p:nvPr/>
        </p:nvSpPr>
        <p:spPr>
          <a:xfrm>
            <a:off x="7429680" y="442908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Cancer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39"/>
          <p:cNvSpPr/>
          <p:nvPr/>
        </p:nvSpPr>
        <p:spPr>
          <a:xfrm>
            <a:off x="6500880" y="2214720"/>
            <a:ext cx="142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Liver surgery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0"/>
          <p:cNvSpPr/>
          <p:nvPr/>
        </p:nvSpPr>
        <p:spPr>
          <a:xfrm>
            <a:off x="500040" y="2857680"/>
            <a:ext cx="142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Heart/ LVD surgery 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1"/>
          <p:cNvSpPr/>
          <p:nvPr/>
        </p:nvSpPr>
        <p:spPr>
          <a:xfrm>
            <a:off x="571680" y="371484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Oral cancer/ BM D&amp;T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2"/>
          <p:cNvSpPr/>
          <p:nvPr/>
        </p:nvSpPr>
        <p:spPr>
          <a:xfrm>
            <a:off x="1071720" y="2214720"/>
            <a:ext cx="1500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CV/ Atheroschlerosis 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43"/>
          <p:cNvSpPr/>
          <p:nvPr/>
        </p:nvSpPr>
        <p:spPr>
          <a:xfrm>
            <a:off x="6786720" y="2714760"/>
            <a:ext cx="142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Breast cancer/ diagnosis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500040" y="5214960"/>
            <a:ext cx="1643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Vascular/ AVF &amp; haemodialysis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7000920" y="5214960"/>
            <a:ext cx="1357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Liver cancer/RFA therapy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3857760" y="6427800"/>
            <a:ext cx="1500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Security and Privacy in VPH 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49"/>
          <p:cNvSpPr/>
          <p:nvPr/>
        </p:nvSpPr>
        <p:spPr>
          <a:xfrm>
            <a:off x="4000680" y="142884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Grid access 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50"/>
          <p:cNvSpPr/>
          <p:nvPr/>
        </p:nvSpPr>
        <p:spPr>
          <a:xfrm>
            <a:off x="857160" y="4643280"/>
            <a:ext cx="1276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Osaka"/>
              </a:rPr>
              <a:t>Heart /CV disease STR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Straight Arrow Connector 54"/>
          <p:cNvCxnSpPr/>
          <p:nvPr/>
        </p:nvCxnSpPr>
        <p:spPr>
          <a:xfrm flipH="1">
            <a:off x="4642560" y="249984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9" name="Straight Arrow Connector 60"/>
          <p:cNvCxnSpPr/>
          <p:nvPr/>
        </p:nvCxnSpPr>
        <p:spPr>
          <a:xfrm>
            <a:off x="5771880" y="385776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0" name="Straight Arrow Connector 61"/>
          <p:cNvCxnSpPr/>
          <p:nvPr/>
        </p:nvCxnSpPr>
        <p:spPr>
          <a:xfrm>
            <a:off x="2928600" y="392904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1" name="Straight Arrow Connector 62"/>
          <p:cNvCxnSpPr/>
          <p:nvPr/>
        </p:nvCxnSpPr>
        <p:spPr>
          <a:xfrm flipH="1">
            <a:off x="4571640" y="521460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2" name="Straight Arrow Connector 65"/>
          <p:cNvCxnSpPr/>
          <p:nvPr/>
        </p:nvCxnSpPr>
        <p:spPr>
          <a:xfrm flipV="1">
            <a:off x="5072040" y="2857320"/>
            <a:ext cx="3578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3" name="Straight Arrow Connector 66"/>
          <p:cNvCxnSpPr/>
          <p:nvPr/>
        </p:nvCxnSpPr>
        <p:spPr>
          <a:xfrm flipV="1">
            <a:off x="3143160" y="4785480"/>
            <a:ext cx="35784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4" name="Straight Arrow Connector 68"/>
          <p:cNvCxnSpPr/>
          <p:nvPr/>
        </p:nvCxnSpPr>
        <p:spPr>
          <a:xfrm>
            <a:off x="3357720" y="307188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5" name="Straight Arrow Connector 69"/>
          <p:cNvCxnSpPr/>
          <p:nvPr/>
        </p:nvCxnSpPr>
        <p:spPr>
          <a:xfrm>
            <a:off x="5715000" y="4857840"/>
            <a:ext cx="3578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6" name="Straight Arrow Connector 72"/>
          <p:cNvCxnSpPr/>
          <p:nvPr/>
        </p:nvCxnSpPr>
        <p:spPr>
          <a:xfrm>
            <a:off x="3786120" y="2714760"/>
            <a:ext cx="2865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7" name="Straight Arrow Connector 73"/>
          <p:cNvCxnSpPr/>
          <p:nvPr/>
        </p:nvCxnSpPr>
        <p:spPr>
          <a:xfrm>
            <a:off x="5357880" y="5072040"/>
            <a:ext cx="2865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8" name="Straight Arrow Connector 75"/>
          <p:cNvCxnSpPr/>
          <p:nvPr/>
        </p:nvCxnSpPr>
        <p:spPr>
          <a:xfrm flipV="1">
            <a:off x="5428800" y="3214080"/>
            <a:ext cx="42948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9" name="Straight Arrow Connector 76"/>
          <p:cNvCxnSpPr/>
          <p:nvPr/>
        </p:nvCxnSpPr>
        <p:spPr>
          <a:xfrm flipV="1">
            <a:off x="2928600" y="4357080"/>
            <a:ext cx="42948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0" name="Straight Arrow Connector 78"/>
          <p:cNvCxnSpPr/>
          <p:nvPr/>
        </p:nvCxnSpPr>
        <p:spPr>
          <a:xfrm flipH="1">
            <a:off x="3642840" y="5071680"/>
            <a:ext cx="2865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1" name="Straight Arrow Connector 80"/>
          <p:cNvCxnSpPr/>
          <p:nvPr/>
        </p:nvCxnSpPr>
        <p:spPr>
          <a:xfrm>
            <a:off x="5928840" y="4500720"/>
            <a:ext cx="4294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42" name="TextBox 50"/>
          <p:cNvSpPr/>
          <p:nvPr/>
        </p:nvSpPr>
        <p:spPr>
          <a:xfrm>
            <a:off x="0" y="121428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ндуст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51"/>
          <p:cNvSpPr/>
          <p:nvPr/>
        </p:nvSpPr>
        <p:spPr>
          <a:xfrm>
            <a:off x="6500880" y="63961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ли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52"/>
          <p:cNvSpPr/>
          <p:nvPr/>
        </p:nvSpPr>
        <p:spPr>
          <a:xfrm>
            <a:off x="468360" y="6396120"/>
            <a:ext cx="28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Reproduction from VPH No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1"/>
          <p:cNvSpPr/>
          <p:nvPr/>
        </p:nvSpPr>
        <p:spPr>
          <a:xfrm>
            <a:off x="5219640" y="1214280"/>
            <a:ext cx="42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арале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 VP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оек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Straight Arrow Connector 54"/>
          <p:cNvCxnSpPr/>
          <p:nvPr/>
        </p:nvCxnSpPr>
        <p:spPr>
          <a:xfrm>
            <a:off x="1428840" y="1714680"/>
            <a:ext cx="4291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7" name="Straight Arrow Connector 55"/>
          <p:cNvCxnSpPr/>
          <p:nvPr/>
        </p:nvCxnSpPr>
        <p:spPr>
          <a:xfrm>
            <a:off x="7286760" y="6143760"/>
            <a:ext cx="4291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8" name="Straight Arrow Connector 59"/>
          <p:cNvCxnSpPr/>
          <p:nvPr/>
        </p:nvCxnSpPr>
        <p:spPr>
          <a:xfrm flipV="1">
            <a:off x="6286320" y="1714320"/>
            <a:ext cx="5007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9" name="Straight Arrow Connector 60"/>
          <p:cNvCxnSpPr/>
          <p:nvPr/>
        </p:nvCxnSpPr>
        <p:spPr>
          <a:xfrm flipV="1">
            <a:off x="785520" y="6000480"/>
            <a:ext cx="5007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50" name="Oval 59"/>
          <p:cNvSpPr/>
          <p:nvPr/>
        </p:nvSpPr>
        <p:spPr>
          <a:xfrm>
            <a:off x="324000" y="5084640"/>
            <a:ext cx="3024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900000" y="5661000"/>
            <a:ext cx="3024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250920" y="4437000"/>
            <a:ext cx="3024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324000" y="2708280"/>
            <a:ext cx="3024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971640" y="1989000"/>
            <a:ext cx="3024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250920" y="3573360"/>
            <a:ext cx="302400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5508720" y="2637000"/>
            <a:ext cx="302400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5867280" y="4292640"/>
            <a:ext cx="302436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5651640" y="5013360"/>
            <a:ext cx="302400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13412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VPH</a:t>
            </a: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  - Конкурс </a:t>
            </a: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7138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Запазване на общите дългосрочни цели/визия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Ранна диагностика</a:t>
            </a:r>
            <a:r>
              <a:rPr b="0" lang="en-GB" sz="1900" spc="-1" strike="noStrike">
                <a:solidFill>
                  <a:srgbClr val="333399"/>
                </a:solidFill>
                <a:latin typeface="Verdana"/>
              </a:rPr>
              <a:t> &amp; </a:t>
            </a: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предсказваща медици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Персонализирани здравни реш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Със средствата н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Моделиране</a:t>
            </a:r>
            <a:r>
              <a:rPr b="0" lang="en-GB" sz="1900" spc="-1" strike="noStrike">
                <a:solidFill>
                  <a:srgbClr val="333399"/>
                </a:solidFill>
                <a:latin typeface="Verdana"/>
              </a:rPr>
              <a:t> &amp; </a:t>
            </a: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симулация на човешката физиология и процесите, свързани със заболяванет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Засилване на средствата/инфраструктура за био-медицинските изследовате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през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Конкурс 6 се открива на 24 ноември 2009 и приключва през април</a:t>
            </a:r>
            <a:r>
              <a:rPr b="0" lang="en-GB" sz="1900" spc="-1" strike="noStrike">
                <a:solidFill>
                  <a:srgbClr val="333399"/>
                </a:solidFill>
                <a:latin typeface="Verdana"/>
              </a:rPr>
              <a:t> 201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Verdana"/>
              </a:rPr>
              <a:t>Бюджет</a:t>
            </a:r>
            <a:r>
              <a:rPr b="0" lang="fr-BE" sz="1900" spc="-1" strike="noStrike">
                <a:solidFill>
                  <a:srgbClr val="333399"/>
                </a:solidFill>
                <a:latin typeface="Verdana"/>
              </a:rPr>
              <a:t> 63M€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1341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5.3 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  Конкурс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47760" y="1195560"/>
            <a:ext cx="825336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Очаквани цели и резултат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)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Специфични за пациента компютърно базирани модели и симул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b)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ИКТ средства, услуги и инфраструктури за биомедицинските изследовате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c)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Оценка на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VPH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проекти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w.r.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d)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 Наблюдение върху постиженията и развитието на по-широко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BMI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поле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(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напр. биоинформатика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медицинска информатика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,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неври-информатика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a) </a:t>
            </a:r>
            <a:r>
              <a:rPr b="0" lang="bg-BG" sz="2000" spc="-1" strike="noStrike">
                <a:solidFill>
                  <a:srgbClr val="333399"/>
                </a:solidFill>
                <a:latin typeface="Verdana"/>
              </a:rPr>
              <a:t>и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 b) IP/STREP 61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c) SA 1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d) CSA 1M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1341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Цел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5.3 VPH 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  Конкурс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47760" y="1195560"/>
            <a:ext cx="825336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Специфични за пациента компютърно базирани модели и симулаци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Модели и симулации на органи и систе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о-добро разбиране за функционирането на органите и патологията им с цел ранна диагности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пециално внимание към интеграция на съществуващи модели; демонстрация на клинични резултати; събиране на данни и медицински, клинични и био изследвания; достъп до външни изчисляващи устрой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Не попадат в обхва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- предложения, които покриват само една биологична класифика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- подобряване на настоящи техники за обработка на медицински изображ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- моделиране на клинични процеси  и д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Benoit Goossens</dc:creator>
  <dc:description/>
  <dc:language>en-US</dc:language>
  <cp:lastModifiedBy>Owner</cp:lastModifiedBy>
  <dcterms:modified xsi:type="dcterms:W3CDTF">2009-11-21T09:42:41Z</dcterms:modified>
  <cp:revision>215</cp:revision>
  <dc:subject/>
  <dc:title>Présentation PowerPoint</dc:title>
</cp:coreProperties>
</file>