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45A-2125-46AD-9776-F9307C47035E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486F-587B-4447-A3C2-DAFEA5FB5AB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DB8-0B78-45B5-987D-5192EDCF837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3/10/2006 – added “over period” to second point; changed basic research budget to 1 billion from 1.5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6/10/2006 after review by P. Amor – replaced second point to exclude value and changed “doubles over period” to “increased significant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per Lars Aggerbeck 10/10/2006 – added sub-point to first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C2E6-762D-49DF-AB30-BFDC3E96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75E4-5A97-4505-B40F-CE10A19F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1A53-77A1-445C-BAC4-09B6A792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F484-9384-4573-ADF7-37FF5730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4E19-496E-4EF4-8AE7-4AFC34F2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804-8438-49A1-A327-ED074F20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FEDC-3611-49BB-970D-DC3C2249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8B0A-C3D4-459D-B372-027AC27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DEDD-3E8F-4230-A56D-24BDAA4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1D8-EC14-404D-8ABD-329E603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992-1DD6-4EF7-97F3-84E4E7A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25DA-3926-445D-A106-67E7270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C83C-0CAE-4697-9A0F-65DD1B4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53A-0EB7-40A7-80D0-20102FA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D1C5-67B6-4260-A332-8E3C06B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D4A9-1FE2-496C-98DA-FEC0E9C2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8A22-DBF2-437C-9754-6F0BD5F7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8BF9-F642-4E62-A7E8-DA013218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2CBE-123B-4C69-8207-EFAA3AB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4835-0E16-482A-AE7A-2773BB84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9E68-7AF3-4A87-9400-61BEABA4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0A5D-1C82-4965-864A-F4DAE7F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1206-19A7-4B3E-94D3-B42FAEA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C8C6-3139-41DD-9BD1-DB12EC8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7431-9073-409E-97F7-9D189B1C43F4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9D0-7AAC-4AF6-B239-555335CF6924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et4society.eu/public/pss" TargetMode="External"/><Relationship Id="rId2" Type="http://schemas.openxmlformats.org/officeDocument/2006/relationships/hyperlink" Target="http://www.net4society.eu/public/pss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00000" y="3860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ЕЛИ КАНЕ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МИНИСТЕРСТВО НА ТРАНСПОРТА, ИНФОРМАЦИОННИТЕ ТЕХНОЛОГИИ И СЪОБЩЕНИЯ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Национално контактно лице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90756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g-BG" sz="3200" spc="-1" strike="noStrike">
                <a:solidFill>
                  <a:srgbClr val="e5e5ff"/>
                </a:solidFill>
                <a:latin typeface="Times New Roman"/>
              </a:rPr>
              <a:t>ОТВОРЕНИ КОНКУРСИ </a:t>
            </a:r>
            <a:br>
              <a:rPr sz="3200"/>
            </a:br>
            <a:r>
              <a:rPr b="1" lang="bg-BG" sz="3200" spc="-1" strike="noStrike">
                <a:solidFill>
                  <a:srgbClr val="e5e5ff"/>
                </a:solidFill>
                <a:latin typeface="Times New Roman"/>
              </a:rPr>
              <a:t>“СОЦИАЛНО-ИКОНОМИЧЕСКИ И ХУМАНИТАРНИ НАУКИ” (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SSH)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FP 7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30200" y="476280"/>
          <a:ext cx="8713800" cy="569124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 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3: </a:t>
                      </a: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Основни  тенденции в общественото развитие и техните последиц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8 млн. евр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3.2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ни тенденции и начини на жив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3.2-1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ристрастявания и начин на живот в съвременните европейски об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4. 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Европа в света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8 млн. евр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4.1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аимодействия и взаимни зависимости между световните  региони и последиците от т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1-1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Европа пред предизвикателствата на  многополюсния свя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5: 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Гражданите в Европейския съюз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8 млн. евр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5.1.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ажданско участие и гражданско съзнание в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5.1-1.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Демокрация и сенките на тоталитаризма и популизма: Европейският оп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1125360"/>
          <a:ext cx="8229600" cy="431964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и сх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 проекти (мащабни интегрирани проек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й-малко 7 партньора от минимум 7 държав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ум 7 независими юридически лица, всяко от които е създадено 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S 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л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C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не е възможно 2 ЮЛ от една и съща държав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Минималното искане за финансиране от ЕС за </a:t>
            </a:r>
            <a:r>
              <a:rPr b="0" i="1" lang="bg-BG" sz="2000" spc="-1" strike="noStrike">
                <a:solidFill>
                  <a:srgbClr val="ffffff"/>
                </a:solidFill>
                <a:latin typeface="Times New Roman"/>
              </a:rPr>
              <a:t>Съвместните изследователски  проекти (мащабни интегрирани проекти) 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500 000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 евр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B: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Предложения извън този финансов лимит ще се считат за неизбираеми, неподходящ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Оценка на предложенията – май 2010, подписване на първото споразумение за грант – ноември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Garamond"/>
              </a:rPr>
              <a:t>Call FP7-SSH-2010-</a:t>
            </a:r>
            <a:r>
              <a:rPr b="1" i="1" lang="en-US" sz="4400" spc="-1" strike="noStrike">
                <a:solidFill>
                  <a:srgbClr val="ff0066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Call identifier: FP7-SSH-2010-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Публикуван на 30 юли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: 2 февруари 2010 в 17.00 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Индикативен бюджет: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18.9 млн. евр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3 дейности, 5 области, 6 те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30200" y="189000"/>
          <a:ext cx="8713800" cy="4413240"/>
        </p:xfrm>
        <a:graphic>
          <a:graphicData uri="http://schemas.openxmlformats.org/drawingml/2006/table">
            <a:tbl>
              <a:tblPr/>
              <a:tblGrid>
                <a:gridCol w="4590720"/>
                <a:gridCol w="216000"/>
                <a:gridCol w="39070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 / 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1: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Растеж, заетост и конкурентоспособност в общество, базирано на знанието: Европейското състояние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Бюджет 5.4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1.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менящата се роля на знанието в икономик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1.1-1. Обусловени от търсенето политики за научни изследвания и иновации за растеж, благосъстояние и благополуч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1.3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силване на обвързаността  и координация на политиките в Европа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1.3-1 Публичният сектор на бъдеще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0200" y="189000"/>
          <a:ext cx="8713800" cy="513216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 / 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9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2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Комбиниране на икономически и  социални цели и цели в областта на  околната среда в Европейски план: пътища за постигане на устойчиво развитие</a:t>
                      </a:r>
                      <a:r>
                        <a:rPr b="1" lang="bg-BG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юджет 8.1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1 Траектории на социално-икономическо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1-2  Местни системи за социално развитие, благоприятстващи социалното сближав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2. Регионално, териториално и социално сближав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2-1  Регионите в ЕС и тяхното  взаимодействия със съседните регио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404640"/>
          <a:ext cx="8424720" cy="4656240"/>
        </p:xfrm>
        <a:graphic>
          <a:graphicData uri="http://schemas.openxmlformats.org/drawingml/2006/table">
            <a:tbl>
              <a:tblPr/>
              <a:tblGrid>
                <a:gridCol w="4535280"/>
                <a:gridCol w="38894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Дейност 8.5: Гражданите в ЕС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бюджет 5.4 млн. евр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2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5.2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нообразие и сходства в Европ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5.2-1 Европейски идентичности: Възприемане на  Европа и ЕС от вътре и от въ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5.2-2. Ново интерпретиране на културното наследство на Европа – към библиотеки и музеи на 21 ве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620640"/>
          <a:ext cx="8229600" cy="4552920"/>
        </p:xfrm>
        <a:graphic>
          <a:graphicData uri="http://schemas.openxmlformats.org/drawingml/2006/table">
            <a:tbl>
              <a:tblPr/>
              <a:tblGrid>
                <a:gridCol w="4248000"/>
                <a:gridCol w="3981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и сх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</a:t>
                      </a: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алки или средни по размер фокусирани научни проект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област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1.1, 8.1.3,8.2.2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5.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MS или A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учни изследвания в полза на специфични групи – граждански орган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2.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MS или A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е 1 от ЮЛ – гражданска организация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Максималното искане за финансиране от ЕС – 2.7 млн. евр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B: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Предложения за проекти с финансово искане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&gt;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2.7 млн. евро ще се считат за неизбираеми, неподходящ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Оценка на предложенията – май 2010, подписване на първото споразумение за грант – ноември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Garamond"/>
              </a:rPr>
              <a:t>Call FP7-SSH-2010-</a:t>
            </a:r>
            <a:r>
              <a:rPr b="1" i="1" lang="en-US" sz="4400" spc="-1" strike="noStrike">
                <a:solidFill>
                  <a:srgbClr val="ff0066"/>
                </a:solidFill>
                <a:latin typeface="Garamond"/>
              </a:rPr>
              <a:t>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Call identifier: FP7-SSH-2010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Публикуван - 30 юли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: 2 февруари 2010 в 17.00 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Индикативен бюджет: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1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 млн. евр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1 дейност, 2 области, 3 те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39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5e5ff"/>
                </a:solidFill>
                <a:latin typeface="Times New Roman"/>
              </a:rPr>
              <a:t>Програма “Сътрудничество”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 – </a:t>
            </a:r>
            <a:r>
              <a:rPr b="1" lang="bg-BG" sz="2400" spc="-1" strike="noStrike">
                <a:solidFill>
                  <a:srgbClr val="e5e5ff"/>
                </a:solidFill>
                <a:latin typeface="Times New Roman"/>
              </a:rPr>
              <a:t>Съвместни изследван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Програмата подкрепя транс-национално сътрудничество в десет тематични област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Здрав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Храни, селско стопанство и биотехн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Информационни и комуникационни техн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На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науки, технологии, материали и нови производствени техн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Енергети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Околна сре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промени в клима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включително аеронавти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00"/>
                </a:solidFill>
                <a:latin typeface="Times New Roman"/>
              </a:rPr>
              <a:t>Социално-икономически и хуманитарни нау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Сигурнос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Космос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ЕВРАТОМ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ядрен синтез, ядрено разпадане и радиационна защи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30200" y="189000"/>
          <a:ext cx="8713800" cy="5021280"/>
        </p:xfrm>
        <a:graphic>
          <a:graphicData uri="http://schemas.openxmlformats.org/drawingml/2006/table">
            <a:tbl>
              <a:tblPr/>
              <a:tblGrid>
                <a:gridCol w="3997440"/>
                <a:gridCol w="471636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 на кон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Дейност 8.4. Европа в с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4.1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аимодействия и взаимни зависимости между световните  региони и последиците от тях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1-2 Общи предизвикателства за Латинска Америка и Карибските стра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1-3 Разбиране на тенденциите и процесите на урбанизацията в съвременен Кит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4.2. Конфликти, мир и човешки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2-1. Култури на управление и разрешаване на конфликтите в Европа и Инд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260280"/>
          <a:ext cx="8497800" cy="10525320"/>
        </p:xfrm>
        <a:graphic>
          <a:graphicData uri="http://schemas.openxmlformats.org/drawingml/2006/table">
            <a:tbl>
              <a:tblPr/>
              <a:tblGrid>
                <a:gridCol w="2089080"/>
                <a:gridCol w="6408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за специфични дейности за сътрудничество, насочени към международно сътрудничество с партньорски страни извън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тема 'SSH.2010.4.1-2  - минимум 7 независими ЮЛ, от които 2 от 2 различни MS или AC. Останалите 5 трябва да са създадени  в Латинска Америка и Карибските страни. (От тези 5 – поне 1 ЮЛ в Аржентина, 1 – в Бразилия, 1 – в Чили и 1 – в Мексик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тема 'SSH.2010.4.1-3 – най-малко 4 независими ЮЛ, от които 2 трябва да са създадени в 2 различни MS или AC. Останалите 2 – в Кита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тема 'SSH.2010.4.2-1. най-малко 4 независими ЮЛ, от които 2 трябва да са създадени в 2 различни MS или AC. Останалите 2 – в Индия или Индия и друга страна партньор за международно сътрудничеств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Максималното искане за финансиране от ЕС – 2.7 млн. евр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B: 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Предложения за проекти с финансово искане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&gt; 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2.7 млн. евро ще се считат за неизбираеми, неподходящ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Оценка на предложенията – май 2010, подписване на първото споразумение за грант – ноември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Garamond"/>
              </a:rPr>
              <a:t>Call FP7-SSH-2010-</a:t>
            </a:r>
            <a:r>
              <a:rPr b="1" i="1" lang="en-US" sz="4400" spc="-1" strike="noStrike">
                <a:solidFill>
                  <a:srgbClr val="ff0066"/>
                </a:solidFill>
                <a:latin typeface="Garamond"/>
              </a:rPr>
              <a:t>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Call identifier: FP7-SSH-2010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Публикуван – 30 юли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 декемвр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9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 в 17.00 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Индикативен бюджет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3.6 млн. евр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30200" y="189000"/>
          <a:ext cx="8713800" cy="568800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 на кон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2: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Комбиниране на икономически и  социални цели и цели в областта на  околната среда в Европейски план: пътища за постигане на устойчиво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1. Траектории на социално-икономическо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1-4 Социална платформа за устойчиви стилове на живот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- EUR 1.5 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Дейност 8.8. Хоризонтал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8-1 Мобилизиране на мрежата от NCPs за специфични цели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- EUR 1.8 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 2010. 8-2 Подкрепа на подготовката на проект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RANET/ ERANET Plus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EUR 300 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060640"/>
          <a:ext cx="7848360" cy="2900160"/>
        </p:xfrm>
        <a:graphic>
          <a:graphicData uri="http://schemas.openxmlformats.org/drawingml/2006/table">
            <a:tbl>
              <a:tblPr/>
              <a:tblGrid>
                <a:gridCol w="2747880"/>
                <a:gridCol w="5100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а сх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и за координация и подкрепа (дейности за подкреп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нимум 1 Ю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91320" y="5762520"/>
            <a:ext cx="1552680" cy="10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Сам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CPs 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могат да участват в тема SSH.2010.8-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В тем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H 2010. 8-2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могат да участват само организации, избираеми з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NET/ERANET Plus 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проек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Оценка на предложенията – януари 2010, подписване на първото споразумение за грант – юли 20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Конкурс “Океанът утре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Call identifier: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FP7-OCEAN-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Публикуван :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30 юли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Крайна дата: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14 януари 2010, 17.00 ч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Индикативен бюджет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34 млн. евро от бюджет 2010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9 млн. евро за тема “Храни,  рибовъдство, аграрни науки и биотехнологии”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6 млн. евро за тема “Енергия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10.5 млн. евро за тема “Околна среда” (включително климатични промен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7.5 млн. евро за тема “Транспорт” (включително аеронавтика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1 млн. евро за тема “Социално-икономически и хуманитарни науки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ми на конку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.2010-1- Количествено измерване на въздействието на климатичните промени върху икономическите сектори в  Арктика (индикативен бюджет 11 млн. евр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.2010-2 Вектори на промени в морската флора и фауна, въздействие върху икономическите сектори (индикативен бюджет 12.5 млн. евр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.2010-3 подводно съхраняване на въглероден диоксид и морската околна среда (индикативен бюджет 10.5 млн. евр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инансова сх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ъвместни изследователски  проекти (мащабни интегрирани проекти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инимални изисквания - Най-малко 3 независими ЮЛ, създадени в 3 различни MS или 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 всяка една от темите ще бъде финансиран максимум по 1 проек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ътрудничество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Общата програмна цел е устойчивото развитие на Европейската икономика, базирана на знаниет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Garamond"/>
              </a:rPr>
              <a:t>Конкурси, времеви график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36360" y="1052640"/>
          <a:ext cx="8929440" cy="3768480"/>
        </p:xfrm>
        <a:graphic>
          <a:graphicData uri="http://schemas.openxmlformats.org/drawingml/2006/table">
            <a:tbl>
              <a:tblPr/>
              <a:tblGrid>
                <a:gridCol w="1944360"/>
                <a:gridCol w="1292400"/>
                <a:gridCol w="1371600"/>
                <a:gridCol w="1371600"/>
                <a:gridCol w="1371600"/>
                <a:gridCol w="15778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b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ad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got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9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1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12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6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EAN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01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 MEU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 MEUR – SS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Търсене на партньор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bg-BG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www.net4society.eu/public/p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Garamond"/>
              </a:rPr>
              <a:t>Templates: 2 вида - партньори и координа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Garamond"/>
              </a:rPr>
              <a:t>Попълване – НКЛ – проверка – всички НКЛ – публикуване на сай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НК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http://cordis.europa.eu/partners-service/home_en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http://cordis.europa.eu/fp7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/home.html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eneral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http://cordis.europa.eu/fp7/dc/index.cfm?fuseaction=UserSite.CooperationDetailsCallPage&amp;call_id=25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Information Package for SSH (Call Fiche, Working Programme,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The Guides for Applica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http://cordis.europa.eu/fp7/partners_en.html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 sear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nsfb.n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Times New Roman"/>
              </a:rPr>
              <a:t>http://7fp.mon.bg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Благодаря за внимание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ли Кан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. 949 23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mail: kaneva@daits.government.b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341360"/>
          <a:ext cx="8820000" cy="5110200"/>
        </p:xfrm>
        <a:graphic>
          <a:graphicData uri="http://schemas.openxmlformats.org/drawingml/2006/table">
            <a:tbl>
              <a:tblPr/>
              <a:tblGrid>
                <a:gridCol w="2808000"/>
                <a:gridCol w="3456000"/>
                <a:gridCol w="2556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блични организации, средни училища и Университети, научни организации и МС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ички останали орга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следователски дейности и дейности за технологично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ацион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за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правление, одит и друг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092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Garamond"/>
              </a:rPr>
              <a:t>Максимално финансиране (% от допустимите разход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отворени конкурса, различни финансови схе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e5e5ff"/>
                </a:solidFill>
                <a:latin typeface="Garamond"/>
              </a:rPr>
              <a:t>Индикативен бюджет за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SH</a:t>
            </a:r>
            <a:br>
              <a:rPr sz="3200"/>
            </a:br>
            <a:r>
              <a:rPr b="1" lang="bg-BG" sz="3200" spc="-1" strike="noStrike">
                <a:solidFill>
                  <a:srgbClr val="e5e5ff"/>
                </a:solidFill>
                <a:latin typeface="Garamond"/>
              </a:rPr>
              <a:t> 2010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P</a:t>
            </a:r>
            <a:r>
              <a:rPr b="1" lang="bg-BG" sz="3200" spc="-1" strike="noStrike">
                <a:solidFill>
                  <a:srgbClr val="e5e5ff"/>
                </a:solidFill>
                <a:latin typeface="Garamond"/>
              </a:rPr>
              <a:t> (в млн. евр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484280"/>
          <a:ext cx="8229600" cy="4498920"/>
        </p:xfrm>
        <a:graphic>
          <a:graphicData uri="http://schemas.openxmlformats.org/drawingml/2006/table">
            <a:tbl>
              <a:tblPr/>
              <a:tblGrid>
                <a:gridCol w="5194080"/>
                <a:gridCol w="30355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 FP7-SSH-2010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P7-SSH-2010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P7-SSH-2010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 FP7-SSH-2010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и дей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руги дей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щ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6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0066"/>
                </a:solidFill>
                <a:latin typeface="Garamond"/>
              </a:rPr>
              <a:t>Call FP7-SSH-2010-1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Дата на публикуване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30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юли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2009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2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февруари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010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7.00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 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Индикативен бюджет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40 млн. евр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5 дейности, 5 области, 5 те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Генералният директор може да отложи крайната дата с 2 месеца (до април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404640"/>
          <a:ext cx="8424720" cy="4803840"/>
        </p:xfrm>
        <a:graphic>
          <a:graphicData uri="http://schemas.openxmlformats.org/drawingml/2006/table">
            <a:tbl>
              <a:tblPr/>
              <a:tblGrid>
                <a:gridCol w="5040000"/>
                <a:gridCol w="33847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1: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Растеж, заетост и конкурентоспособност в общество, базирано на знанието: Европейското състояни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Бюджет 8 млн. евр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1.2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уктурни промени в Европейската икономика и общество, базирани на знанието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1.2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мяна на ролята на финансовата система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 да служи по-добре за целите на икономиката, социалната сфера и опазването на околната сред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л на Областт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Развитие и подобрение на разбирането за социално-икономическите, демографски, пространствени и секторни динамики, които укрепват структурните промени в Европа и ролята на промените за растежа, заетостта и конкурентоспособност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404640"/>
          <a:ext cx="8424720" cy="5139000"/>
        </p:xfrm>
        <a:graphic>
          <a:graphicData uri="http://schemas.openxmlformats.org/drawingml/2006/table">
            <a:tbl>
              <a:tblPr/>
              <a:tblGrid>
                <a:gridCol w="5040000"/>
                <a:gridCol w="33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2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Комбиниране на икономически и  социални цели и цели в областта на  околната среда в Европейски план: пътища за постигане на устойчиво развити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Бюджет 8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1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ектории 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но-икономическото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1-1 Създаване и адаптиране на работните места в Европа в контекста на социо-екологическия преход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л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да се разбере как Европейски и други траектории на социално-икономическото развитие  успяват в комбинирането на целите, при какви условия се случва това и какви са техните възможности да посрещат нови предизвикателства и да си извадят поуки от прилагането на политиките. Също така да се изследват някои фундаментални проблеми, свързани с разбирането на това как се комбинират целите и как това въздейства върху европейските стратегии за устойчиво развитие, включително на ниво Европейски съю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9:44:06Z</dcterms:created>
  <dc:creator>Eli Kaneva</dc:creator>
  <dc:description/>
  <dc:language>en-US</dc:language>
  <cp:lastModifiedBy>miro</cp:lastModifiedBy>
  <dcterms:modified xsi:type="dcterms:W3CDTF">2009-11-24T05:23:29Z</dcterms:modified>
  <cp:revision>108</cp:revision>
  <dc:subject/>
  <dc:title>Какво е новото?</dc:title>
</cp:coreProperties>
</file>