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DBABB-0DF0-42D5-ABD4-7176D1101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44562-8C37-4CE1-BE65-A857FD02B5E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9A9CA-42B5-42F2-9590-DB545370ED3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F3C0B-FA33-41E8-99E0-5E70E76A238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BAF69-A190-462A-995A-64C65CA17A1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2E3BF-2309-4469-9D07-3292772CCF3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EC356-A56B-46F5-89ED-42770FD8EFA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6112A-C69C-4D2D-AA09-B3A64E09041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0AAB4-B38F-47BF-8E20-1C59B5628B9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DC24B-410D-4DAC-A4A5-9F11B97D2B4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19AF8-4F4C-4D31-85FF-96C963C817A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FB2820-8E95-4CF6-959D-56A9E7B1F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978A1-8211-45A7-B8D0-FE332CD404C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670E1C-28F9-4DF3-A8AC-3D88518AAD9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077AFB-F8B4-454D-ADBD-BF4AD527D12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0AF72A-4C85-4EC4-9CAA-7F6EB627C3C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82347F-C49E-4C7A-A860-F9D9A704E08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076851-6D98-42B7-B222-A4168A65981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435971-7CD9-4378-AE87-F9903BD88DF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AFE1F3-D529-467B-9D54-FD8090E5672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57833C-55B6-4DF2-9265-3AFE03AA828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233F43-2AB0-46D5-A840-4E4BA9E6550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E5703F-8983-44A2-960D-FE1B9D8EF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928B4-2F00-4CCC-B544-BBE53AA96F5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2E5D2D-1AF2-473E-8E57-586B389F074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68115C-BBEC-40F8-9261-B0AAAEF03EA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691B13-E927-40BD-BD53-971A70A84B1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163180-1036-4DF6-A771-34A614E4035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22342B-1E4C-4098-A404-CBBBAB58FBA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1139DB-25D0-472E-8070-A9705BD5650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1B0714-115F-4260-ACC0-F4D5FB04EAA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BDE662-B032-44B6-861E-8A10A820B32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941D18-5AD6-4247-9E54-D386803DE3E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3F49F8-E43A-4631-9D68-A389F795AD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70C35-97E2-45E6-AB58-E0E129BD313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F4BA80-90D2-46D6-89DA-F3C09677B66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D41E80-DE6D-4521-A469-0AB51F9E963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EEAAAD-DE3B-4276-A74E-89E55C4666C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7CF48-800C-4015-9A4C-9D8A6E88E05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C6B0C-823E-4579-8FF9-9BFE63D405F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EA9EF-58DC-46AC-A625-D8DF2CFFD52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8F8AD-D8C8-4612-A28A-67A86AE9F58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606E3-62DE-418A-B410-0DD50440482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D3BB3-E301-4313-BE8C-4EAE56C05A4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24507-2EEB-4F52-B47B-2CF57EA342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2099C-B006-4E12-A608-FDD571680B6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2F5A8-F1FE-4CFB-93E3-345DE5AFF5A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B7B0F-360F-4392-B6C0-45405CFE73D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7B7AD-1EF7-40C0-A192-CED71661D3B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3AC5D-F233-49D1-951B-634B34D91C4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30539-C2ED-4E0E-8FA0-12DFADFE53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32766-C180-4BC7-B798-60B1BDEFA4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FBAFF-8FA4-4C43-9983-171D19013C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FE0CC-756B-400A-BED7-6C6C918AFE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95945-3B8D-4D50-89F3-5EF5612324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E8C45-BE1E-42F0-9D51-952B25F6AE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BE3D3-0730-4FC1-BB9D-BF125C7B65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57AA3-2612-4F00-81D9-47FEFD045F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1DE1E-8D63-4DB7-BEB4-1AFFE5D913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3FD5C-C5B0-4918-A03A-F4E9ED10D1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7BCA6-F731-4F05-ADE0-A2E91F8686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6AA84-BCA2-4521-AE8D-4C7DF75C0E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1831-833E-4977-AF12-E2338F051D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E2C0-2500-4E04-A3BD-F78D851F56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3F12-8477-4104-AC38-411F9C1B59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B845-FA7F-41D5-B232-822870E79F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85D8-E8D7-4256-BD44-0003289BA3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8053D-9BC4-4FD8-98A1-829AAECB55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A14A-9E8B-45DD-837E-99CFDEAEC1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D67F-C77A-49A1-BF01-2F49AEF8C1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C3FA-7F0A-4B6C-A395-0D6BCC2825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AC2E-5429-4CDE-8A4D-151F8FDC91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6EC2-274D-4B99-8643-EEAD76095D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4E60-73BE-4C40-BE47-1538F3D8E4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2F76-F447-4C6D-B660-071FC30B426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7AB9E8-E0B3-4106-B273-57588066E4E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02B9E-D163-430C-AF1B-9076D0FA976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777A78-87A7-40F0-BA85-F8910AC13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0E590-E995-4F66-8E8E-6B47358C9E1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706139-4A8F-475B-BCBB-ED9C2230CC9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94014C-58F9-471D-A468-3BC762FE69A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99B79-A977-453C-A26A-C05C77B1D4F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B4D3C-31CB-4FCD-9610-02EA4B3CE4F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DD09C-AA7F-4ADD-AC50-91917D4478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A4AE8-9B6D-49F4-ABB4-2F81553B13C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0BCDB2-92A4-4040-8D81-9A06029277C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8AF6D-8F25-46A0-955E-051C928993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92CE9-5C2B-4EB2-BAA7-5B76EF7DA6C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52B99C-B1CB-486F-838C-4A4054E84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1929C-C485-44FB-BC6E-BF37E53BDBE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B4FF97-50C4-4714-B8E0-CC18B28145A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4411AB-D2DA-4360-9CDF-97298E2F4E0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434BB2-DACD-426D-B5F0-23D982AD819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561A7E-DB05-4C2D-BFCF-0108A0719F1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C1C0F3-C99B-47E4-9E7B-60E37836CEF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3BC39A-E098-4260-8A35-306A6187B6A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B4B837-B390-47A8-8F00-554FFCFD051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1BD1AD-0FA8-4DB1-9DD2-76FEE43F6EF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757C27-6707-4023-9FE7-6D94E5F5CE0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CF42DD-7FF5-45BC-9D42-4E1A90899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E00EE-A4BF-49EE-AA43-52DAB0FC940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8248EF-88EB-46FD-BF30-EAF476A7221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7AB76-5F97-4E61-A0A2-56913575420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A9CC9-BF29-4B70-99DE-26743282697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EB134-EEA8-48BC-BAAF-15B3D23F956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FA17E-9FA4-4152-85EA-F3D9C369734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CE3F2-2F85-4E74-812A-0D39FD4193A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D96C2-29D1-4E36-8A94-E55390B995A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FDBEE-07A5-434E-8741-3A858CD00C7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6A8FE-5DA4-428E-9366-609CEE63C1F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BDB7C-9575-4685-978C-54C2C3056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83912-C5F0-4898-88C5-555E8520C88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0D38F-3D31-42A9-8010-78EF856725E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A697E-4273-4D01-9671-4D469BAB593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EF7B0-24D4-4BF8-A8EA-A600B20FAA2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7C30B1-59C1-4D17-B78B-326D0396359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FF98D-6D82-48C5-98FC-A9D9787ED10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C6E475-1A59-4822-AE95-6E0D94DC81C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9C2EA0-F708-489A-9716-258E06F4851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F0B089-047F-4CF0-855B-672347D6F7D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847CA8-D6AE-4349-A477-DB04F96EAE3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E6FE7F-B548-4106-9EDE-10D8EECCC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21A1B-9419-4B41-9897-5B959DE9FD6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A621E8-2193-40F3-B9D2-96FFA5B85B1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50FAB0-6864-4C75-A3DE-011D1DAA0B1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D8C6EC-E4EF-4EE7-8A8A-94C4E3D583E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990AB-C417-4CEC-B9CC-F47CC1C1E88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5C6E1D-1BB8-4E93-98FA-BC5C45DD526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D9E029-49B1-4EF2-8A6E-24737390CD5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3F6529-F785-4C37-A4C7-CE999A0DC7A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494F9A-05BA-4DE7-A230-4EA6542466F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5C361C-7807-4F0B-BDFC-9B3F9E3B1CF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76CDBD-72F9-4E88-9C25-32BE48AA7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B9EDE-F56C-47AC-BD4C-EA22154D4A2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1C81FE-C531-40D5-82C1-CC9B66FF6CC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970B22-EB80-48E0-AC92-A59540C319F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0204E5-3A24-4DDE-B745-4AEFF74D82D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0985B4-93BE-4162-8887-0C525D288DC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80C21A-3BFA-4AC2-A953-F7166DAE94D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702801-77A9-4315-BDD8-3E8F9E0306C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712DF7-3852-47EB-A7FC-DE3B824E7F3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A947C-5D75-4920-8063-BE589944A70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AAAEE-70BA-4F24-951F-FD58CF2AD48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4DB5E-3109-41FA-B988-B04557C78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14880" indent="-2214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0EEBA5A2-456C-4914-9B03-AE02B21184B0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ftr" idx="19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20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7399CF73-1819-4FA9-827F-2CA1906A7ABA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ftr" idx="21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22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308FD64A-EEB6-4FCB-A998-A4D8A519D932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23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4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844E8DDA-12AB-47F4-A383-F4BDD5E1EC16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744C2D3F-C956-4AFF-A7D9-0614A79DAA07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93CAC3C9-89D7-4750-B887-FEA99FFB7628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7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C2A964CB-14FF-46C2-8D0D-A52B193A00EC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9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DB39E85D-A2EE-4EE2-9F31-1AD515A51DFC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E887FCC0-BA01-4C8E-9CF3-DC7ED926BA3B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3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4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853D67EC-9169-4404-B83A-85A4C3609436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ftr" idx="15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6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D0F4F065-6DB5-4794-B8AB-3BA8188183B5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17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18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0DA7EE25-2CE5-4574-B88A-44E6F70201B2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4"/>
          <p:cNvSpPr/>
          <p:nvPr/>
        </p:nvSpPr>
        <p:spPr>
          <a:xfrm>
            <a:off x="655308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229C6DE2-D319-4D6F-BE31-BA27F327DE9D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5480" y="533160"/>
            <a:ext cx="8358120" cy="26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Verdana"/>
              </a:rPr>
              <a:t>Полезна информация при кандидатстване с проекти по 7РП/ИК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685800" y="3068280"/>
            <a:ext cx="763128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Мариета Поп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НКЛ по ИКТ/7РП</a:t>
            </a:r>
            <a:r>
              <a:rPr b="1" lang="en-GB" sz="2000" spc="-1" strike="noStrike">
                <a:solidFill>
                  <a:srgbClr val="808080"/>
                </a:solidFill>
                <a:latin typeface="Verdana"/>
              </a:rPr>
              <a:t>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1041480" y="90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2"/>
          <p:cNvSpPr/>
          <p:nvPr/>
        </p:nvSpPr>
        <p:spPr>
          <a:xfrm>
            <a:off x="655308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1AD8DFB3-FD25-4571-BB8C-EA2FC2126B91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185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Verdana"/>
              </a:rPr>
              <a:t>Насоки за кандидатит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57120" y="1699920"/>
            <a:ext cx="856944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uides for applican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публикувани на страницата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DIS –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//cordis.europa.eu/fp7/ic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за всеки тип проект съответни Насоки за кандида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2"/>
          <p:cNvSpPr/>
          <p:nvPr/>
        </p:nvSpPr>
        <p:spPr>
          <a:xfrm>
            <a:off x="655308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7B74AD2D-7C14-4E87-9FBC-88FBE45C8DF7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185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Verdana"/>
              </a:rPr>
              <a:t>Полезни съвети за кандидатит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57120" y="1213920"/>
            <a:ext cx="8569440" cy="54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Предложението за проект да се обсъди с НКЛ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Да се използва услугата за предварителна проверка на предложението 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-proposal check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Да се използва услугата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 desk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Контактните лица за всяка стратегическа цел - при необходимост от допълнителна информа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2"/>
          <p:cNvSpPr/>
          <p:nvPr/>
        </p:nvSpPr>
        <p:spPr>
          <a:xfrm>
            <a:off x="655308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48935BD2-6FBB-4B50-92E1-0330EBF11382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185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Verdana"/>
              </a:rPr>
              <a:t>Полезни съвети за кандидатит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8926560" cy="54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Подаване на правна и финансов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информация за кандидатит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- При често подаване на предложения; като опция (не е задължително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- Подава се в централната база данни на участниците в 7РП, поддържана от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Executive Agency (REA)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- Услугата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que Registration Facility (URF)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- Получават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icipants Identification Code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Slide Number Placeholder 2"/>
          <p:cNvSpPr/>
          <p:nvPr/>
        </p:nvSpPr>
        <p:spPr>
          <a:xfrm>
            <a:off x="655308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5A268D0B-DBBA-4596-B3EF-72D9B375A5E4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85480" y="152280"/>
            <a:ext cx="83185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lectronic Proposal Submission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57120" y="1699920"/>
            <a:ext cx="856944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PSS –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електронна система за подаване на предложеният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първо се регистрира координаторът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- получава пароли и за партньорит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- не се чака последния момен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2"/>
          <p:cNvSpPr/>
          <p:nvPr/>
        </p:nvSpPr>
        <p:spPr>
          <a:xfrm>
            <a:off x="655308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9322D6F9-45FA-4390-B802-5082C5FFF968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185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Verdana"/>
              </a:rPr>
              <a:t>Покана за набиране на оценител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57120" y="1699920"/>
            <a:ext cx="856944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//cordis.europa.eu/emmfp7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компетентност и опит в проекти по РП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- Регистрация в базата данни за оценители по 7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2"/>
          <p:cNvSpPr/>
          <p:nvPr/>
        </p:nvSpPr>
        <p:spPr>
          <a:xfrm>
            <a:off x="655308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14DB1195-7B19-42BE-AF20-4F83DACD0D07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185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57120" y="1699920"/>
            <a:ext cx="856944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Verdana"/>
              </a:rPr>
              <a:t>Въпроси/отговор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8:26:31Z</dcterms:created>
  <dc:creator>Michael Arentoft</dc:creator>
  <dc:description/>
  <dc:language>en-US</dc:language>
  <cp:lastModifiedBy>Owner</cp:lastModifiedBy>
  <dcterms:modified xsi:type="dcterms:W3CDTF">2009-11-22T19:21:01Z</dcterms:modified>
  <cp:revision>337</cp:revision>
  <dc:subject/>
  <dc:title>FP7 ICT WP 2007</dc:title>
</cp:coreProperties>
</file>