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9C0E0-6B85-4ACE-A9DA-7D44D5A03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9733D-CE09-47D5-8582-59D4A3E94C0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69481-C552-42B6-B68E-3E1AEE8B120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F672C-AF57-428F-ABA3-ADA26D9B224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50136-1D74-4904-B542-51BCEC98D46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4F492-E791-4D90-8BC7-E11F18D02AF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4C1D9-145F-4433-94B2-ACAA8B813D0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A2019-19DC-4477-8DBB-D9F60E6DE0F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91E60-FA3A-4950-8137-E65CF7997D0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8DFC8-2506-4933-978E-89ED472A019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2F0B5-17ED-462C-A547-0CC1BFC54A8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E5E834-DA41-4A1F-9B3B-8DCA70F5F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28A1F-7E12-450B-8D1D-5B8C97C9AC7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964E54-348B-45A6-837B-722BA6425DD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6D4BE7-05C5-4CBC-B1FB-D5D1286D3BC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213CE6-6921-4452-98EC-2595E06823E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F3BA6E-E3E7-4DBD-9C6B-EADBC952FD9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DB7F33-B620-4D3D-9738-CFE26F69477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39C3DD-9B67-4480-89A5-6988DFE9985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C56A0C-1039-4262-8A7D-60828E8819B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CAB34C-105C-4FCA-A23C-2FFB17020A4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0BB213-F9B2-4971-8CB0-9553F4B48E9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E86D82-CEDF-4DAD-857F-E16583477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4CC31-6768-44BB-AFAF-235BC2543BF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10335B-2171-4CD2-B95E-225A1645564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CC686C-6FB7-4027-8CE4-76138D819D9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67103D-8CFF-47B1-92D3-5AD31C10742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A022DE-137F-4BF1-9700-D3120752242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2A4466-C09B-4209-9863-4A57F80042F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7D8C28-09B5-4CBE-B9D9-F227D0D5FFF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A24EE4-E395-4FB9-9C2F-F063E7E972A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413372-2228-4AF3-9769-9DF07CD99E0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954A9C-D8B2-4B24-9974-26F2C6A0EDC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8E9841-E73D-4C0C-9A05-460C86E71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C1299-2C8D-428B-A567-BE8B685AE40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F88985-2B50-4C45-AB34-0A3C01F6F05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0318F5-7FF0-4EB8-A0ED-794083868F7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7717C6-8D6C-402F-B96F-0C1162D07BF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78646-3D8B-4E2C-B54A-D7FCA3A85DF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5F866-541A-40D9-A153-1024D6204E7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ABF63-13A0-4DC3-86D4-CF3D354BCBF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88D44-2E30-4CFD-8628-185814817B1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CF514-9CF7-4C04-9FA0-3F1B05F11B0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9F1C8-9665-4A06-8158-65C6E788F53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AE4A5-E868-48FB-BB55-8F14C0CBAD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E9D0F-B925-4936-A092-76C12E7B1AF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FB554-F92A-4E48-9DF1-B620640C18F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A93BA-E835-40B8-9169-966D77D0FBE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8F6C8-C62C-4CA6-B826-019AE0967EC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7F84A-A020-403E-8075-42300311E20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282C6-6A3A-40D0-8F73-4058AC04A4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388B3-7265-4105-9BBF-16EDE3F9D8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92F1C-2D0B-4999-8634-AE8DEECA0E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A38A4-0149-42BD-89C8-A8A0114816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F2EA9-BBC2-4E0C-B7D8-AB3DEE13DF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D8C32-F641-4DF4-95F9-9F334F311B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C3C64-2B35-4EDB-AEC1-3C25BA5FC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BAE42-A45D-4570-A4EF-056108ED30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39836-2415-4409-8A84-D73DDAE52B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0C8C1-8D9F-4886-A441-B273B3CE11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CEE41-DFBA-4C3F-80EE-56BFE9A5C9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8C32A-5601-48C8-AC96-85CE4C823FC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DA14-E300-4F62-ABCD-693EA2CDE5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2F87-2EB3-4BF7-AFAC-614E0EECA3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8E08-B954-413D-8CE3-C571CC1108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6CBC-BF25-4705-9B8D-9F6F4C460F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0311-F64A-4A6A-849A-D9F54D6DB9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8617C-3DC3-4199-A15C-9C751BF1D3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E80A-F665-47E4-ACA4-F29706EDCD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BD7E-3B9B-4942-83DD-97A303ADB7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31C4-09E7-4D60-B37F-D5F720E578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A678-D150-47FD-877B-5668119E9F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5842-1BD5-4AD4-80A7-C5695AF88B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5556-25E3-4CF7-AF2B-64489AD63A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93BA-ED1E-4279-991C-12D4F869BA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31C0AD-DBB6-4CC9-ACE0-B58B046803E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F2D66-5BCF-4762-8370-2175D220DD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03510-7B5C-4426-A4AF-769BF8F52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B818E-A5E0-48FC-BB31-33B6C85F37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6DC4E-4284-4003-9051-AF30DDA0BB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5DDD1-DE59-465D-B635-41F91EF54A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ADAA5-F6F6-4349-8592-A506071AB68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8BB9A-0B24-4F21-9117-AFA054E330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47584-1BA0-49BE-BBF6-81536DB51E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5E489-12EE-4AD2-8AC1-EE7F4ECB96E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85026-E7EE-4F33-8164-BC40163B54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0222C-4D11-4D3C-AB02-74DEAD7CB0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4ABA4-9081-4B20-9193-8DA6B125507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A49899-5E99-49CB-941F-7C2D91D08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24343-91D3-41C9-954C-A138ACA4233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FE5122-90C1-41DE-A315-22141604208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A44544-0B9C-448C-8563-68FD5DDE94F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E281AA-6722-48DA-B54C-AD0956CC0F6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1A52C9-2E3F-4188-A4EB-7A23DE1AE91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747E6B-F432-42CA-B684-7B04055AC3E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1E0D48-415F-4D00-A4B8-C2DCF48FC94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B60B8E-5F29-4335-971C-4E2FA2B9786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197C6C-5120-47D5-AAF1-9A40A894216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CBE82B-1FD2-4369-BB55-26B0586E276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487E10-0E91-4E5C-8854-09E314EBA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207AA-7651-4B2F-BE7E-2C0EFDE4B6F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22E55F-F34C-46EB-9895-45D2D884418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BD3D6-126F-4499-BFE8-EBDFA24F821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D93A0-3B59-475F-B34A-74B8D712407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C8B21-2F97-45DF-9B79-55C8544B783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A4AAD-724B-4F1C-AE2F-E605E38DAE0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AE513-C241-42C1-967F-53D836A0A57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90AF7-EC19-4F5F-B345-CCF5961CC98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550BD-CDDA-408A-91B1-4A1FAA1DF2B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82DA0-32FB-421D-89F7-7FC751C6C22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14DCB-63FB-46F9-8991-BD001B410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0C2FE-8339-4A37-8145-DA75F0CDE5E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37FCF-D4F8-446C-BBF0-582C12F1DDF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8E9DB-9D26-4BEF-ACAC-8C8E50F4128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2F346-3BF1-41B9-9AC4-E3AA148D32D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A3CF08-7B86-4A14-8202-C983E047314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2AA093-59DC-440E-A530-16843F2F403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B155B6-34B4-4D61-899A-E79CEFBE107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7E7D6A-CD13-4D6D-92B7-290C8DDA753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5EAFA-AFF0-4E59-B2B4-8E617436EB7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3DCABA-5EB8-4AEB-B1FF-D89C508BBDF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B7DC8-BDB0-48FF-B6FE-1A57DC8D4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819E6-1D25-476C-AE7C-3A2B4951D8A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FFAD75-E812-4534-B28F-2D12650F24C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48A13-50B1-4B20-982C-12421862231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5D05AD-30A0-4612-8909-BA1B3F8372C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547D7-3396-4091-BA1E-B1A6CB9C14C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A42F8-0627-4103-A5E8-CD002CF0E3A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9816AC-E0B0-41D1-99F2-74A5D594653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8B0421-03F6-4101-84EC-92D87310EB8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27689E-7EC7-4A3A-B8E8-3A7347A15EB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3DEE93-6DD8-4145-8CBB-B2DC592C3D6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02C90A-7BD5-46F9-9B58-211969016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2650C-BAC9-4AB0-9345-749956775E4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147251-5AD4-48E8-843D-F87AFD847E5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E35366-FC02-40DF-AA21-777AE58F516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560E0A-472B-435A-B5C2-597AF8CFE6E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B65976-8359-4645-895A-42D4166D47A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C54F2C-6ADA-497E-8303-5B79E399D4A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7C70F2-8093-4725-B071-4B71F5AF2C2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0CD969-2A2A-47A2-8CF0-9D9FD6C4E52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16263-77CC-4986-A4B9-70491846E02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BE73E-7597-424D-A43C-7B39FEB34BC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B7B16-362C-4600-9DAA-6193AA455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14880" indent="-2214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7E1FD4CF-4FF3-4F26-A5D2-1FDD74B371B1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ftr" idx="19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20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A7C9799F-6186-41B4-A046-C8300EF979B8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ftr" idx="21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2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5CD5209F-95B2-40DF-96B6-C0EAF4477035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23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4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C683370B-E83C-453F-A2D6-EE824075DAA6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2CBA76B2-F311-4D44-B63E-363F98F46E0C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58007DCB-037A-4DAF-A3FB-2A5F78E58212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7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34794286-9D84-4479-B649-0C5CE97F21CC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9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39D0551C-ECEE-47FA-96A2-7CC1AA07F54F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1FE26BCD-4B9F-4AC1-8B0D-DA646DDCA85F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3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4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AF3A8E5C-724B-4B60-A1FF-891F3859CB29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15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6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9282890C-DC45-4591-8EFA-352A51C1FE82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17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18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BAE9830F-9F84-4276-A85C-B360757D3740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4"/>
          <p:cNvSpPr/>
          <p:nvPr/>
        </p:nvSpPr>
        <p:spPr>
          <a:xfrm>
            <a:off x="655308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D1757D1B-8D73-40CC-BB44-5319B0496384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5480" y="533160"/>
            <a:ext cx="8358120" cy="26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Verdana"/>
              </a:rPr>
              <a:t>Полезна информация при кандидатстване с проекти по 7РП/ИК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685800" y="3068280"/>
            <a:ext cx="763128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Мариета Поп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НКЛ по ИКТ/7РП</a:t>
            </a:r>
            <a:r>
              <a:rPr b="1" lang="en-GB" sz="2000" spc="-1" strike="noStrike">
                <a:solidFill>
                  <a:srgbClr val="808080"/>
                </a:solidFill>
                <a:latin typeface="Verdana"/>
              </a:rPr>
              <a:t>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1041480" y="90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2"/>
          <p:cNvSpPr/>
          <p:nvPr/>
        </p:nvSpPr>
        <p:spPr>
          <a:xfrm>
            <a:off x="655308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465832B7-DB9E-4C16-A0B6-7FDEDECD2DA7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18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Насоки за кандидатит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57120" y="1699920"/>
            <a:ext cx="856944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uides for applican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публикувани на страницата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DIS –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cordis.europa.eu/fp7/ic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за всеки тип проект съответни Насоки за кандида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2"/>
          <p:cNvSpPr/>
          <p:nvPr/>
        </p:nvSpPr>
        <p:spPr>
          <a:xfrm>
            <a:off x="655308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A53C0530-9BF7-4B2F-846B-4D4B34248C64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18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Полезни съвети за кандидатит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57120" y="1213920"/>
            <a:ext cx="8569440" cy="54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Предложението за проект да се обсъди с НКЛ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Да се използва услугата за предварителна проверка на предложението 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-proposal check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Да се използва услугата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 desk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Контактните лица за всяка стратегическа цел - при необходимост от допълнителна информа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2"/>
          <p:cNvSpPr/>
          <p:nvPr/>
        </p:nvSpPr>
        <p:spPr>
          <a:xfrm>
            <a:off x="655308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9FA8835C-0356-4867-8BD0-FD4937004A00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18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Полезни съвети за кандидатит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8926560" cy="54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Подаване на правна и финансов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информация за кандидатит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- При често подаване на предложения; като опция (не е задължително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- Подава се в централната база данни на участниците в 7РП, поддържана от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Executive Agency (REA)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- Услугата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que Registration Facility (URF)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- Получават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icipants Identification Code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Slide Number Placeholder 2"/>
          <p:cNvSpPr/>
          <p:nvPr/>
        </p:nvSpPr>
        <p:spPr>
          <a:xfrm>
            <a:off x="655308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5531FE01-2E96-46C9-8329-2D101923CC83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85480" y="152280"/>
            <a:ext cx="83185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lectronic Proposal Submission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57120" y="1699920"/>
            <a:ext cx="856944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PSS –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електронна система за подаване на предложеният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първо се регистрира координаторът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- получава пароли и за партньорит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- не се чака последния момен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2"/>
          <p:cNvSpPr/>
          <p:nvPr/>
        </p:nvSpPr>
        <p:spPr>
          <a:xfrm>
            <a:off x="655308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C6E9F411-AAFA-4357-95C6-225F0B368E61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18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Покана за набиране на оценител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57120" y="1699920"/>
            <a:ext cx="856944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cordis.europa.eu/emmfp7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компетентност и опит в проекти по РП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- Регистрация в базата данни за оценители по 7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2"/>
          <p:cNvSpPr/>
          <p:nvPr/>
        </p:nvSpPr>
        <p:spPr>
          <a:xfrm>
            <a:off x="655308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F3F11D86-81FD-4FD3-8D9B-86DD656013D2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18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57120" y="1699920"/>
            <a:ext cx="856944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Verdana"/>
              </a:rPr>
              <a:t>Въпроси/отговор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8:26:31Z</dcterms:created>
  <dc:creator>Michael Arentoft</dc:creator>
  <dc:description/>
  <dc:language>en-US</dc:language>
  <cp:lastModifiedBy>Owner</cp:lastModifiedBy>
  <dcterms:modified xsi:type="dcterms:W3CDTF">2009-11-22T19:21:01Z</dcterms:modified>
  <cp:revision>337</cp:revision>
  <dc:subject/>
  <dc:title>FP7 ICT WP 2007</dc:title>
</cp:coreProperties>
</file>